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B009-A13C-429E-BBB4-10719983A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07F-151B-4F01-8AD1-1F61C8C1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B60-523D-407B-B27C-E217D47E9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67A6-E0D1-4687-8A11-4ACA38A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3443-08D3-42B5-8DEC-48A41D01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261-2FC6-41D6-B013-4B037DC8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72BA-37CA-490E-B463-E03D687B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4F9-EAAE-4DDB-826B-443A9811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C5F-ADEB-47FE-B147-A15BD66E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9E5C-E1C3-4857-A0D0-0A55B4BD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2941-D516-4098-B512-CC50536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53A7-6B2D-4126-9E22-07D5BC06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69AB-380A-4C77-B0AC-21C6246C1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5680" y="2924280"/>
            <a:ext cx="487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a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Ayudante Fernanda Zelada 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fzelada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1773360"/>
            <a:ext cx="727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demás pactos que acordaren los accionistas (4 Nº1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dificaciones de elementos legales de la naturaleza (plazo de duración, domicilio social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ries y privilegios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muneración de direc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centaje reparto de dividendos (S.A. cerr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scalización SVS (S.A. cerrad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648000" y="1338120"/>
            <a:ext cx="30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1773360"/>
            <a:ext cx="7777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Notario autoriz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Men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1. Individualización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2. Objeto, domicilio y d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3. Capital y Nº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4. Monto capital suscrito y pagado o plazo ent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746280" y="133668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xtracto (art.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511280" y="5516640"/>
            <a:ext cx="14241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AN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art. 6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558972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54520" y="5516640"/>
            <a:ext cx="2911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NULIDAD ABSOLU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san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1773360"/>
            <a:ext cx="784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lazo                 60 días desde fecha escritura con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cripción         Registro de Comercio de CBR del domicili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ublicación        Diario Of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642600" y="1338120"/>
            <a:ext cx="54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scripción y publicación de extracto (art. 5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4000" y="2637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124000" y="3213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124000" y="378936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454040" y="4791240"/>
            <a:ext cx="1570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SAN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art. 6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86900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222080" y="4791240"/>
            <a:ext cx="2984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NULIDAD ABSOLU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san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773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icios saneables         nulidad absoluta (art. 1; 6 Ley S.A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No haberse constituido por escritura pú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Falta de menciones esenciales de escri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o publicación tardía de extr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Falta de menciones de extracto de art. 5 (constitución y refor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Disconformidad esencial entre escritura e inscripción o publ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Saneamient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737640" y="13381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y 19.49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7280" y="2133720"/>
            <a:ext cx="360360" cy="341280"/>
          </a:xfrm>
          <a:prstGeom prst="rightArrow">
            <a:avLst>
              <a:gd name="adj1" fmla="val 50000"/>
              <a:gd name="adj2" fmla="val 26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40" y="1460520"/>
            <a:ext cx="83534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cedimiento (art. 3 y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Escritura que contenga acta Junta Extraordinaria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Inscripción y publicación extracto de escritura         60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nciones extracto (art.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1. Fecha escritura, nombre y domicilio de notario otorg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2. Fecha escritura que contiene vicio, si proc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2.3. Extracto de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Sociedades especiales          aprobación Superintend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Saneamient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737640" y="1338120"/>
            <a:ext cx="152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ey 19.499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27640" y="321300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6093000"/>
            <a:ext cx="505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26920" y="1773360"/>
            <a:ext cx="8066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Hipótesis (art 6 A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constar de escritura pública, ni instrumento reducido a escritura pública, ni instrumento protoco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uede sane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a lugar a comun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sponsabilidad solidaria comun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Saneamiento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639720" y="1338120"/>
            <a:ext cx="334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ulidad de pleno derech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3716280"/>
            <a:ext cx="576360" cy="270000"/>
          </a:xfrm>
          <a:custGeom>
            <a:avLst/>
            <a:gdLst>
              <a:gd name="textAreaLeft" fmla="*/ 90000 w 576360"/>
              <a:gd name="textAreaRight" fmla="*/ 504360 w 576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187280" y="4292640"/>
            <a:ext cx="576360" cy="270000"/>
          </a:xfrm>
          <a:custGeom>
            <a:avLst/>
            <a:gdLst>
              <a:gd name="textAreaLeft" fmla="*/ 90000 w 576360"/>
              <a:gd name="textAreaRight" fmla="*/ 504360 w 576360"/>
              <a:gd name="textAreaTop" fmla="*/ 67320 h 270000"/>
              <a:gd name="textAreaBottom" fmla="*/ 202680 h 27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7280" y="4869000"/>
            <a:ext cx="576360" cy="269640"/>
          </a:xfrm>
          <a:custGeom>
            <a:avLst/>
            <a:gdLst>
              <a:gd name="textAreaLeft" fmla="*/ 90000 w 576360"/>
              <a:gd name="textAreaRight" fmla="*/ 504360 w 576360"/>
              <a:gd name="textAreaTop" fmla="*/ 67320 h 269640"/>
              <a:gd name="textAreaBottom" fmla="*/ 202320 h 269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en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2781360"/>
            <a:ext cx="55454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acimiento y extinción de la S.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stitu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od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qu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47000" y="620640"/>
            <a:ext cx="61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Taller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88720" y="2276640"/>
            <a:ext cx="487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.A. 18.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Ley 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neamiento vicios nulidad 19.4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Com – Reglamento Registro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30200" y="1773360"/>
            <a:ext cx="792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Escritura de constitución              Estatu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07440" y="2637000"/>
            <a:ext cx="4411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Extra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Inscripción Registro de Comer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Publicación Diario Ofi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59280" y="2421000"/>
            <a:ext cx="289080" cy="341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0600" y="1336680"/>
            <a:ext cx="9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tap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67280" y="2924280"/>
            <a:ext cx="536760" cy="1942920"/>
          </a:xfrm>
          <a:custGeom>
            <a:avLst/>
            <a:gdLst>
              <a:gd name="textAreaLeft" fmla="*/ 0 w 536760"/>
              <a:gd name="textAreaRight" fmla="*/ 193680 w 536760"/>
              <a:gd name="textAreaTop" fmla="*/ 47880 h 1942920"/>
              <a:gd name="textAreaBottom" fmla="*/ 189504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52"/>
                  <a:pt x="10800" y="1703"/>
                </a:cubicBezTo>
                <a:lnTo>
                  <a:pt x="10800" y="9097"/>
                </a:lnTo>
                <a:cubicBezTo>
                  <a:pt x="10800" y="9949"/>
                  <a:pt x="16200" y="10800"/>
                  <a:pt x="21600" y="10800"/>
                </a:cubicBezTo>
                <a:cubicBezTo>
                  <a:pt x="16200" y="10800"/>
                  <a:pt x="10800" y="11652"/>
                  <a:pt x="10800" y="12503"/>
                </a:cubicBezTo>
                <a:lnTo>
                  <a:pt x="10800" y="19897"/>
                </a:lnTo>
                <a:cubicBezTo>
                  <a:pt x="10800" y="20749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19320" y="3706920"/>
            <a:ext cx="102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60 d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330200" y="1773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Individualización accionistas fund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216440" y="2708280"/>
            <a:ext cx="3960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Nombre y domici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Obj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4. Du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Capital y Nº de 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6. Administración y fisc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7440" y="1336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 de la escritura (art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0200" y="177336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7. Cierre de ejercicio y Junta Ordinaria de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172160" y="2708280"/>
            <a:ext cx="5562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8. Distribución ut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9. Forma liqu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0. Arbitr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1. Directorio y fiscalización provis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2. Demás que acuerden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rectorio y fiscalizadores proviso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orma de entero del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7440" y="1336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 de la escritura (art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206064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1. Menciones esencia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231200" y="2997360"/>
            <a:ext cx="329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Menciones 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3. Menciones accid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7440" y="1336680"/>
            <a:ext cx="40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 de la escritura (art 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1773360"/>
            <a:ext cx="604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 accionistas fundadores (4 Nº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332000" y="2637000"/>
            <a:ext cx="62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mbre de S.A. (4 Nº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jeto (4 Nº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pital y Nº de acciones (4 Nº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7000" y="1338120"/>
            <a:ext cx="283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 esenci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05520" y="4646520"/>
            <a:ext cx="154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A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art. 6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64000" y="4653000"/>
            <a:ext cx="360360" cy="342720"/>
          </a:xfrm>
          <a:prstGeom prst="rightArrow">
            <a:avLst>
              <a:gd name="adj1" fmla="val 50000"/>
              <a:gd name="adj2" fmla="val 2628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21720" y="4646520"/>
            <a:ext cx="3321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LIDAD ABSOL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(sane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1280" y="1773360"/>
            <a:ext cx="8208720" cy="43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que la ley suple en silencio de las par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omicilio social                    lugar de escritura (art. 5 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uración                             indefinida (art 4 Nº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ierre ejercicio                     31 diciembre (art. 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dministración                      directorio (art. 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Fiscalización interna              abierta: auditores externos (art. 5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errada tb. inspectores cuentas (art. 5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Constitución 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4760" y="133812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ncion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aturale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43280" y="350028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43280" y="407664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43280" y="458136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43280" y="515772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43280" y="5661000"/>
            <a:ext cx="574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Fernanda Zelada </cp:lastModifiedBy>
  <dcterms:modified xsi:type="dcterms:W3CDTF">2005-03-21T03:01:41Z</dcterms:modified>
  <cp:revision>9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42458701</vt:r8>
  </property>
  <property fmtid="{D5CDD505-2E9C-101B-9397-08002B2CF9AE}" pid="3" name="_AuthorEmail">
    <vt:lpwstr>obofill@grasty.cl</vt:lpwstr>
  </property>
  <property fmtid="{D5CDD505-2E9C-101B-9397-08002B2CF9AE}" pid="4" name="_AuthorEmailDisplayName">
    <vt:lpwstr>Octavio Bofill</vt:lpwstr>
  </property>
  <property fmtid="{D5CDD505-2E9C-101B-9397-08002B2CF9AE}" pid="5" name="_EmailSubject">
    <vt:lpwstr>Taller S.A.1.ppt</vt:lpwstr>
  </property>
  <property fmtid="{D5CDD505-2E9C-101B-9397-08002B2CF9AE}" pid="6" name="_PreviousAdHocReviewCycleID">
    <vt:r8>1658573310</vt:r8>
  </property>
</Properties>
</file>