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D38-4E78-4A2D-AE2C-2A198E1B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828-21FD-4DDD-BCE9-BAB1E157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59D-C22D-4BA6-A49C-F30D0CA2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A50-5347-48F6-9B3C-9AD6F9D7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2EC-656E-44C4-81FC-AADAECF4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F8F-C633-490B-B011-2C4DC905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C8A-837F-4E68-B659-A23BF9A1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A68A-0E42-419C-A176-4E3826AE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52C-9C65-4AA0-8D8F-5A665385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DD29-843D-434B-A361-62561878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1AED-392D-4553-8FE4-2201292A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DB3-3DC2-463E-B70B-B608B1C2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CB426-7CBF-4488-BEE6-837C10EA5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716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Material Básico: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4292640"/>
            <a:ext cx="648036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SA: Títulos I, III, VI, VII, X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SA: Títulos I, II,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, Tomo II  A. Puelma, (3a. Edición/2001/ Edit. Jurídica), Párraf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94 a 403, 405, 431 a 459, 525 a 5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Mercado Valores Títulos I y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CG 30 SVS, parte pertinente a indicar en cl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18760" y="62064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989000"/>
            <a:ext cx="7417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pos de Sociedades Anón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ciedades Anónimas Abiertas y el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n Sociedades Anónimas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, Accionistas, Acciones,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00360" y="2421000"/>
            <a:ext cx="2735280" cy="244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ó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ubTriangle"/>
          <p:cNvSpPr/>
          <p:nvPr/>
        </p:nvSpPr>
        <p:spPr>
          <a:xfrm>
            <a:off x="4067280" y="2421000"/>
            <a:ext cx="1296720" cy="15127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2421000"/>
            <a:ext cx="309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 % capital susc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0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n contar quienes tengan más del 10%, directa o indirec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34936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 o más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alquiera sea el porcentaj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en manso de may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62560" y="4437000"/>
            <a:ext cx="309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pción voluntaria de acciones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 rot="5400000">
            <a:off x="1510920" y="4832280"/>
            <a:ext cx="1369080" cy="72144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2050920" y="5734080"/>
            <a:ext cx="2952720" cy="93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06064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ías aseguradoras y reasegur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. Fondos Mut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5245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206064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276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5396040"/>
            <a:ext cx="144720" cy="554040"/>
          </a:xfrm>
          <a:custGeom>
            <a:avLst/>
            <a:gdLst>
              <a:gd name="textAreaLeft" fmla="*/ 0 w 144720"/>
              <a:gd name="textAreaRight" fmla="*/ 52200 w 14472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554040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inguna de las anteri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203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30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3141720"/>
            <a:ext cx="144720" cy="554040"/>
          </a:xfrm>
          <a:custGeom>
            <a:avLst/>
            <a:gdLst>
              <a:gd name="textAreaLeft" fmla="*/ 0 w 144720"/>
              <a:gd name="textAreaRight" fmla="*/ 52200 w 14472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3195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specto S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4067280"/>
            <a:ext cx="41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e por disposición legal están obligadas a a hacerlo, ej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A Securitiz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rtadores de Larga Dista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4170240"/>
            <a:ext cx="71640" cy="1130400"/>
          </a:xfrm>
          <a:custGeom>
            <a:avLst/>
            <a:gdLst>
              <a:gd name="textAreaLeft" fmla="*/ 0 w 71640"/>
              <a:gd name="textAreaRight" fmla="*/ 25920 w 7164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427680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uperintendencia de Valores y Seguros, u otra entidad o simple sometimiento a normas de SA mediante procedimiento NCG 30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y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2080" y="2133720"/>
            <a:ext cx="1214280" cy="11523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98680" y="2276640"/>
            <a:ext cx="1201680" cy="609480"/>
          </a:xfrm>
          <a:prstGeom prst="wedgeRoundRectCallout">
            <a:avLst>
              <a:gd name="adj1" fmla="val 100199"/>
              <a:gd name="adj2" fmla="val -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1628640"/>
            <a:ext cx="1295280" cy="609840"/>
          </a:xfrm>
          <a:prstGeom prst="wedgeEllipseCallout">
            <a:avLst>
              <a:gd name="adj1" fmla="val -45587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567240"/>
            <a:ext cx="86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Valores y de Cap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cto de oferentes y demandantes de Valores y Capitales representados en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l e Informal, art 1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 valores, emisores, intermediarios, mer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nto de vista de la oferta pública, no impide transacciones priv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nto de vista del Inversionista Institucional que participa en la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o hay cabida para acciones de sociedades anónimas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nos referimos a valores diferentes de las acciones (bonos, efectos de comercio, cuotas, etc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/>
          <p:nvPr/>
        </p:nvCxnSpPr>
        <p:spPr>
          <a:xfrm flipV="1">
            <a:off x="5148360" y="2420640"/>
            <a:ext cx="1224720" cy="504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6300720" y="1628640"/>
            <a:ext cx="284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hor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pecu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/>
          <p:nvPr/>
        </p:nvCxnSpPr>
        <p:spPr>
          <a:xfrm flipV="1" rot="10800000">
            <a:off x="1042200" y="2923920"/>
            <a:ext cx="2421720" cy="388080"/>
          </a:xfrm>
          <a:prstGeom prst="curvedConnector5">
            <a:avLst>
              <a:gd name="adj1" fmla="val 19134"/>
              <a:gd name="adj2" fmla="val 49953"/>
              <a:gd name="adj3" fmla="val 1913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324000" y="2276640"/>
            <a:ext cx="7920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212868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speciales y s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Valores, Normativa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 accionaria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ctos de control y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acción pública y privada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, Frecuencia, Com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e Incompatibilidades de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dito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ición mínima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y transparenc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3-21T03:03:57Z</dcterms:modified>
  <cp:revision>85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