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08B-74DC-48B4-8FDB-1A00A0BA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3E1-61E5-48B6-A48A-9958932A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BC3-3970-4890-8FD1-11577295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B45-2C91-4436-BC2B-38F696D8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9C3-2C2E-40B0-ADC9-59EA7280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56A-B874-4A74-A699-DE5EF6C6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BCF-B41C-404D-B2FE-F833CC4B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700-4B60-430B-BAB1-0BB19BE4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6F0-B6AD-4E04-9899-E4E3B7B3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9FE-5495-4282-A5A8-34BAE9C3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1D4-DD36-4E7D-8F9A-30C895F2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2D8-1AD6-4324-9969-386D2732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A325-622C-49C8-9740-F24E7C00B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1555920" y="1690560"/>
            <a:ext cx="619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3213000"/>
            <a:ext cx="5614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Lunes y Jueves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áted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Martes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Talleres – Formatos - Ejemplo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429264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4292640"/>
            <a:ext cx="4032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a. Edición/2001/ Edit. Jurídic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extos específic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373480"/>
            <a:ext cx="5545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rzo-Abril   : Sociedades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yo             : Títulos de créd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8760" y="62064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33400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008080" y="3457080"/>
            <a:ext cx="808200" cy="287640"/>
          </a:xfrm>
          <a:prstGeom prst="flowChartMer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29400" y="598176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1341360"/>
            <a:ext cx="167148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as  Superinten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4100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13240" y="206064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523880"/>
            <a:ext cx="162072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838080"/>
            <a:ext cx="1600200" cy="328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380880"/>
            <a:ext cx="1600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228600"/>
            <a:ext cx="1600200" cy="328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8672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pode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487692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9092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13240" y="98100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35268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A´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267080"/>
            <a:ext cx="1600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525780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flictos de inter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419720"/>
            <a:ext cx="1600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429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ités de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7432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ificación de Riesg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20574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ditores Inspec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63244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267080" y="2971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609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315200" y="4114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9588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791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6248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13400" y="5621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52388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99072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bi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1600200" cy="7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asignaciones Patrimoniales (Liquid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572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tinción (Disol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80988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acimiento (Constit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048120"/>
            <a:ext cx="1600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lidad juríd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05740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21932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1932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219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13400" y="61261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5400000">
            <a:off x="1904400" y="1126800"/>
            <a:ext cx="1517400" cy="647640"/>
          </a:xfrm>
          <a:prstGeom prst="flowChartMerg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rot="5400000">
            <a:off x="4959720" y="5343840"/>
            <a:ext cx="1744920" cy="504720"/>
          </a:xfrm>
          <a:prstGeom prst="flowChartMerg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57200"/>
            <a:ext cx="1600200" cy="28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.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0200" y="1773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Normativa aplicable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43440" y="2462040"/>
            <a:ext cx="426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Mercado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SA – No Sociedade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mento 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CG 30 SVS        </a:t>
            </a:r>
            <a:r>
              <a:rPr b="0" lang="es-CL" sz="2000" spc="-1" strike="noStrike">
                <a:solidFill>
                  <a:srgbClr val="0000cc"/>
                </a:solidFill>
                <a:latin typeface="Tahoma"/>
              </a:rPr>
              <a:t>*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Estruc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° de C – CC – Actos mercant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atutos sociale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840" y="15890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istór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27280" y="2781360"/>
            <a:ext cx="3816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ibre circulación del va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627280" y="2205000"/>
            <a:ext cx="29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ticipaciones de gobiern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 rot="10800000">
            <a:off x="2627280" y="249120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capitale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27600" y="598320"/>
            <a:ext cx="49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Razones de ser de las SA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162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prendimientos aventurado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068640"/>
            <a:ext cx="42847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: Contrapartida del capit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342900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Juríd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170028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19720" y="3532320"/>
            <a:ext cx="26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ítulo valor: Libre cir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34480" y="3789360"/>
            <a:ext cx="26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depend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5840" y="414972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24000" y="465300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450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íb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581280"/>
            <a:ext cx="287280" cy="15732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5111640"/>
            <a:ext cx="155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457200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cerrada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4869000"/>
            <a:ext cx="328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mecanismos     intermedios: la persona (intuito persona) o el capital (intuito pecunia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57164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K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21160" y="1971720"/>
            <a:ext cx="249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cesiones de gobi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1676520"/>
            <a:ext cx="609480" cy="2819160"/>
          </a:xfrm>
          <a:custGeom>
            <a:avLst/>
            <a:gdLst>
              <a:gd name="textAreaLeft" fmla="*/ 0 w 609480"/>
              <a:gd name="textAreaRight" fmla="*/ 219960 w 6094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205000"/>
            <a:ext cx="17287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Búsqueda del Capit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 Instrumento     Jurídico 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ión /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Tutela del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371600"/>
            <a:ext cx="770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- Diversas razones para su cre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28954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- Personalidad juríd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251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286000"/>
            <a:ext cx="1724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59092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- Mercantilidad objeti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200400"/>
            <a:ext cx="492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- Solemnidad           - Constit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3429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ometimiento a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6576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Modifica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3886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Transform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114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343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iqui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5720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onstancia de actuaciones: ac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181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410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Gestión - Com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63868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operaciones relacionadas (Art. 4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4920" y="4952880"/>
            <a:ext cx="477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- Fiscalización         - Regulatoria  - legalidad y estatu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18288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biertas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l Capital – Mercado de Val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20574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speciales                   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40000" y="2133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errada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íbr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9560" y="5877000"/>
            <a:ext cx="30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personas relacionadas (Art. 8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1989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2205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2421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54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170028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limitación de administ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68360" y="191628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Propia de fiscalizadores – “mal practice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2332080"/>
            <a:ext cx="61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-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" y="1484280"/>
            <a:ext cx="716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- Responsabilidad  - Limitación de accionistas, salvo levantamiento del velo corpora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22766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l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2492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s OPA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708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 protección del interés minori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312408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8- Administración independiente y revo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56000" y="306864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328464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nterés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3500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rés socie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3716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svinculación de accionista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39337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limitación de respons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4149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dministración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4365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legación de Facult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6000" y="458136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Órganos ejecutores    Gerente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479736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Remuneración 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522936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9- Participación del accionista    - Ju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5445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661000"/>
            <a:ext cx="26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3-10T20:20:04Z</dcterms:modified>
  <cp:revision>71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