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CE74C-9A11-4822-840A-346EB2978F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5A260-7AA0-45E3-80ED-65F291DC2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F9F8-A4CC-47C6-B4FA-FAF3C31F1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093E-18C1-496C-8A77-B98DA4D1A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2C37-1642-47AD-A150-AF8CB774C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EEB5B-AF62-4700-8BB8-6C4685E4D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928C-20DC-4F6D-8A04-9B7D4D6B0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1210-301C-462C-8CDA-0067028B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1305-251C-435D-BEF2-68EE6BE89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83B1-C340-4AB9-8C50-59B1F9B27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965C-D153-4C0F-9392-72CFD627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8B9D-33B3-4947-B244-637BC0B3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EB0AC-1016-48C3-B774-AB6C84EAD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390400" y="350208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92200" y="5229360"/>
            <a:ext cx="273348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Curso Derecho Comercial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1er semestre 200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Profesor Octavio Bofill Genzs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E mail obofill@grasty.c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516760" y="7668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Derecho Comercial I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09480" y="17524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094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 rot="10800000">
            <a:off x="468000" y="1916280"/>
            <a:ext cx="4172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520" y="624852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616560" y="5899320"/>
            <a:ext cx="33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3333cc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8380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15238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4008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6294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0" y="6324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1555920" y="1690560"/>
            <a:ext cx="6199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lan de Trabaj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7130880" y="6053040"/>
            <a:ext cx="1689120" cy="4003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3924360" y="4221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348000" y="3213000"/>
            <a:ext cx="5614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Lunes y Jueves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átedr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: Martes              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Talleres – Formatos - Ejemplos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03280" y="47242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826920" y="4292640"/>
            <a:ext cx="252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Material Básico: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348000" y="4292640"/>
            <a:ext cx="403236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ey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glamento S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, Tomo II  A. Puel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(3a. Edición/2001/ Edit. Jurídica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extos específic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9640" y="2373480"/>
            <a:ext cx="554508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rzo-Abril   : Sociedades Anón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ayo             : Títulos de crédit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318760" y="620640"/>
            <a:ext cx="487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600" spc="-1" strike="noStrike">
                <a:solidFill>
                  <a:srgbClr val="000099"/>
                </a:solidFill>
                <a:latin typeface="Tahoma"/>
              </a:rPr>
              <a:t>Sociedades Anónim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3340080"/>
            <a:ext cx="172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lases: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6200000">
            <a:off x="2008080" y="3457080"/>
            <a:ext cx="808200" cy="287640"/>
          </a:xfrm>
          <a:prstGeom prst="flowChartMer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629400" y="5981760"/>
            <a:ext cx="16002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516720" y="1341360"/>
            <a:ext cx="167148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Otras  Superintendenci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581280" y="54100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Gerent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513240" y="206064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olsas Val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05320" y="1523880"/>
            <a:ext cx="162072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Minoritari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553080" y="838080"/>
            <a:ext cx="1600200" cy="328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V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505320" y="380880"/>
            <a:ext cx="1600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ccionis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553080" y="228600"/>
            <a:ext cx="1600200" cy="3283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581280" y="58672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poder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81280" y="487692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2590920"/>
            <a:ext cx="160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DC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13240" y="98100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trol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505320" y="3352680"/>
            <a:ext cx="1600200" cy="3070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OPA´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81280" y="4267080"/>
            <a:ext cx="1600200" cy="3070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629400" y="5257800"/>
            <a:ext cx="1600200" cy="520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flictos de inter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553080" y="4419720"/>
            <a:ext cx="160020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Gobierno Corporativ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553080" y="34290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mités de 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53080" y="27432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lasificación de Riesg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553080" y="20574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uditores Inspect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581280" y="6324480"/>
            <a:ext cx="1600200" cy="307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ses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67080" y="76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26708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6708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267080" y="2438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267080" y="2971800"/>
            <a:ext cx="0" cy="380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315200" y="6094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315200" y="12193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31520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315200" y="32767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7315200" y="4114440"/>
            <a:ext cx="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H="1">
            <a:off x="6095880" y="4648320"/>
            <a:ext cx="457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343400" y="4724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343400" y="52578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343400" y="57913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343400" y="6248520"/>
            <a:ext cx="0" cy="7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6413400" y="562140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57200" y="152388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Cerr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99072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bier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5334120"/>
            <a:ext cx="1600200" cy="733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Reasignaciones Patrimoniales (Liquida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57200" y="457200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xtinción (Disolu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809880"/>
            <a:ext cx="1600200" cy="520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Nacimiento (Constitució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3048120"/>
            <a:ext cx="160020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ersonalidad jurídic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2057400"/>
            <a:ext cx="1600200" cy="285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specia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219320" y="762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137160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219320" y="19051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1219320" y="43430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219320" y="274284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219320" y="3581280"/>
            <a:ext cx="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1219320" y="510516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>
            <a:off x="6413400" y="612612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H="1" rot="5400000">
            <a:off x="1904400" y="1126800"/>
            <a:ext cx="1517400" cy="647640"/>
          </a:xfrm>
          <a:prstGeom prst="flowChartMerg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H="1" rot="5400000">
            <a:off x="4959720" y="5343840"/>
            <a:ext cx="1744920" cy="504720"/>
          </a:xfrm>
          <a:prstGeom prst="flowChartMerge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57200"/>
            <a:ext cx="1600200" cy="2854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. Anónim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315200" y="2590920"/>
            <a:ext cx="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500"/>
                            </p:stCondLst>
                            <p:childTnLst>
                              <p:par>
                                <p:cTn id="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fill="hold">
                            <p:stCondLst>
                              <p:cond delay="500"/>
                            </p:stCondLst>
                            <p:childTnLst>
                              <p:par>
                                <p:cTn id="49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6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500"/>
                            </p:stCondLst>
                            <p:childTnLst>
                              <p:par>
                                <p:cTn id="7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8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0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2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3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5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6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6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500"/>
                            </p:stCondLst>
                            <p:childTnLst>
                              <p:par>
                                <p:cTn id="172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4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7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8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500"/>
                            </p:stCondLst>
                            <p:childTnLst>
                              <p:par>
                                <p:cTn id="195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7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0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0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5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2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500"/>
                            </p:stCondLst>
                            <p:childTnLst>
                              <p:par>
                                <p:cTn id="2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4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1000"/>
                            </p:stCondLst>
                            <p:childTnLst>
                              <p:par>
                                <p:cTn id="23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38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500"/>
                            </p:stCondLst>
                            <p:childTnLst>
                              <p:par>
                                <p:cTn id="246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48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1000"/>
                            </p:stCondLst>
                            <p:childTnLst>
                              <p:par>
                                <p:cTn id="25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5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5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6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269600" y="16286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330200" y="1773360"/>
            <a:ext cx="792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P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640" y="549360"/>
            <a:ext cx="762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Normativa aplicable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43440" y="2462040"/>
            <a:ext cx="42667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Mercado Val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Ley SA – No Sociedades Especi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Reglamento S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NCG 30 SVS        </a:t>
            </a:r>
            <a:r>
              <a:rPr b="0" lang="es-CL" sz="2000" spc="-1" strike="noStrike">
                <a:solidFill>
                  <a:srgbClr val="0000cc"/>
                </a:solidFill>
                <a:latin typeface="Tahoma"/>
              </a:rPr>
              <a:t>*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Estructur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C° de C – CC – Actos mercantil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ahoma"/>
              </a:rPr>
              <a:t>Estatutos sociales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09480" y="6400800"/>
            <a:ext cx="64771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840" y="1589040"/>
            <a:ext cx="147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Histór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87280" y="549360"/>
            <a:ext cx="6870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7275600" y="619776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627280" y="2781360"/>
            <a:ext cx="38163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Libre circulación del val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33cc"/>
              </a:buClr>
              <a:buSzPct val="14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9120" y="25765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2627280" y="2205000"/>
            <a:ext cx="293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Participaciones de gobiern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 rot="10800000">
            <a:off x="2627280" y="2491200"/>
            <a:ext cx="28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úsqueda de capitales</a:t>
            </a:r>
            <a:r>
              <a:rPr b="0" lang="es-CL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127600" y="598320"/>
            <a:ext cx="495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Razones de ser de las SA</a:t>
            </a:r>
            <a:r>
              <a:rPr b="0" lang="es-CL" sz="2400" spc="-1" strike="noStrike">
                <a:solidFill>
                  <a:srgbClr val="000099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627280" y="1628640"/>
            <a:ext cx="316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Emprendimientos aventurado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627280" y="3068640"/>
            <a:ext cx="4284720" cy="66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Valores: Contrapartida del capital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39640" y="3429000"/>
            <a:ext cx="171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Jurídica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1700280"/>
            <a:ext cx="287280" cy="15696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6960"/>
              <a:gd name="textAreaBottom" fmla="*/ 117720 h 156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619720" y="3532320"/>
            <a:ext cx="261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Título valor: Libre circul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34480" y="3789360"/>
            <a:ext cx="2650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Administración independ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625840" y="4149720"/>
            <a:ext cx="135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124000" y="4653000"/>
            <a:ext cx="287280" cy="15696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6960"/>
              <a:gd name="textAreaBottom" fmla="*/ 117720 h 1569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042920" y="4508640"/>
            <a:ext cx="136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 u="sng">
                <a:solidFill>
                  <a:srgbClr val="000000"/>
                </a:solidFill>
                <a:uFillTx/>
                <a:latin typeface="Arial"/>
              </a:rPr>
              <a:t>Híbri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33720" y="3581280"/>
            <a:ext cx="287280" cy="157320"/>
          </a:xfrm>
          <a:custGeom>
            <a:avLst/>
            <a:gdLst>
              <a:gd name="textAreaLeft" fmla="*/ 44640 w 287280"/>
              <a:gd name="textAreaRight" fmla="*/ 251640 w 287280"/>
              <a:gd name="textAreaTop" fmla="*/ 39240 h 157320"/>
              <a:gd name="textAreaBottom" fmla="*/ 118080 h 157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627280" y="5111640"/>
            <a:ext cx="15559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3" marL="13716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590920" y="4572000"/>
            <a:ext cx="252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Sociedades cerradas</a:t>
            </a: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627280" y="4869000"/>
            <a:ext cx="32828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Búsqueda de mecanismos     intermedios: la persona (intuito persona) o el capital (intuito pecuniae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627280" y="571644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MK I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621160" y="1971720"/>
            <a:ext cx="2499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SzPct val="1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Concesiones de gobiern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943600" y="1676520"/>
            <a:ext cx="609480" cy="2819160"/>
          </a:xfrm>
          <a:custGeom>
            <a:avLst/>
            <a:gdLst>
              <a:gd name="textAreaLeft" fmla="*/ 0 w 609480"/>
              <a:gd name="textAreaRight" fmla="*/ 219960 w 609480"/>
              <a:gd name="textAreaTop" fmla="*/ 73440 h 2819160"/>
              <a:gd name="textAreaBottom" fmla="*/ 2745720 h 2819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659640" y="2205000"/>
            <a:ext cx="1728720" cy="191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 u="sng">
                <a:solidFill>
                  <a:srgbClr val="000000"/>
                </a:solidFill>
                <a:uFillTx/>
                <a:latin typeface="Arial"/>
              </a:rPr>
              <a:t>Búsqueda del Capital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   Instrumento     Jurídico Efici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Acción / val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+  Tutela del Capit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96520" y="191628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1371600"/>
            <a:ext cx="7707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1- Diversas razones para su creación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Hitos de las SA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1854360" y="24541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609480" y="289548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3- Personalidad juríd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905120" y="2514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54360" y="28130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1854360" y="32479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2286000"/>
            <a:ext cx="1724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9480" y="2590920"/>
            <a:ext cx="245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2- Mercantilidad objeti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9480" y="3200400"/>
            <a:ext cx="492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4- Solemnidad           - Constit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0" y="34290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Sometimiento a norma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86000" y="3657600"/>
            <a:ext cx="3429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Modificacion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286000" y="388620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Transformacion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0" y="4114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isolu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0" y="4343400"/>
            <a:ext cx="259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iquid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0" y="4572000"/>
            <a:ext cx="449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Constancia de actuaciones: ac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181480"/>
            <a:ext cx="2743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Financie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410080"/>
            <a:ext cx="365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Gestión - Comité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362320" y="5638680"/>
            <a:ext cx="46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 operaciones relacionadas (Art. 44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64920" y="4952880"/>
            <a:ext cx="4777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5- Fiscalización         - Regulatoria  - legalidad y estatu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362320" y="18288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Abiertas       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El Capital – Mercado de Valor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362320" y="205740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Especiales                   Fiscaliz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340000" y="2133720"/>
            <a:ext cx="419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Cerradas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Híbri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9560" y="5877000"/>
            <a:ext cx="306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 personas relacionadas (Art. 89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1989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635280" y="2205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35280" y="2421000"/>
            <a:ext cx="304920" cy="0"/>
          </a:xfrm>
          <a:prstGeom prst="line">
            <a:avLst/>
          </a:prstGeom>
          <a:ln w="9360">
            <a:solidFill>
              <a:srgbClr val="0000ff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2895480" y="685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09480" y="53352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9480" y="1295280"/>
            <a:ext cx="784872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094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11280" y="6453360"/>
            <a:ext cx="6476760" cy="0"/>
          </a:xfrm>
          <a:prstGeom prst="line">
            <a:avLst/>
          </a:prstGeom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380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66680" y="1066680"/>
            <a:ext cx="15264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487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8305920" y="609480"/>
            <a:ext cx="152280" cy="15264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4771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7057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934320" y="6477120"/>
            <a:ext cx="152280" cy="152280"/>
          </a:xfrm>
          <a:prstGeom prst="rect">
            <a:avLst/>
          </a:prstGeom>
          <a:solidFill>
            <a:srgbClr val="3333cc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217400" y="18781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55640" y="549360"/>
            <a:ext cx="76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7275600" y="6269040"/>
            <a:ext cx="1689120" cy="39996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1874880" y="2198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874880" y="21258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874880" y="25574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874880" y="2558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1874880" y="29923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874880" y="2919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268360" y="1700280"/>
            <a:ext cx="4496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Ilimitación de administrado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268360" y="1916280"/>
            <a:ext cx="525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- Propia de fiscalizadores – “mal practice</a:t>
            </a: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85800" y="2332080"/>
            <a:ext cx="61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Arial"/>
              </a:rPr>
              <a:t>7- Normas de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84360" y="1484280"/>
            <a:ext cx="7162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6- Responsabilidad  - Limitación de accionistas, salvo levantamiento del velo corporativ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227664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El Contr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249228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as OPA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2708280"/>
            <a:ext cx="457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La protección del interés minori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84360" y="3124080"/>
            <a:ext cx="624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8- Administración independiente y revocab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356000" y="3068640"/>
            <a:ext cx="251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irecto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356000" y="3284640"/>
            <a:ext cx="2895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Interés perso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356000" y="3500280"/>
            <a:ext cx="21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Interés societar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56000" y="3716280"/>
            <a:ext cx="350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svinculación de accionista de apoy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356000" y="3933720"/>
            <a:ext cx="419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Ilimitación de responsabilid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356000" y="4149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Administración leg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356000" y="436572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Delegación de Facultad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56000" y="4581360"/>
            <a:ext cx="3810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Órganos ejecutores    Gerentes</a:t>
            </a: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356000" y="4797360"/>
            <a:ext cx="426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Remuneración de la administr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755640" y="5229360"/>
            <a:ext cx="510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9- Participación del accionista    - Junt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276720" y="544500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Transparenc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276720" y="5661000"/>
            <a:ext cx="265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  Inform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55640" y="549360"/>
            <a:ext cx="763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000099"/>
                </a:solidFill>
                <a:latin typeface="Arial"/>
              </a:rPr>
              <a:t>Hitos de las SA chilen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5T21:09:26Z</dcterms:created>
  <dc:creator>asm</dc:creator>
  <dc:description/>
  <dc:language>en-US</dc:language>
  <cp:lastModifiedBy>Octavio Bofill G.</cp:lastModifiedBy>
  <dcterms:modified xsi:type="dcterms:W3CDTF">2005-03-10T20:20:04Z</dcterms:modified>
  <cp:revision>71</cp:revision>
  <dc:subject/>
  <dc:title>Sin título de diapositiv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33904442</vt:r8>
  </property>
  <property fmtid="{D5CDD505-2E9C-101B-9397-08002B2CF9AE}" pid="3" name="_AuthorEmail">
    <vt:lpwstr>gvarela@grasty.cl</vt:lpwstr>
  </property>
  <property fmtid="{D5CDD505-2E9C-101B-9397-08002B2CF9AE}" pid="4" name="_AuthorEmailDisplayName">
    <vt:lpwstr>Carmen Gloria Varela</vt:lpwstr>
  </property>
  <property fmtid="{D5CDD505-2E9C-101B-9397-08002B2CF9AE}" pid="5" name="_EmailSubject">
    <vt:lpwstr>Presentación Power Point curso </vt:lpwstr>
  </property>
  <property fmtid="{D5CDD505-2E9C-101B-9397-08002B2CF9AE}" pid="6" name="_PreviousAdHocReviewCycleID">
    <vt:r8>143563303</vt:r8>
  </property>
  <property fmtid="{D5CDD505-2E9C-101B-9397-08002B2CF9AE}" pid="7" name="_ReviewingToolsShownOnce">
    <vt:lpwstr/>
  </property>
</Properties>
</file>