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176-74F3-4A62-A14A-5AB14B57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62A-E888-4119-BA93-E9242443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C52-F298-4EDA-83BE-73F58AB6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BB3-B112-450C-B9AB-FCB91A84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877-E24C-4861-ADA2-E33BDBF2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324-9514-49F1-BA38-E275E463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676-CFB8-4A89-A8CF-A3A6385B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EA4-B1CF-4899-A7AD-10CB25A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011-1407-4BC9-8557-C553911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4D4-D5F1-40B4-8F99-88073C8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42D-DE37-492E-BF1D-5002DFA3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393-11CA-41B8-BEA1-2FD7DE2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9E7C-049C-408D-BF0B-E043706D4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55920" y="1690560"/>
            <a:ext cx="61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13000"/>
            <a:ext cx="561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un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áted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Talleres – Formatos - Ejemplo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rzo-Abril   : 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yo             : 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008080" y="3457080"/>
            <a:ext cx="808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9400" y="598176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35268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25780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2971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609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13400" y="5621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13400" y="6126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5400000">
            <a:off x="1904400" y="1126800"/>
            <a:ext cx="1517400" cy="64764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5400000">
            <a:off x="4959720" y="5343840"/>
            <a:ext cx="1744920" cy="50472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57200"/>
            <a:ext cx="1600200" cy="28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43440" y="2462040"/>
            <a:ext cx="426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 – No Sociedad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CG 30 SVS        </a:t>
            </a:r>
            <a:r>
              <a:rPr b="0" lang="es-CL" sz="2000" spc="-1" strike="noStrike">
                <a:solidFill>
                  <a:srgbClr val="0000cc"/>
                </a:solidFill>
                <a:latin typeface="Tahoma"/>
              </a:rPr>
              <a:t>*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struc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7164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K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 (Art. 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9560" y="587700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 (Art. 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227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l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2492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08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1240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306864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2846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00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   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10T20:20:04Z</dcterms:modified>
  <cp:revision>7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