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2464-43B0-4F96-892F-745ABB9112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1C8EE-2DC2-4B53-A90C-243184F994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0BE2C-B78A-4F20-80A8-299F0C86B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C192-7917-4161-AC8F-7109AD5D4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22710-7B58-411C-862C-9A2386D10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92FC4-75F8-4CBE-A1D7-1F0075952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C8E9-BE23-4BE0-A843-AA89B2AE5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C039F-CC17-4E79-B86B-32500932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1ABD9-F85B-43C7-85E0-CBB4AF2E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28ECE-7595-4BC5-9683-B8914AAFA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ADE6-B39C-40E7-865F-B47580F1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7A62-1608-4393-8BC9-BF10D6C9C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20972-90F4-498C-BEBC-BC070896D2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13000"/>
            <a:ext cx="561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un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áted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Talleres – Formatos - Ejemplo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rzo-Abril   : 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yo             : 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008080" y="3457080"/>
            <a:ext cx="808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598176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25780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609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13400" y="5621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13400" y="6126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1904400" y="1126800"/>
            <a:ext cx="1517400" cy="64764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959720" y="5343840"/>
            <a:ext cx="1744920" cy="50472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"/>
            <a:ext cx="1600200" cy="28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43440" y="2462040"/>
            <a:ext cx="426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 – No Sociedad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CG 30 SVS        </a:t>
            </a:r>
            <a:r>
              <a:rPr b="0" lang="es-CL" sz="20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7164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K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 (Art. 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9560" y="587700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 (Art. 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227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l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2492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08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1240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0686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2846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00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   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10T20:20:04Z</dcterms:modified>
  <cp:revision>7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