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1669-9DC7-493B-A981-0CCCE229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A9F-0998-4175-8DBC-56E49F6C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8AB-21C1-4F0B-B04A-CD190E95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97A-6367-4F58-935C-B6B43F28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26A-A0FD-459A-870D-E570605D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6721-0E30-475B-AD9A-FD273926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EC1E-AA43-46B1-9842-13121F34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5281-EDE3-4526-8393-05359D49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A140-3429-4141-8104-5988A6BC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317-FCDF-48F0-B5D7-259438EA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C18-83E0-4A8D-9066-5E7269A9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A7D-4355-4175-A24F-D7A8FE0C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BA43-22C6-422F-876D-333280FBA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90400" y="350208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er semestr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grasty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1555920" y="1690560"/>
            <a:ext cx="619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48000" y="3213000"/>
            <a:ext cx="5614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Lunes y Jueves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áted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Martes    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Talleres – Formatos - Ejemplos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429264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Material Básico: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48000" y="4292640"/>
            <a:ext cx="40323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lamento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, Tomo II  A. Puel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3a. Edición/2001/ Edit. Jurídic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extos específic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2373480"/>
            <a:ext cx="5545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rzo-Abril   : Sociedades Anóni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yo             : Títulos de crédi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18760" y="62064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33400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las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2008080" y="3457080"/>
            <a:ext cx="808200" cy="287640"/>
          </a:xfrm>
          <a:prstGeom prst="flowChartMer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629400" y="5981760"/>
            <a:ext cx="16002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16720" y="1341360"/>
            <a:ext cx="167148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as  Superintend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541008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er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13240" y="206064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sas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523880"/>
            <a:ext cx="162072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inori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838080"/>
            <a:ext cx="1600200" cy="328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380880"/>
            <a:ext cx="16002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228600"/>
            <a:ext cx="1600200" cy="328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is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586728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pode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487692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2590920"/>
            <a:ext cx="16002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13240" y="98100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trol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352680"/>
            <a:ext cx="16002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PA´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267080"/>
            <a:ext cx="16002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5257800"/>
            <a:ext cx="16002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flictos de inter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4419720"/>
            <a:ext cx="160020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obierno Corpor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34290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ités de 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7432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lasificación de Riesg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20574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ditores Inspect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632448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ses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762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267080" y="2971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609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121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1520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315200" y="41144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095880" y="4648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57913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62485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413400" y="5621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523880"/>
            <a:ext cx="1600200" cy="28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er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990720"/>
            <a:ext cx="1600200" cy="28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bier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4120"/>
            <a:ext cx="1600200" cy="733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asignaciones Patrimoniales (Liquid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5720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xtinción (Disolu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80988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acimiento (Constitu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3048120"/>
            <a:ext cx="160020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sonalidad jurídic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057400"/>
            <a:ext cx="1600200" cy="28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762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219320" y="4343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219320" y="2742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21932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21932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413400" y="61261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5400000">
            <a:off x="1904400" y="1126800"/>
            <a:ext cx="1517400" cy="647640"/>
          </a:xfrm>
          <a:prstGeom prst="flowChartMerg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rot="5400000">
            <a:off x="4959720" y="5343840"/>
            <a:ext cx="1744920" cy="504720"/>
          </a:xfrm>
          <a:prstGeom prst="flowChartMerg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57200"/>
            <a:ext cx="1600200" cy="28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. Anóni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30200" y="177336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Normativa aplicable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43440" y="2462040"/>
            <a:ext cx="426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y Mercado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y SA – No Sociedades Espe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glamento 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CG 30 SVS        </a:t>
            </a:r>
            <a:r>
              <a:rPr b="0" lang="es-CL" sz="2000" spc="-1" strike="noStrike">
                <a:solidFill>
                  <a:srgbClr val="0000cc"/>
                </a:solidFill>
                <a:latin typeface="Tahoma"/>
              </a:rPr>
              <a:t>*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Estruc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° de C – CC – Actos mercant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tatutos sociales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840" y="15890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Históric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549360"/>
            <a:ext cx="68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627280" y="2781360"/>
            <a:ext cx="3816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ibre circulación del val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912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627280" y="2205000"/>
            <a:ext cx="29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ticipaciones de gobiern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 rot="10800000">
            <a:off x="2627280" y="2491200"/>
            <a:ext cx="28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úsqueda de capitales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27600" y="598320"/>
            <a:ext cx="495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Razones de ser de las SA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27280" y="162864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mprendimientos aventurado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3068640"/>
            <a:ext cx="428472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alores: Contrapartida del capital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342900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Jurídic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1700280"/>
            <a:ext cx="287280" cy="156960"/>
          </a:xfrm>
          <a:custGeom>
            <a:avLst/>
            <a:gdLst>
              <a:gd name="textAreaLeft" fmla="*/ 44640 w 287280"/>
              <a:gd name="textAreaRight" fmla="*/ 251640 w 287280"/>
              <a:gd name="textAreaTop" fmla="*/ 39240 h 156960"/>
              <a:gd name="textAreaBottom" fmla="*/ 117720 h 156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19720" y="3532320"/>
            <a:ext cx="261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ítulo valor: Libre circ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34480" y="3789360"/>
            <a:ext cx="26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 independ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25840" y="414972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is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24000" y="4653000"/>
            <a:ext cx="287280" cy="156960"/>
          </a:xfrm>
          <a:custGeom>
            <a:avLst/>
            <a:gdLst>
              <a:gd name="textAreaLeft" fmla="*/ 44640 w 287280"/>
              <a:gd name="textAreaRight" fmla="*/ 251640 w 287280"/>
              <a:gd name="textAreaTop" fmla="*/ 39240 h 156960"/>
              <a:gd name="textAreaBottom" fmla="*/ 117720 h 156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4508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Híbr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3581280"/>
            <a:ext cx="287280" cy="157320"/>
          </a:xfrm>
          <a:custGeom>
            <a:avLst/>
            <a:gdLst>
              <a:gd name="textAreaLeft" fmla="*/ 44640 w 287280"/>
              <a:gd name="textAreaRight" fmla="*/ 251640 w 287280"/>
              <a:gd name="textAreaTop" fmla="*/ 39240 h 157320"/>
              <a:gd name="textAreaBottom" fmla="*/ 118080 h 157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27280" y="5111640"/>
            <a:ext cx="155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4572000"/>
            <a:ext cx="25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 cerrada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27280" y="4869000"/>
            <a:ext cx="3282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úsqueda de mecanismos     intermedios: la persona (intuito persona) o el capital (intuito pecunia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27280" y="57164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K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21160" y="1971720"/>
            <a:ext cx="249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cesiones de gobier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1676520"/>
            <a:ext cx="609480" cy="2819160"/>
          </a:xfrm>
          <a:custGeom>
            <a:avLst/>
            <a:gdLst>
              <a:gd name="textAreaLeft" fmla="*/ 0 w 609480"/>
              <a:gd name="textAreaRight" fmla="*/ 219960 w 60948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59640" y="2205000"/>
            <a:ext cx="17287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Búsqueda del Capita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+   Instrumento     Jurídico 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ión /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+  Tutela del Cap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6520" y="19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371600"/>
            <a:ext cx="770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- Diversas razones para su creació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549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Hitos de las SA chil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854360" y="245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28954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- Personalidad juríd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251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54360" y="281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54360" y="32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286000"/>
            <a:ext cx="1724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590920"/>
            <a:ext cx="24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- Mercantilidad objeti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3200400"/>
            <a:ext cx="492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- Solemnidad           - Constit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34290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Sometimiento a normas d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6576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Modificacio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3886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Transform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114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is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43434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Liquid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45720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Constancia de actuaciones: ac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1814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Financi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4100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Gestión - Comit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563868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 operaciones relacionadas (Art. 4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4920" y="4952880"/>
            <a:ext cx="477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5- Fiscalización         - Regulatoria  - legalidad y estatu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18288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Abiertas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l Capital – Mercado de Val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62320" y="20574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Especiales                   Fis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40000" y="2133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Cerrada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íbr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9560" y="5877000"/>
            <a:ext cx="30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 personas relacionadas (Art. 8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35280" y="1989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35280" y="2205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35280" y="2421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549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68360" y="170028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limitación de administ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68360" y="191628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Propia de fiscalizadores – “mal practice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2332080"/>
            <a:ext cx="61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- Normas d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4360" y="1484280"/>
            <a:ext cx="716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6- Responsabilidad  - Limitación de accionistas, salvo levantamiento del velo corpora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227664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El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24922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Las OPA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27082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La protección del interés minori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4360" y="3124080"/>
            <a:ext cx="62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8- Administración independiente y revo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56000" y="306864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328464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Interés 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35002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terés socie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56000" y="371628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svinculación de accionista de apo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56000" y="39337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Ilimitación de responsa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56000" y="41497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Administración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56000" y="43657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legación de Facult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56000" y="4581360"/>
            <a:ext cx="38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Órganos ejecutores    Gerentes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56000" y="479736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Remuneración de la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522936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9- Participación del accionista    - Ju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6720" y="54450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5661000"/>
            <a:ext cx="26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5640" y="549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Hitos de las SA chil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5-03-10T20:20:04Z</dcterms:modified>
  <cp:revision>71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