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04D-5DA1-4DAF-8AC9-33C01C65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320-59BA-4862-9C11-F63341CA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E8B-64F2-4810-9BC1-F6CD6402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0D6-36BB-453E-8DC1-C5636B5A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1FE-CA3E-44FF-A633-5B57F04A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53B-48E8-428E-BA6B-CAC702EB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B66-F945-48F1-BB47-2A09F231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986-6F01-48C8-A832-559DD460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BEA-324F-4B79-90D1-6EB0AF7C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5C7-3B40-43C9-9186-88D4FE6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3D4-76B1-4CEC-84E5-B736075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DE5-42AD-48F5-8BCA-20AF9859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369-1F17-4B1D-A0D4-804C6100D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371600"/>
          <a:ext cx="7772400" cy="4957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Grandes fuentes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( 100 ton/año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ar plan de reducción para aprobarse por Dirección Ejectuvia CONAMA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mplimiento de me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duccion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ensación (podrá ser no sólo con fuentes fij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randes Fuentes Nuevas compensan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jora en calidad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r>
              <a:rPr b="0" lang="es-CL" sz="4000" spc="-1" strike="noStrike">
                <a:solidFill>
                  <a:srgbClr val="a50021"/>
                </a:solidFill>
                <a:latin typeface="Tahoma"/>
              </a:rPr>
              <a:t> (tem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tas de NOx y MP, son globales e individuales para cada fuente, no p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x, discusión respecto de línea base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xisten problemas de discriminación entre diversas fuentes fijas por reducciones históricas anteriores a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mas de legalidad regulación SOx grandes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ulación SOx, necesidad de regulación dado rabajas globales asociadas a Gas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ligación de compensación para actividades nuevas o modificaciones de existentes (15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 resid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amas y po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ítica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ducación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ortalecimiento de Gestión Ambientla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conocimiento a crear proyectos sumid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ulso a ley de bo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todo el otoño e 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 de emisión sólo para material particulado.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r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s (mandatorias o recomend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, para cal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terios para definir normas de emisi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ón para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hay latencia NO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guen esfuerzos de reducción de MP-10, CO, </a:t>
            </a:r>
            <a:r>
              <a:rPr b="0" lang="es-ES" sz="2400" spc="-1" strike="noStrike">
                <a:solidFill>
                  <a:srgbClr val="a50021"/>
                </a:solidFill>
                <a:latin typeface="Tahoma"/>
              </a:rPr>
              <a:t>Nox, Sox, COV y NH3(estos como precurso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Globales ( a lo menos respecto inventario 199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 Entran al sistema de compens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de reducción buses en uso: opacidad 30% menos (rev. Téc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es Normas de emisión para diversos tipos de vehículos nuevos (buses, camiones, au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a en calidad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24T15:51:26Z</dcterms:modified>
  <cp:revision>56</cp:revision>
  <dc:subject/>
  <dc:title>PowerPoint Presentation</dc:title>
</cp:coreProperties>
</file>