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4C1C-4C7C-4C0A-835E-8645B36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E702-47D6-4BE4-9F9A-29898DF46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D52D-8495-47C8-AF13-712EFD1AF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9863-ECCF-421F-9239-64608F2A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04C-706C-40E7-AB21-D3DF810A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B0EC-01D6-4BCD-8B46-686A83E7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456-5D2B-45F5-BB15-F2C50031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3387-0280-4F58-9131-5A8B94B6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516-63EC-4016-94C3-79465E25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1CDB-378C-4A7E-996B-F512F919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8B86-D445-4FE2-86F9-B33FD19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D2CC-1A03-44E3-A5B2-477165F34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D09F0-86AA-4917-B006-2D8C4C183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Plan de Prevenci</a:t>
            </a: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ón y Descontaminación R.M. (PPD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Curso Derecho del Medio Ambi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Javier Vergara Fis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ahoma"/>
              </a:rPr>
              <a:t>Patricio Leyton Flor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Metas por sector (Fuentes Fij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371600"/>
          <a:ext cx="7772400" cy="4957920"/>
        </p:xfrm>
        <a:graphic>
          <a:graphicData uri="http://schemas.openxmlformats.org/drawingml/2006/table">
            <a:tbl>
              <a:tblPr/>
              <a:tblGrid>
                <a:gridCol w="1554120"/>
                <a:gridCol w="1554120"/>
                <a:gridCol w="1555920"/>
                <a:gridCol w="1554120"/>
                <a:gridCol w="1554120"/>
              </a:tblGrid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ínea B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ra me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 p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i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30ng/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Grandes fuentes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( 100 ton/año,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tar plan de reducción para aprobarse por Dirección Ejectuvia CONAMA.</a:t>
                      </a: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ta 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Cumplimiento de me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ducciones fís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Compensación (podrá ser no sólo con fuentes fij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Grandes Fuentes Nuevas compensan 15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Mejora en calidad de combustib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Tahoma"/>
              </a:rPr>
              <a:t>Fuentes Fijas</a:t>
            </a:r>
            <a:r>
              <a:rPr b="0" lang="es-CL" sz="4000" spc="-1" strike="noStrike">
                <a:solidFill>
                  <a:srgbClr val="a50021"/>
                </a:solidFill>
                <a:latin typeface="Tahoma"/>
              </a:rPr>
              <a:t> (tem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Metas de NOx y MP, son globales e individuales para cada fuente, no por s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NOx, discusión respecto de línea base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Existen problemas de discriminación entre diversas fuentes fijas por reducciones históricas anteriores a 199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Temas de legalidad regulación SOx grandes fu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ahoma"/>
              </a:rPr>
              <a:t>Regulación SOx, necesidad de regulación dado rabajas globales asociadas a Gas Nat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bligación de compensación para actividades nuevas o modificaciones de existentes (150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gulaciones para combustibles residen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emisiones para calefacción residencial( normas de emisió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contaminación intramu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rmas de control de COV asociado a cadena de distribución de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de levantamiento de polvo y generación de áreas verdes (Compensación de áreas verdes)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Otras regul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ogramas y pol</a:t>
            </a: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íticas públic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ducación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ortalecimiento de Gestión Ambientla lo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conocimiento a crear proyectos sumide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Impulso a ley de bo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para enfrentar episodios crí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edidas todo el otoño e invier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Antecedentes previos al PP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vio al plan existián una serie de regulaciones dictadas antes de Ley 19.300, en virtud de disposiciones vigentes a esa época. Salvo catalíticos es casi todo para MP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ansportes normas de emisión (autos catalíticos), y revisión técnica. Retiro de buses, Licitación de recorr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uentes Fijas: Norma de emisión sólo para material particulado. D.S. Nº4, y complementos 1992 (MP). Compensación de emisiones ( fuentes nuevas y forma de cumplir meta 1997). 1995, exclusión de procesos de sistema de compens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tras fuentes: prohibición uso de chimeneas de hogar abierto, de quemas agrícolas en períodos inver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Regulación de situaciones de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rograma de lavado de call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Anteceden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1996 Declaración zona saturada y letent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Saturada para Ozono, Material Particulado respirable, pts y monóxido carbo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atente: Dioxido de nitróge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Discusión respecto a criterios geográficos para declarar la R.M., como zona satur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complejo gran cantidad de medidas (mandatorias o recomendaci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 Fija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para diversos contaminantes en grandes fuentes. Se hace más estricto el D.S. Nº4 Min. Salud, para calder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ompensación de emisiones ( valida exclusión de procesos de compensación definida el año 1995 y mayor compensación para fuentes nueves con exigencia mayor el 2000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riterios para definir normas de emisi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ón para proces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Obligaciones de medir emisiones de gases. No se cump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etas más fáciles y disminución de dificultades de fiscalización para fuentes más pequeñ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Normas de combustibles de uso indust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iscusión tema criterios de corte para pre-emergencia y emerg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Móvi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uevas normas de emisión para vehiculo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rmativa relativa a calidad de combusti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Años de antigüedad de vehícul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Discusión restricción catalíticos (se incorpora en modificación 200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D.S. Nº16 1998. PPD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Otras Fuente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para la actividad de constru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rmas relativas a áreas verdes (200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Fuentes Nuevas o modificación existentes: Además de normas vigentes, compensación de emisiones cuando su emisión anual excede ciertos niveles (entra obligación de compensar para proyectos inmobiliarios, rellenos sanitarios,etc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a50021"/>
                </a:solidFill>
                <a:latin typeface="Tahoma"/>
              </a:rPr>
              <a:t>PPDA 2004. D.S. Nº58 de 2003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volución de calidad del aire 1997-200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alores maximos de MP-10 y las concentraciones anuales bajan en un 27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-emergencias bajan de 37 a 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mergencias de 4 a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 hay latencia NO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iguen esfuerzos de reducción de MP-10, CO, </a:t>
            </a:r>
            <a:r>
              <a:rPr b="0" lang="es-ES" sz="2400" spc="-1" strike="noStrike">
                <a:solidFill>
                  <a:srgbClr val="a50021"/>
                </a:solidFill>
                <a:latin typeface="Tahoma"/>
              </a:rPr>
              <a:t>Nox, Sox, COV y NH3(estos como precursor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50021"/>
                </a:solidFill>
                <a:latin typeface="Tahoma"/>
              </a:rPr>
              <a:t>Participación por sector para material particul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u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Cam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Vehículos liv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F. Movile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Proc. Combust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Otros Proc. Ind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- Ftes. 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Fi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fuentes ar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Tota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4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1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9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2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Metas por sector (Fuentes Móvil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Globales ( a lo menos respecto inventario 1997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P-10: 7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O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tas Transporte Público: Se asignana metas individuales en licitación plazo cumplimiento. 2005. Entran al sistema de compens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lan de reducción buses en uso: opacidad 30% menos (rev. Técnic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Nueves Normas de emisión para diversos tipos de vehículos nuevos (buses, camiones, aut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jora en calidad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vergara</cp:lastModifiedBy>
  <dcterms:modified xsi:type="dcterms:W3CDTF">2004-09-24T15:51:26Z</dcterms:modified>
  <cp:revision>56</cp:revision>
  <dc:subject/>
  <dc:title>PowerPoint Presentation</dc:title>
</cp:coreProperties>
</file>