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A3DE-D3BC-45C5-8D81-8BDA0D1C3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597D-B3B4-4875-B572-9C01422D5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0DE9-91D8-47F0-9C5C-547EDE535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EC52-FD76-49E1-BC9B-764BE3130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ED76-36AD-4C11-A2A1-DACDC1D9D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DE8D-5FAE-482D-B761-34D84FC08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98E2-7458-408A-BE1E-04F0B2457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4632-6AAC-4C90-BF0B-DC33E00F4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936A-56B4-4932-88B4-E5C745B7C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C021-9759-4C8F-BD52-469E62D14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341D-07E9-4BC0-8A38-AD170B012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1BBC-32B5-436F-8C7C-CDE75CC76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E894D-EAE8-4C27-991C-FB8DD4F9DB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ontrol de Contaminaci</a:t>
            </a: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ón:</a:t>
            </a:r>
            <a:br>
              <a:rPr sz="4400"/>
            </a:b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Aire, Agua y Suel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urso Derecho del Medio Amb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Javier Vergara Fis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atricio Leyton Flore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Estaciones representativa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Tahoma"/>
                <a:ea typeface="Arial"/>
              </a:rPr>
              <a:t>a.</a:t>
            </a:r>
            <a:r>
              <a:rPr b="0" i="1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     </a:t>
            </a:r>
            <a:r>
              <a:rPr b="0" i="1" lang="es-CL" sz="2800" spc="-1" strike="noStrike">
                <a:solidFill>
                  <a:srgbClr val="000000"/>
                </a:solidFill>
                <a:latin typeface="Tahoma"/>
                <a:ea typeface="Arial"/>
              </a:rPr>
              <a:t>Estación monitora con representatividad poblacional para gas monóxido de carbono (EMRPG):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  <a:ea typeface="Arial"/>
              </a:rPr>
              <a:t> Una estación de monitoreo que se encuentra localizada en un área habit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  <a:ea typeface="Arial"/>
              </a:rPr>
              <a:t>Se entiende como área habitada, a una porción del territorio donde vive habitual y permanentemente un conjunto de perso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Normas primarias de calidad ambiental (ai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aterial Particulado respir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Ozo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nhídrido Sulfuro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onoxido de carbo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ioxido de azuf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lo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NO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Normas primarias de calidad ambiental(contenid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Los valores máximos o mínimos que no podrán ser sobrepasa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Los valores críticos que determinen situaciones de emergenc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l plazo para su entrada en vig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Metodologías de control y medi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Organismos fiscalizad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Normas Secundarias de Calidad Ambien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.S, con firma de Ministro Secretario General de la Presidencia y Ministro Compet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creto señala el ámbito territorial de su apl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Normas Secundarias de Calidad Ambiental (contenid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Valores y ambito de aplic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Metodologías de medi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Valores que determinana situaciones crítica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Normas Secundarias de Calidad Ambienta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hídrido sulfuroso para proteger la agricultura ( D.S. 185 del Ministerio de Minería, año 1992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n Estudio (norma de calidad según usos para diversas cuenca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Problemas en el S.E.I.A. respecto de protecci</a:t>
            </a: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ón agrícola y nor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Casos en que se cumple norma secundaria de SO2, se discuten otros criterios de protección agrícola fundado en emision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Casos en que no existen normas secundarias. Daños meramente patrimon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Superación de norma de calidad ambien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uando se entiende superada la norma de calidad ambiental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riterio resolución 1215 (deroga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riterio D.S. Nº185 de Minería (sólo norma secundaria de SO2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riterios de las nuevas normas primarias ( MP-10, SO2, Nox, COV, CO). En general percentil 99 en normas que no son anuales. Tres años de mediciones, salvo excepciones. Normas anuales distinto, infracción a promedio anual, eventualmente tres años de medi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Zonas lat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t)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Zona Latente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: aquélla en que la medición de la concentración de contaminantes en el aire, agua o suelo se sitúa entre el 80% y el 100% del valor de la respectiva norma de calidad ambiental, y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Debe ser declarada por D.S. Ministro respectivo y Minis. Secretario General de la Presidenc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ediciones y antecedentes que se recab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egalmente: Procedimiento a cargo CORE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Zonas saturada (art.43 Ley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Art. 2. u)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Zona Saturada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: aquélla en que una o más normas de calidad ambiental se encuentran sobrepasa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Debe ser declarada por D.S. Ministro respectivo y Minis. Secretario General de la Presidencia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ediciones y antecedentes que se recab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egalmente Procedimiento a cargo CORE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a50021"/>
                </a:solidFill>
                <a:latin typeface="Tahoma"/>
              </a:rPr>
              <a:t>Normas de Calidad Ambiental y de Emisi</a:t>
            </a: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Responsabilidad legal monitoreo calidad ambien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ey Artículo 33: Los organismos competentes del Estado desarrollarán programas de medición y control de la calidad ambiental del aire, agua y suelo para los efectos de velar por el derecho de vivir en un medio ambiente libre de contaminación. 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Normas de Emi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Art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q.Normas de Emisión: las que establecen la cantidad máxima permitida para un contaminante medida en el efluente de la fuente emisora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Normas de emi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Instrumentos de regulación en ausencia de norma de calidad ambiental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Normas de emisión con objeto de cumplir norma de calidad ambient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Norma de emisión como un límite mínimo aún existiendo norma de calidad ambiental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Norma de emisió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  <a:ea typeface="Courier New"/>
              </a:rPr>
              <a:t>Artículo 35.- Toda norma de emisión contendrá, además de lo estipulado por el artículo 28, las siguientes materias:     a) La cantidad máxima permitida para un contaminante medida en el efluente de la fuente emisor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  <a:ea typeface="Courier New"/>
              </a:rPr>
              <a:t>b) Los objetivos de protección ambiental y resultados esperados con la aplicación de la norma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  <a:ea typeface="Courier New"/>
              </a:rPr>
              <a:t>c) El ámbito territorial de su aplicación;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  <a:ea typeface="Courier New"/>
              </a:rPr>
              <a:t>d) Los tipos de fuentes reguladas; y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  <a:ea typeface="Courier New"/>
              </a:rPr>
              <a:t>e) Los plazos y niveles programados para el cumplimiento de la norm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Norma de emisión vige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.S. Nº4, 1992 Ministerio de Salud, regula las emisiones de  fuentes estacionarias puntuales en la R.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rma de emisión que regula descargas a alcantarillados. D.S. Nº609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rma que regula la descarga de residuos industriales líquidos a cursos de agua superficiales, lagos y mar. D.S. Nº9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rma de emisión de Arsén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rma de emisión lumín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rma de emisión de T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iversas normas para fuentes m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óvi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Normas de NOx PPDA R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Algunas Normas de emisión en prepar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Norma de emisión para instalaciones de incineración o co-inciner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Norma para el estero Caré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Norma de ruido que regula la actividad de la Construc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Norma para calefectores a leñ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Norma de emisión de ruido (D.S. Nº146 de Min. Segpr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roblema de las normas de ruid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Norma de em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Norma de inm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n algunos casos se requieren criterios diversos que las normas de emisión no cubren adecuadam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Normas Primarias de Calidad Ambient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t. 2 o.Norma Primaria de Calidad Ambiental: aquélla que establece los valores de las concentraciones y períodos, máximos o mínimos permisibles de elementos,   compuestos, sustancias, derivados químicos o biológicos, energías, radiaciones,    vibraciones, ruidos o combinación de ellos, cuya presencia o carencia en el ambiente </a:t>
            </a:r>
            <a:r>
              <a:rPr b="1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ueda constituir un riesgo para la vida o la salud de la población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Normas Secundarias de Calidad Ambien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t. 2.</a:t>
            </a:r>
            <a:r>
              <a:rPr b="1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.Norma Secundaria de Calidad Ambiental: aquélla que establece los valores de las    concentraciones y períodos, máximos o mínimos permisibles de sustancias,    elementos, energía o combinación de ellos, cuya presencia o carencia en el ambiente pueda constituir un </a:t>
            </a:r>
            <a:r>
              <a:rPr b="1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iesgo para la protección o la conservación del medio ambiente, o la preservación de la naturaleza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Normas de calidad ambient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Art. 32 Ley 19.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Reglamento para la dictación de las normas de calidad y de emisión emanado del  Ministerio Secretaría General de la Presidencia, que reglamenta la dictación de las normas de calidad o de emisión ( D.S Nº93 Min. Sec. Gral. Presidencia año 1995)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Normas de calidad ambien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Programa priorizado  (marzo de cada añ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Lo aprueba el Consejo de Ministros. Debe ser fund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Publicidad inform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xpediente con todos los anteced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Normas de calidad ambiental (etapas art 32 ley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álisis técnico y económic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arrollo de estudios científico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sultas a organismos competentes, públicos y privado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álisis de las observaciones formuladas y una adecuada publicidad.  Reglamento establecerá además los plazos y formalidades que se requieran para dar cumplimiento a lo dispuesto en este artículo 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os criterios para revisar las normas vig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Normas primarias de calidad ambient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ictación: mediante D.S. Emana del Ministerio Sec. General de la Presidencia y Ministerio de Salu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Previo proceso reglado cuyos criterios se señalan en la ley y se detallan en el Reglamento (D.S. Nº93 Min. Segpres año 1995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Normas primarias de calidad ambient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ahoma"/>
              </a:rPr>
              <a:t>Aplicables en todo el territorio de la República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Su cumplimiento se verific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onde existan asentamientos humanos (¿desierto, campo, campamentos mineros?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n los medios cuyo uso previsto afecte directa o indirectamente la salud de la pob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vergara</cp:lastModifiedBy>
  <dcterms:modified xsi:type="dcterms:W3CDTF">2005-05-06T14:41:18Z</dcterms:modified>
  <cp:revision>46</cp:revision>
  <dc:subject/>
  <dc:title>PowerPoint Presentation</dc:title>
</cp:coreProperties>
</file>