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491C-3676-45B8-BB38-B6BB6EC8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1E70-2591-4E8C-A603-0FBEADD2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9BAD-B658-4B95-BB28-F5E82B3B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AFD9-4474-4C8B-AD25-F8D6FCD2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8D63-E5CD-422E-B2E2-401F7666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92F8-8A6E-4F6D-8C81-55030304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EADD-D06E-49FA-A933-5F4626B3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9B66-2B1B-4AF7-9CB6-32CF0754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4661-61B6-4F2A-A1B8-B32BEF8B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0910-E7D1-4ED1-AC9F-0AF35D42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D07B-A760-49F9-9643-2801A9CF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950F-A7D1-4E38-AA03-F97A88BF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0375-5512-4B46-93FA-B440B4F3C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ontrol de Contaminac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:</a:t>
            </a:r>
            <a:br>
              <a:rPr sz="4400"/>
            </a:b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Aire, Agua y Sue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del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 Fi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tricio Leyton Flor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Estaciones representativa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a.</a:t>
            </a:r>
            <a:r>
              <a:rPr b="0" i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  </a:t>
            </a:r>
            <a:r>
              <a:rPr b="0" i="1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Estación monitora con representatividad poblacional para gas monóxido de carbono (EMRPG):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 Una estación de monitoreo que se encuentra localizada en un área habit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Se entiende como área habitada, a una porción del territorio donde vive habitual y permanentemente un conjunto de perso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primarias de calidad ambiental (ai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aterial Particulado respir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z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hídrido Sulfur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onoxido de car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ioxido de azuf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l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primarias de calidad ambiental(contenid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s valores máximos o mínimos que no podrán ser sobrepas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s valores críticos que determinen situaciones de emerg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l plazo para su entrada en vig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todologías de control y med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Organismos fiscaliz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.S, con firma de Ministro Secretario General de la Presidencia y Ministro Compet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creto señala el ámbito territorial de su apl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 (contenid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Valores y ambito de aplic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todologías de med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Valores que determinana situaciones crític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hídrido sulfuroso para proteger la agricultura ( D.S. 185 del Ministerio de Minería, año 199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 Estudio (norma de calidad según usos para diversas cuenc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Problemas en el S.E.I.A. respecto de protecc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 agrícola y nor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sos en que se cumple norma secundaria de SO2, se discuten otros criterios de protección agrícola fundado en emision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sos en que no existen normas secundarias. Daños meramente patrimon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Superación de norma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uando se entiende superada la norma de calidad ambienta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iterio resolución 1215 (derog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iterio D.S. Nº185 de Minería (sólo norma secundaria de SO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iterios de las nuevas normas primarias ( MP-10, SO2, Nox, COV, CO). En general percentil 99 en normas que no son anuales. Tres años de mediciones, salvo excepciones. Normas anuales distinto, infracción a promedio anual, eventualmente tres años de med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Zonas lat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t)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Zona Latente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: aquélla en que la medición de la concentración de contaminantes en el aire, agua o suelo se sitúa entre el 80% y el 100% del valor de la respectiva norma de calidad ambiental, 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Debe ser declarada por D.S. Ministro respectivo y Minis. Secretario General de la Presid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ciones y antecedentes que se recab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egalmente: Procedimiento a cargo COR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Zonas saturada (art.43 Le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Art. 2. u)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Zona Saturad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: aquélla en que una o más normas de calidad ambiental se encuentran sobrepas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Debe ser declarada por D.S. Ministro respectivo y Minis. Secretario General de la Presidenci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ciones y antecedentes que se recab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egalmente Procedimiento a cargo COR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a50021"/>
                </a:solidFill>
                <a:latin typeface="Tahoma"/>
              </a:rPr>
              <a:t>Normas de Calidad Ambiental y de Emis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Responsabilidad legal monitoreo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y Artículo 33: Los organismos competentes del Estado desarrollarán programas de medición y control de la calidad ambiental del aire, agua y suelo para los efectos de velar por el derecho de vivir en un medio ambiente libre de contaminación.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de E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Art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q.Normas de Emisión: las que establecen la cantidad máxima permitida para un contaminante medida en el efluente de la fuente emisora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de e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Instrumentos de regulación en ausencia de norma de calidad ambient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s de emisión con objeto de cumplir norma de calidad ambien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de emisión como un límite mínimo aún existiendo norma de calidad ambient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 de emisió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Artículo 35.- Toda norma de emisión contendrá, además de lo estipulado por el artículo 28, las siguientes materias:     a) La cantidad máxima permitida para un contaminante medida en el efluente de la fuente emisor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b) Los objetivos de protección ambiental y resultados esperados con la aplicación de la norm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c) El ámbito territorial de su aplicación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d) Los tipos de fuentes reguladas; 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e) Los plazos y niveles programados para el cumplimiento de la norm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 de emisión vig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.S. Nº4, 1992 Ministerio de Salud, regula las emisiones de  fuentes estacionarias puntuales en la R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que regula descargas a alcantarillados. D.S. Nº60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que regula la descarga de residuos industriales líquidos a cursos de agua superficiales, lagos y mar. D.S. Nº9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de Arsén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lumín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de T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versas normas para fuentes m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óv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s de NOx PPDA 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Algunas Normas de emisión en prepa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de emisión para instalaciones de incineración o co-incine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para el estero Caré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de ruido que regula la actividad de la Constr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para calefectores a leñ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 de emisión de ruido (D.S. Nº146 de Min. Segpr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blema de las normas de rui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orma de e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orma de in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n algunos casos se requieren criterios diversos que las normas de emisión no cubren adecuad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Primari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t. 2 o.Norma Primaria de Calidad Ambiental: aquélla que establece los valores de las concentraciones y períodos, máximos o mínimos permisibles de elementos,   compuestos, sustancias, derivados químicos o biológicos, energías, radiaciones,    vibraciones, ruidos o combinación de ellos, cuya presencia o carencia en el ambiente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eda constituir un riesgo para la vida o la salud de la població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t. 2.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.Norma Secundaria de Calidad Ambiental: aquélla que establece los valores de las    concentraciones y períodos, máximos o mínimos permisibles de sustancias,    elementos, energía o combinación de ellos, cuya presencia o carencia en el ambiente pueda constituir un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iesgo para la protección o la conservación del medio ambiente, o la preservación de la naturalez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rt. 32 Ley 19.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Reglamento para la dictación de las normas de calidad y de emisión emanado del  Ministerio Secretaría General de la Presidencia, que reglamenta la dictación de las normas de calidad o de emisión ( D.S Nº93 Min. Sec. Gral. Presidencia año 1995)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ograma priorizado  (marzo de cada añ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 aprueba el Consejo de Ministros. Debe ser fund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ublicidad inform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xpediente con todos los anteced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de calidad ambiental (etapas art 32 ley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is técnico y económic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arrollo de estudios científic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ultas a organismos competentes, públicos y privad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is de las observaciones formuladas y una adecuada publicidad.  Reglamento establecerá además los plazos y formalidades que se requieran para dar cumplimiento a lo dispuesto en este artículo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os criterios para revisar las normas vig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primari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ictación: mediante D.S. Emana del Ministerio Sec. General de la Presidencia y Ministerio de Sal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evio proceso reglado cuyos criterios se señalan en la ley y se detallan en el Reglamento (D.S. Nº93 Min. Segpres año 199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primari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Aplicables en todo el territorio de la República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u cumplimiento se verific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onde existan asentamientos humanos (¿desierto, campo, campamentos mineros?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n los medios cuyo uso previsto afecte directa o indirectamente la salud de la pob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vergara</cp:lastModifiedBy>
  <dcterms:modified xsi:type="dcterms:W3CDTF">2005-05-06T14:41:18Z</dcterms:modified>
  <cp:revision>46</cp:revision>
  <dc:subject/>
  <dc:title>PowerPoint Presentation</dc:title>
</cp:coreProperties>
</file>