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D2A15-E4D8-412E-8AE0-85EF2267B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F90FA-A62F-4CC4-9485-898C618F8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700BA-D904-4D98-A864-C2BBBB6AF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13A29-32B7-4ABF-97AC-C82501400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83D49-6837-4672-91E3-D2E2FC098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20C43-A49B-4F55-9397-4FAA1F8D1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B478F-9141-458E-9315-EC64E8B16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9DF90-F62A-4CAD-A1C6-D6473155A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CBFAF-8EA6-4A4F-A268-C729140FD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9503A-907A-4A99-BA46-0992C257F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99F89-44A5-4406-AA0C-199A85548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AA773-56D9-4E07-8C95-9C5B00AF8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5E50-3E1A-432A-90F8-E740A885D1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a50021"/>
                </a:solidFill>
                <a:latin typeface="Tahoma"/>
              </a:rPr>
              <a:t>Responsabilidad por </a:t>
            </a:r>
            <a:br>
              <a:rPr sz="5400"/>
            </a:br>
            <a:r>
              <a:rPr b="0" lang="es-CL" sz="5400" spc="-1" strike="noStrike">
                <a:solidFill>
                  <a:srgbClr val="a50021"/>
                </a:solidFill>
                <a:latin typeface="Tahoma"/>
              </a:rPr>
              <a:t>Daño Ambiental</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tricio Leyton Florez</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Javier Vergara Fisher</a:t>
            </a: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2. Relación de causalidad</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general se mantiene el requisito de la causalidad (legislación chilen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ay casos de presunción de causalidad (legislación aleman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ERCLA (EUA), son responsables solidariamente: el dueño y operador del sitio, cualquier persona que hubiera solicitado el transporte o disposiciones de residuos peligrosos, cualquiera que hubiera transportado las sustancias.</a:t>
            </a:r>
            <a:endParaRPr b="0" lang="en-US" sz="2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3. Culpabilidad</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
          <p:cNvSpPr/>
          <p:nvPr/>
        </p:nvSpPr>
        <p:spPr>
          <a:xfrm>
            <a:off x="838080" y="2209680"/>
            <a:ext cx="8001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onsabilidad estric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onsabilidad por culpa</a:t>
            </a:r>
            <a:endParaRPr b="0" lang="en-US" sz="2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sponsabilidad estricta</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rectiva Unión Europea, respecto de actividades listadas, con excepciones cumplimiento de normativa, acredite actuación diligente.</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lgunas legislaciones latinoamericanas (ley de residuos argentina, Código Civil Mexicano). En general actividades peligrosas.</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tados Unidos CERCLA. Residuos peligrosos. </a:t>
            </a:r>
            <a:endParaRPr b="0" lang="en-US" sz="2800" spc="-1" strike="noStrike">
              <a:solidFill>
                <a:srgbClr val="000000"/>
              </a:solidFill>
              <a:latin typeface="Times New Roman"/>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egislación chilena: responsabilidad por culp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Hecho culpable o doloso: </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esunciones de culpa:</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Art. 52 presunción de culpa:</a:t>
            </a:r>
            <a:r>
              <a:rPr b="1" lang="es-CL" sz="1400" spc="-1" strike="noStrike">
                <a:solidFill>
                  <a:srgbClr val="000000"/>
                </a:solidFill>
                <a:latin typeface="Tahoma"/>
                <a:ea typeface="Times New Roman"/>
              </a:rPr>
              <a:t>Se presume legalmente la responsabilidad del autor del daño ambiental,si existe infracción a las normas de calidad ambiental, a las normas de emisiones, a los planes de prevención o de descontaminación, a las regulaciones especiales para los casos de emergencia ambiental o a las normas sobre protección, preservación o conservación ambientales, establecidas en la presente ley o en otras disposiciones legales o reglamentarias.</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ea typeface="Times New Roman"/>
              </a:rPr>
              <a:t>Sanciones de la administración por infracción a sus normas.</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ea typeface="Times New Roman"/>
              </a:rPr>
              <a:t>Infracción de nomas o sobre usos y hábitos profesionales.</a:t>
            </a:r>
            <a:endParaRPr b="0" lang="en-US" sz="1400" spc="-1" strike="noStrike">
              <a:solidFill>
                <a:srgbClr val="000000"/>
              </a:solidFill>
              <a:latin typeface="Times New Roman"/>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Abuso del derecho ( C.C. Argentino, el ejercicio abusivo del derecho constituye una fuente de responsabilidad por daño ambiental).</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cumplimiento de normas no exime del deber de actuar de modo de evitar daños a terceros o al medio ambiente en este caso.</a:t>
            </a:r>
            <a:endParaRPr b="0" lang="en-US" sz="16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4. </a:t>
            </a:r>
            <a:r>
              <a:rPr b="0" lang="en-US" sz="4400" spc="-1" strike="noStrike">
                <a:solidFill>
                  <a:srgbClr val="a50021"/>
                </a:solidFill>
                <a:latin typeface="Tahoma"/>
              </a:rPr>
              <a:t>Daño  Ambiental</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Libro Verde 1993: cualquier degradación física, química o biológica importante del medio ambie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Directiva Europea (2004):</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a la biodiversidad, los daños que afecten grave y adversamente al estado de conservación de lal biodiversidad (áreas protegidas en listad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a las agua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del suelo...</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 </a:t>
            </a:r>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Daño  Ambiental</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toda pérdida, disminución, detrimento o menoscabo significativo   inferido al medio ambiente o a uno o más de sus componentes(art. 2 letra e.)</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Medio ambiente: e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 </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Significativo (art.11 letras b,c y e)</a:t>
            </a:r>
            <a:endParaRPr b="0" lang="en-US" sz="2000" spc="-1" strike="noStrike">
              <a:solidFill>
                <a:srgbClr val="000000"/>
              </a:solidFill>
              <a:latin typeface="Times New Roman"/>
            </a:endParaRPr>
          </a:p>
          <a:p>
            <a:pPr lvl="1" marL="735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Límites al concepto de daño ambiental</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s meramente patrimonial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rés particular vs. Interés gener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años a la salud ¿es daño ambienta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s irreversibles (problema con reparación compensato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se afecte un recurso que rige y condiciona la existencia y la vida en sus múltiples manifestacio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 no significtivo</a:t>
            </a:r>
            <a:endParaRPr b="0" lang="en-US" sz="28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Excepción a acción de daño ambiental(art.55)</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ando los responsables de fuentes emisoras sujetas a planes de prevención o descontaminación, o a regulaciones especiales para situaciones de emergencia, según corresponda, acreditaren estar dando íntegro y cabal cumplimiento  a las obligaciones establecidas en tales planes o regulaciones, sólo cabrá la acción indemnizatoria ordinaria deducida por el personalmente afectado, a menos que el daño provenga de causas no contempladas en el respectivo plan, en cuyo caso se aplicará lo dispuesto en el artículo anterio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e refiere sólo a daño ambient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Problemas: residuos generador por equipos de control de emisiones; transporte ácido sulfúrico generado en plantas de ácid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s de Responsabilidad</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Judicial: </a:t>
            </a:r>
            <a:r>
              <a:rPr b="0" lang="en-US" sz="2800" spc="-1" strike="noStrike">
                <a:solidFill>
                  <a:srgbClr val="000000"/>
                </a:solidFill>
                <a:latin typeface="Tahoma"/>
              </a:rPr>
              <a:t>En el caso chileno se interponen ante los Tribunales de Justicia ( hay excepcionales en casos en que órganos administrativos ordenan las medidas reparadoras, Serv. Salu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dministrativa: </a:t>
            </a:r>
            <a:r>
              <a:rPr b="0" lang="en-US" sz="2800" spc="-1" strike="noStrike">
                <a:solidFill>
                  <a:srgbClr val="000000"/>
                </a:solidFill>
                <a:latin typeface="Tahoma"/>
              </a:rPr>
              <a:t>En  europa y otros países latinoamericanos es potestad de la administración ( Colombia, Perú, Bolivia, Argentina) o sistemas en que es potestad de los tribunales pero también la administración</a:t>
            </a:r>
            <a:endParaRPr b="0" lang="en-US" sz="28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itularidad de la acción (art.54)</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ersonas naturales o jurídicas, públicas o privadas, que hayan sufrido el daño o perjuicio.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municipalidad por los hechos ocurridos en sus comuna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Estado por intermedio del Consejo de Defensa del Estado.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alquier persona puede recurrir al municipio en cuyo ámbito se desarrollan las actividades que causen daños ambientales, para que en su representación deduzca la acción. Municipio tiene plazo de 45 días para ejercer la acción, si decidiere no hacerlo, dictará una resolución fundada que así lo indique. Si no se pronuncia eso la hace solidariamente responsable.</a:t>
            </a:r>
            <a:endParaRPr b="0" lang="en-US" sz="20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30456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ponsabilidad por daño ambiental</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fontScale="85000"/>
          </a:bodyPr>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Artículo 3 Ley No 19300:</a:t>
            </a:r>
            <a:endParaRPr b="0" lang="en-US" sz="24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n perjuicio de las sanciones que señale la ley, todo el que culposa o dolosamente cause daño al medio ambiente, estará obligado a repararlo materialmente, a su costo, si ello fuere posible, e indemnizarlo en conformidad a la ley.</a:t>
            </a:r>
            <a:endParaRPr b="0" lang="en-US" sz="2000" spc="-1" strike="noStrike">
              <a:solidFill>
                <a:srgbClr val="000000"/>
              </a:solidFill>
              <a:latin typeface="Times New Roman"/>
            </a:endParaRPr>
          </a:p>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Artículo 51 Ley No 19300:</a:t>
            </a:r>
            <a:endParaRPr b="0" lang="en-US" sz="24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Todo el que culposa o dolosamente cause daño ambiental responderá del mismo en conformidad a la presente ley. </a:t>
            </a:r>
            <a:endParaRPr b="0" lang="en-US" sz="20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No obstante, las normas sobre responsabilidad por daño al medio ambiente contenidas en leyes especiales prevalecerán sobre las de la presente ley. </a:t>
            </a:r>
            <a:endParaRPr b="0" lang="en-US" sz="20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n perjuicio de lo anterior, en lo no previsto por esta ley o por leyes especiales se aplicarán las disposiciones del Título XXXV del Libro IV del Código Civil. </a:t>
            </a:r>
            <a:endParaRPr b="0" lang="en-US" sz="2000" spc="-1" strike="noStrike">
              <a:solidFill>
                <a:srgbClr val="000000"/>
              </a:solidFill>
              <a:latin typeface="Times New Roman"/>
            </a:endParaRPr>
          </a:p>
          <a:p>
            <a:pPr marL="49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Prescripción de la acción ambiental</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inco años desde la manifestación evidente del dañ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Tanto la acción civil como la acción reparatori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Vigencia de la acción ambiental en el tiempo</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gencia de normas sobre daño ambiental a partir de los 90 días de la vigencia de la ley.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No retroactividad de la ley. (caso europeo y chile vs. CERCL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ituaciones de daño ambient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Ocurridas integramente antes de le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Iniciadas ante de la vigencia de la ley 19.300, y continúan bajo la vigencia de la le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inicían y terminan durante la vigencia de la ley 19.300</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mposición de sanciones conjuntamente con acoger acción ambiental</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rtículo 57: Cuando el juez que acoja una acción ambiental o indemnizatoria, deducida en conformidad con lo prevenido en el artículo 53, establezca en su sentencia que el responsable ha incurrido en alguna de las conductas descritas en el inciso primero del artículo anterior, impondrá de oficio alguna de las sanciones que este último enumer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rt. 56): Sanciones son:  a)Amonestación;  b)Multas de hasta mil unidades tributarias mensuales, y c)Clausura temporal o definitiv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n todo caso suspensión de las actividades o plazo para atenerse a la norma.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 no lo hacen en plazo Multa diari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imes New Roman"/>
              </a:rPr>
              <a:t>Procedimiento</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Artículo 60: Será competente para conocer de las causas que se promuevan por infracción de la presente ley, el juez de letras en lo civil del lugar en que se origine el hecho que causa el daño, o el del domicilio del afectado a elección de este último.</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Artículo 61º: Las causas a que se refiere el artículo anterior se tramitarán conforme al procedimiento sumario</a:t>
            </a:r>
            <a:r>
              <a:rPr b="0" lang="es-C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imes New Roman"/>
              </a:rPr>
              <a:t>Procedimiento</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rmas prueba pericial: informe servicios públicos. Lista peritos, plazos especiales observa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nderación prueba: Sana crítica. Cualquier medio de prueba además de los del C.P.C.</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stitución de procedimiento.</a:t>
            </a: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Prelación de regímen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es especi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 19.30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ódigo Civil (título XXXV, del Libro IV Código Civil)</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t. 2314. El que ha cometido un delito o cuasidelito que ha inferido daño a otro, es obligado a la indemnización; sin perjuicio de la pena que le impongan las leyes por el delito o cuasidelito.</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rtículo 53</a:t>
            </a:r>
            <a:r>
              <a:rPr b="0" lang="es-CL" sz="4400" spc="-1" strike="noStrike">
                <a:solidFill>
                  <a:srgbClr val="a50021"/>
                </a:solidFill>
                <a:latin typeface="Tahoma"/>
              </a:rPr>
              <a:t> Ley 19.300</a:t>
            </a:r>
            <a:endParaRPr b="0" lang="en-US" sz="4400" spc="-1" strike="noStrike">
              <a:solidFill>
                <a:srgbClr val="000000"/>
              </a:solidFill>
              <a:latin typeface="Times New Roman"/>
            </a:endParaRPr>
          </a:p>
        </p:txBody>
      </p:sp>
      <p:sp>
        <p:nvSpPr>
          <p:cNvPr id="48" name=""/>
          <p:cNvSpPr/>
          <p:nvPr/>
        </p:nvSpPr>
        <p:spPr>
          <a:xfrm>
            <a:off x="990720" y="2057400"/>
            <a:ext cx="71625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ido daño ambiental, se concede acción para obtener la reparación del medio ambiente dañado, lo que no obsta al ejercicio de la acción indemnizatoria ordinaria por el directamente afectado. </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cciones que nacen del daño ambiental (art.53)</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Acción indemnizatoria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Obligación de dar</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Acción ambiental o repatoria (reparación en especie)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Obligación de hacer</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cción reparatoria</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Reparación: la acción de reponer el medio ambiente o uno o más de sus componentes a una calidad similar a la que tenían con anterioridad al daño causado o, en caso de no ser ello posible, restablecer sus propiedades básicas ( art. 2. Letra u); </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Concepto de reparación del daño, está también en legislación Mexicana, Argentina (en la Constitución), Colombiana y otras. </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n general no contemplan criterios para definir como reparar. Salvo art. 61 de Reglamento S.E.I.A. (en las mismas </a:t>
            </a:r>
            <a:r>
              <a:rPr b="0" lang="es-ES" sz="2400" spc="-1" strike="noStrike">
                <a:solidFill>
                  <a:srgbClr val="000000"/>
                </a:solidFill>
                <a:latin typeface="Tahoma"/>
                <a:ea typeface="Times New Roman"/>
              </a:rPr>
              <a:t>áreas donde los efectos se presenten).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cción reparatori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rectiva Unión Europea</a:t>
            </a:r>
            <a:endParaRPr b="0" lang="en-US" sz="3200" spc="-1" strike="noStrike">
              <a:solidFill>
                <a:srgbClr val="000000"/>
              </a:solidFill>
              <a:latin typeface="Times New Roman"/>
            </a:endParaRPr>
          </a:p>
          <a:p>
            <a:pPr lvl="2" marL="1143000" indent="-22860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ablece criterios de reparación.</a:t>
            </a:r>
            <a:endParaRPr b="0" lang="en-US" sz="2400" spc="-1" strike="noStrike">
              <a:solidFill>
                <a:srgbClr val="000000"/>
              </a:solidFill>
              <a:latin typeface="Times New Roman"/>
            </a:endParaRPr>
          </a:p>
          <a:p>
            <a:pPr lvl="3" marL="1600200" indent="-22860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reparación primaria</a:t>
            </a: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reparación complementaria. </a:t>
            </a: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paración compensatoria (en general está ausente en legislaciones latinoamericanas, excepto legislación colombiana).</a:t>
            </a: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erdidas provisionales.</a:t>
            </a:r>
            <a:endParaRPr b="0" lang="en-US" sz="20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lementos de la RPDA</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pacid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exo Cau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lpabil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año</a:t>
            </a:r>
            <a:endParaRPr b="0" lang="en-US" sz="3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1. Capacidad</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 hay normativa especi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n el caso europeo se requiere ser de las actividades expramente listadas en un anexo de la directiva Europea.</a:t>
            </a:r>
            <a:endParaRPr b="0" lang="en-US" sz="32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5-04-29T04:03:13Z</dcterms:modified>
  <cp:revision>38</cp:revision>
  <dc:subject/>
  <dc:title>PowerPoint Presentation</dc:title>
</cp:coreProperties>
</file>