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581D7-9BF0-454E-B809-CD44E4EC4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F1AF-F9BE-4DD7-9C00-569C2032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CA3D2-18A6-4A8F-BE82-E52CBEC7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597E-8A02-490D-B960-26A8138F3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6308-17AB-417B-B2AA-F18B4989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9819-3DBF-4939-A8D3-19A2991F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B36AC-D83F-4D2D-BED1-41A84E89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7F71-5ED8-4A3E-A71D-57C1F0ADD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56352-871D-43AC-8A9A-E04EA992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DF8F-71C5-454C-97CE-2BB83E89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FE1B-E5A0-4A38-99C9-A9963C2F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3053-15F2-4508-87E8-E89F396F8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B6CB-D13A-48EE-90F7-2733BEE4B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15T14:46:47Z</dcterms:modified>
  <cp:revision>63</cp:revision>
  <dc:subject/>
  <dc:title>PowerPoint Presentation</dc:title>
</cp:coreProperties>
</file>