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D659D-1CEA-4F15-9002-3F8F40596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B7293-FFFA-47C0-9963-BE7696851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7D6F3-2B3C-4EDD-9F4F-053CF7C33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E354B-589F-436C-AF0C-1F7D979A6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65FD3-7F79-4D93-98E6-73C499F2E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FBB64-E332-4093-AFC9-3150EF4FC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D5F2D-3614-44E4-ACE8-AE28B24E2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F49CE-3CCC-49C9-A923-BAA8872B6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62058-D89C-46F2-9DF7-06C2C6F62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8F783-06C4-43EE-904B-A906240D0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B1D6B-E55B-4162-876F-53E7AD86E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1E7B3-B46F-46F9-8428-81F9675E9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8E7A9-4E30-4879-921D-5D82C84990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Sistema de Evaluaci</a:t>
            </a:r>
            <a:r>
              <a:rPr b="0" lang="es-ES" sz="4400" spc="-1" strike="noStrike">
                <a:solidFill>
                  <a:srgbClr val="a50021"/>
                </a:solidFill>
                <a:latin typeface="Tahoma"/>
              </a:rPr>
              <a:t>ón de Impacto Ambiental</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lorez</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Modificación de proyecto (temas delicado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umento en la capacidad de producción del proyecto (caso de Valdivi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n aumento de capacidad de proyecto, uso de materias primas o residuos no evaluados anteriormente (criterios peligrosida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odificación de proyecto que disminuyen  los impactos (¿deben evaluarse nuevos impa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Modificación de proyecto (procedimiento)</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sarrollar el proyecto, después defender el criterio en caso de dudas o ante proceso de fiscalizac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evio desarrollar el proyecto consultar a la autoridad (no hay garantías, mini evaluación).</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Como se someten los proyectos</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Declaración de Impacto Ambiental (regla general)</a:t>
            </a:r>
            <a:endParaRPr b="0" lang="en-US" sz="2400" spc="-1" strike="noStrike">
              <a:solidFill>
                <a:srgbClr val="000000"/>
              </a:solidFill>
              <a:latin typeface="Times New Roman"/>
            </a:endParaRPr>
          </a:p>
          <a:p>
            <a:pPr lvl="1" marL="735480" indent="-28296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el documento descriptivo de una actividad o proyecto que se pretende realizar, o de las modificaciones que se le introducirán,  otorgado bajo juramento por el respectivo titular, cuyo contenido permite al organismo competente evaluar si su impacto ambiental se ajusta a las normas ambientales vigentes ( art. 2 letra f); </a:t>
            </a:r>
            <a:endParaRPr b="0" lang="en-US" sz="16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Estudio de Impacto Ambiental</a:t>
            </a:r>
            <a:endParaRPr b="0" lang="en-US" sz="24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el documento que describe pormenorizadamente las características de un proyecto o actividad que se pretenda llevar a cabo o su modificación. Debe proporcionar antecedentes fundados para la predicción, identificación e interpretación de su impacto ambiental y describir la o las acciones que ejecutará para impedir o minimizar sus efectos significativamente adversos (art. 2 i);</a:t>
            </a:r>
            <a:r>
              <a:rPr b="1" lang="es-CL" sz="2000" spc="-1" strike="noStrike">
                <a:solidFill>
                  <a:srgbClr val="000000"/>
                </a:solidFill>
                <a:latin typeface="Tahoma"/>
                <a:ea typeface="Times New Roman"/>
              </a:rPr>
              <a:t> </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Cuando deben Presentar un E.I.A.</a:t>
            </a:r>
            <a:r>
              <a:rPr b="0" lang="en-US" sz="3200" spc="-1" strike="noStrike">
                <a:solidFill>
                  <a:srgbClr val="a50021"/>
                </a:solidFill>
                <a:latin typeface="Tahoma"/>
              </a:rPr>
              <a:t> </a:t>
            </a:r>
            <a:endParaRPr b="0"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	</a:t>
            </a:r>
            <a:r>
              <a:rPr b="1" lang="en-US" sz="2000" spc="-1" strike="noStrike">
                <a:solidFill>
                  <a:srgbClr val="000000"/>
                </a:solidFill>
                <a:latin typeface="Tahoma"/>
              </a:rPr>
              <a:t>Proyectos deben presentar E.I.A. si generan o presentan al menos uno de los siguientes efectos, caract. circunst(art.11)</a:t>
            </a:r>
            <a:endParaRPr b="0" lang="en-US" sz="2000" spc="-1" strike="noStrike">
              <a:solidFill>
                <a:srgbClr val="000000"/>
              </a:solidFill>
              <a:latin typeface="Times New Roman"/>
            </a:endParaRPr>
          </a:p>
          <a:p>
            <a:pPr marL="591120" indent="-591120">
              <a:lnSpc>
                <a:spcPct val="90000"/>
              </a:lnSpc>
              <a:spcBef>
                <a:spcPts val="4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Riesgo para la salud de la población, debido a la cantidad y calidad de efluentes, emisiones o residuos; (reg. art. 5 y 7) </a:t>
            </a:r>
            <a:endParaRPr b="0" lang="en-US" sz="1800" spc="-1" strike="noStrike">
              <a:solidFill>
                <a:srgbClr val="000000"/>
              </a:solidFill>
              <a:latin typeface="Times New Roman"/>
            </a:endParaRPr>
          </a:p>
          <a:p>
            <a:pPr marL="591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1120" indent="-591120">
              <a:lnSpc>
                <a:spcPct val="90000"/>
              </a:lnSpc>
              <a:spcBef>
                <a:spcPts val="4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Efectos adversos significativos sobre la cantidad y calidad de los recursos  naturales renovables, incluidos el suelo, agua y aire; (reg. Art. 6 y 7) </a:t>
            </a:r>
            <a:endParaRPr b="0" lang="en-US" sz="1800" spc="-1" strike="noStrike">
              <a:solidFill>
                <a:srgbClr val="000000"/>
              </a:solidFill>
              <a:latin typeface="Times New Roman"/>
            </a:endParaRPr>
          </a:p>
          <a:p>
            <a:pPr marL="591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1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Para los efectos de evaluar el riesgo indicado en la letra a) y los efectos adversos señalados en la letra b), se considerará lo establecido en las normas de calidad ambiental y de emisión vigentes. A falta de tales normas, se utilizarán como referencia las vigentes en los Estados que señale el reglamento.</a:t>
            </a:r>
            <a:endParaRPr b="0" lang="en-US" sz="1800" spc="-1" strike="noStrike">
              <a:solidFill>
                <a:srgbClr val="000000"/>
              </a:solidFill>
              <a:latin typeface="Times New Roman"/>
            </a:endParaRPr>
          </a:p>
          <a:p>
            <a:pPr marL="591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Cuando deben Presentar un E.I.A.</a:t>
            </a:r>
            <a:endParaRPr b="0" lang="en-US" sz="4000" spc="-1" strike="noStrike">
              <a:solidFill>
                <a:srgbClr val="000000"/>
              </a:solidFill>
              <a:latin typeface="Times New Roman"/>
            </a:endParaRPr>
          </a:p>
        </p:txBody>
      </p:sp>
      <p:sp>
        <p:nvSpPr>
          <p:cNvPr id="69"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Reasentamiento de comunidades humanas, o alteración significativa de los  sistemas de vida y costumbres de grupos humanos; (art. 8 Reg.).</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 </a:t>
            </a:r>
            <a:r>
              <a:rPr b="1" lang="es-CL" sz="1800" spc="-1" strike="noStrike">
                <a:solidFill>
                  <a:srgbClr val="000000"/>
                </a:solidFill>
                <a:latin typeface="Tahoma"/>
                <a:ea typeface="Times New Roman"/>
              </a:rPr>
              <a:t>Localización próxima a población, recursos y áreas protegidas susceptibles de ser  afectados, así como el valor ambiental del territorio en que se pretende emplazar; (art. 9 Reg.). </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Alteración significativa, en términos de magnitud o duración, del valor paisajístico o  turístico de una zona, y (art. 10 Reg.).</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Alteración de monumentos, sitios con valor antropológico, arqueológico, histórico y, en general, los pertenecientes al patrimonio cultural. (art. 11 Reg). </a:t>
            </a:r>
            <a:endParaRPr b="0" lang="en-US" sz="1800" spc="-1" strike="noStrike">
              <a:solidFill>
                <a:srgbClr val="000000"/>
              </a:solidFill>
              <a:latin typeface="Times New Roman"/>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Problemas</a:t>
            </a:r>
            <a:r>
              <a:rPr b="0" lang="es-CL" sz="4000" spc="-1" strike="noStrike">
                <a:solidFill>
                  <a:srgbClr val="a50021"/>
                </a:solidFill>
                <a:latin typeface="Tahoma"/>
              </a:rPr>
              <a:t>:</a:t>
            </a:r>
            <a:br>
              <a:rPr sz="4000"/>
            </a:br>
            <a:r>
              <a:rPr b="0" lang="en-US" sz="4000" spc="-1" strike="noStrike">
                <a:solidFill>
                  <a:srgbClr val="a50021"/>
                </a:solidFill>
                <a:latin typeface="Tahoma"/>
              </a:rPr>
              <a:t>Defina si las ss. Actividades deben someterse al S.E.I.A.</a:t>
            </a:r>
            <a:endParaRPr b="0" lang="en-US" sz="40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arrollo de un condominio privado de 20 casas de 140 m2 c/u, a orillas del mar con un peque</a:t>
            </a:r>
            <a:r>
              <a:rPr b="0" lang="es-ES" sz="2800" spc="-1" strike="noStrike">
                <a:solidFill>
                  <a:srgbClr val="000000"/>
                </a:solidFill>
                <a:latin typeface="Tahoma"/>
              </a:rPr>
              <a:t>ño enbarcadero para naves de uso recreativ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impieza de un sitio de dos hectáreas donde hace años funcionó un relleno sanitari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yecto para extraer áridos en una cantera, en una cantidad de 50.000 m3 en un añ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a50021"/>
                </a:solidFill>
                <a:latin typeface="Tahoma"/>
              </a:rPr>
              <a:t>Problemas: </a:t>
            </a:r>
            <a:r>
              <a:rPr b="0" lang="en-US" sz="3600" spc="-1" strike="noStrike">
                <a:solidFill>
                  <a:srgbClr val="a50021"/>
                </a:solidFill>
                <a:latin typeface="Tahoma"/>
              </a:rPr>
              <a:t>Defina si las ss. Actividades deben someterse al S.E.I.A.</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odificación a un Hotel aprobado en una zona de interés turístico, en la cual se mantiene la capacidad del hotel, pero se cambio su diseño para hacerlo más armónica con el paisaje y la arquitectura local.</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a Central Térmica tiene una autorización para utilizar gas natural, y se pretende utilizar petróleo. Eso hace que sus emisiones de MP-10 aumenten de cero a media tonelada día, y de SO2 de cero a una y medio tonelada día.</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a50021"/>
                </a:solidFill>
                <a:latin typeface="Tahoma"/>
              </a:rPr>
              <a:t>Problemas: </a:t>
            </a:r>
            <a:r>
              <a:rPr b="0" lang="en-US" sz="4000" spc="-1" strike="noStrike">
                <a:solidFill>
                  <a:srgbClr val="a50021"/>
                </a:solidFill>
                <a:latin typeface="Tahoma"/>
              </a:rPr>
              <a:t>Defina si las ss. Actividades deben someterse al S.E.I.A.</a:t>
            </a:r>
            <a:endParaRPr b="0" lang="en-US" sz="40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 un liceo en una zona rural, un un terreno de 1,5 hc. que pretende atender a 500 alumnos, y con una infraestructura de 3.000 m2.</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l mismo liceo en la comuna de la Pintana.</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 la casa para Guardaparque, y una pequeña hosteria y miradores en el Santuario de la Naturaleza de Villa Paulin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50021"/>
                </a:solidFill>
                <a:latin typeface="Tahoma"/>
              </a:rPr>
              <a:t>Problemas: Define como deben someterse al S.E.I.A, los ss. proyectos</a:t>
            </a:r>
            <a:endParaRPr b="0" lang="en-US" sz="4000" spc="-1" strike="noStrike">
              <a:solidFill>
                <a:srgbClr val="000000"/>
              </a:solidFill>
              <a:latin typeface="Times New Roman"/>
            </a:endParaRPr>
          </a:p>
        </p:txBody>
      </p:sp>
      <p:sp>
        <p:nvSpPr>
          <p:cNvPr id="77"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trucción de una planta para producir papel tissue, que se ubicará en una zona industrial exclusiva. Sus emisiones son de magnitud menor en relación a otras fuentes de la zona. Utiliza papel reciclado como insumo, y tiene una importante afluencia de camiones, en una zona construida con buena vialidad. Sus vecinos son esencialmente otras industrias dentro del barrio indusitrial. Los residuos líquidos se descargan al alcantarillado, debidamente tratados cumplimiendo la norma de descarga exist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50021"/>
                </a:solidFill>
                <a:latin typeface="Tahoma"/>
              </a:rPr>
              <a:t>Problemas: Define como deben someterse a E.I.A, los ss. Proyectos y porque</a:t>
            </a:r>
            <a:endParaRPr b="0" lang="en-US" sz="4000" spc="-1" strike="noStrike">
              <a:solidFill>
                <a:srgbClr val="000000"/>
              </a:solidFill>
              <a:latin typeface="Times New Roman"/>
            </a:endParaRPr>
          </a:p>
        </p:txBody>
      </p:sp>
      <p:sp>
        <p:nvSpPr>
          <p:cNvPr id="7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a empresa electrica tiene aprobada una planta termoeléctrica a gas natural en la Sexta Región, cercana a zonas agrícolas, pero todavía no ha empezado su construcción. Fruto de la presente crisis, decide modificarla para construir en su lugar una planta que utilice indistintamente carbón o petcoke que tendrá entre un 2 y un 4% de azufre. Sus emisiones de material particulado serán de dos toneladas día, y sus emisiones de S02, será de 40 toneladas dí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Sistema de Evaluación de Impacto Ambiental</a:t>
            </a:r>
            <a:endParaRPr b="0" lang="en-US" sz="4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ey 19.300 (arts. 8 a 31)</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imer Reglamento E.I.A. ( D.S. Nº30 Min. Segpres 1997).</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odif. Reglamento, texto refundido D.S. Nº 95/2003 Minsegp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50021"/>
                </a:solidFill>
                <a:latin typeface="Tahoma"/>
              </a:rPr>
              <a:t>Problema:Define como deben someterse a E.I.A, los ss. Proyectos y porque (cont.).</a:t>
            </a:r>
            <a:endParaRPr b="0" lang="en-US" sz="4000" spc="-1" strike="noStrike">
              <a:solidFill>
                <a:srgbClr val="000000"/>
              </a:solidFill>
              <a:latin typeface="Times New Roman"/>
            </a:endParaRPr>
          </a:p>
        </p:txBody>
      </p:sp>
      <p:sp>
        <p:nvSpPr>
          <p:cNvPr id="81"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El SO2, puede ser causante de lluvia ácida. No genera grandes cantidades de ceniza como residuo sólido, pero estas deben ser depositados en un relleno construido para tal efecto, y es necesario verificar si con el viento imperante estas pueden dispersarse.  </a:t>
            </a:r>
            <a:endParaRPr b="0" lang="en-US" sz="32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studio de Impacto Ambiental</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I.A. Contenidos (art. 12 ley y reg.)</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dice</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umen ejec. E.I.A.</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ripción de proyecto (fase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n de cumplimiento de legislación ambiental aplicable, tb. Permiso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ripción efectos, carácterísticas o circunstancias que en virtud del art. 11 ameritan presentación de un E.I.A</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Linea base (descripción área de influencia en relación a efectos del art. 11).</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redicción y evaluación del impacto ambiental del proyecto o actividad.</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I.A.: Contenido (art. 12 ley y reg.)</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lan de Medidas de mitigación, reparación o compensación según corresponda. Además en caso de ser necesario un plan  de preveción de riesgo y control de accidente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lan de seguimiento de variables ambientales relevante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Ficha resumen para ciertas letra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cciones relativas a participación ciudadanas realizadas previo a la presentación del E.I.A., programa a desarrollar.</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pendice documentación ( información de laboratorios y nombres de profesionales que participaron en E.I.A.).</a:t>
            </a: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E.I.A.: Relaciones entre sus capítulo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hay una adecuada descripción no se puede saber que áreas afecta (área de influencia).</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hay una adecuada línea base, no puede saber si se afectará o no el medio ambient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hay una adecuada descripción de línea base, se pueden imputar responsabilidad por temas que fueron anteriores o fueron responsabilidad de otro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na buena evaluación de impactos permite definir si se cumple legislación.</a:t>
            </a:r>
            <a:endParaRPr b="0" lang="en-US" sz="24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na buena evaluación de impactos permite establecer plan de seguimiento adecuado</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a50021"/>
                </a:solidFill>
                <a:latin typeface="Tahoma"/>
                <a:ea typeface="Times New Roman"/>
              </a:rPr>
              <a:t>Plan de Medidas de mitigación, reparación o compensación</a:t>
            </a:r>
            <a:endParaRPr b="0" lang="en-US" sz="40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on distintas.</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ada una aplica para diversa situación.</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ada uno tiene requisitos específicos para que sea pertinente su aplicación. </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refieren a efectos, características o circunstancias que generan la necesidad de un E.I.A.: </a:t>
            </a:r>
            <a:r>
              <a:rPr b="1" lang="es-ES" sz="3200" spc="-1" strike="noStrike">
                <a:solidFill>
                  <a:srgbClr val="000000"/>
                </a:solidFill>
                <a:latin typeface="Tahoma"/>
              </a:rPr>
              <a:t>SON AMBIENTA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Mitigación (art.58)</a:t>
            </a:r>
            <a:r>
              <a:rPr b="0" lang="es-ES" sz="4400" spc="-1" strike="noStrike">
                <a:solidFill>
                  <a:srgbClr val="a50021"/>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58.-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mitigación tienen por finalidad evitar o disminuir  los efectos adversos del proyecto o actividad, cualquiera sea su fase de ejecución. Se expresarán en un Plan de Medidas de Mitigación que deberá considerar , a lo menos, una de las siguientes medidas:</a:t>
            </a:r>
            <a:endParaRPr b="0" lang="en-US" sz="2000" spc="-1" strike="noStrike">
              <a:solidFill>
                <a:srgbClr val="000000"/>
              </a:solidFill>
              <a:latin typeface="Times New Roman"/>
            </a:endParaRPr>
          </a:p>
          <a:p>
            <a:pPr lvl="1" marL="735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ea typeface="Times New Roman"/>
              </a:rPr>
              <a:t>a) Las que impidan o eviten completamente el efecto adverso significativo, mediante la no ejecución de una obra o acción, o de alguna de sus partes</a:t>
            </a:r>
            <a:r>
              <a:rPr b="0" lang="es-ES_tradnl" sz="1800" spc="-1" strike="noStrike">
                <a:solidFill>
                  <a:srgbClr val="000000"/>
                </a:solidFill>
                <a:latin typeface="Tahoma"/>
                <a:ea typeface="Times New Roman"/>
              </a:rPr>
              <a:t>.</a:t>
            </a:r>
            <a:endParaRPr b="0" lang="en-US" sz="1800" spc="-1" strike="noStrike">
              <a:solidFill>
                <a:srgbClr val="000000"/>
              </a:solidFill>
              <a:latin typeface="Times New Roman"/>
            </a:endParaRPr>
          </a:p>
          <a:p>
            <a:pPr lvl="1" marL="735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Las que minimizan o disminuyen el efecto adverso significativo, median­te una adecuada limitación o reducción de la magnitud o duración de la obra o acción, o de alguna de sus partes, o a través de la implementación de medidas específicas</a:t>
            </a:r>
            <a:r>
              <a:rPr b="1" lang="es-ES_tradnl" sz="2000" spc="-1" strike="noStrike">
                <a:solidFill>
                  <a:srgbClr val="000000"/>
                </a:solidFill>
                <a:latin typeface="Tahoma"/>
                <a:ea typeface="Times New Roman"/>
              </a:rPr>
              <a:t>.</a:t>
            </a:r>
            <a:r>
              <a:rPr b="1" lang="en-GB"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reparacion</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	</a:t>
            </a:r>
            <a:r>
              <a:rPr b="0" lang="es-CL" sz="2000" spc="-1" strike="noStrike">
                <a:solidFill>
                  <a:srgbClr val="000000"/>
                </a:solidFill>
                <a:latin typeface="Tahoma"/>
                <a:ea typeface="Arial"/>
              </a:rPr>
              <a:t>Artículo 59.-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reparación y/o restauración tienen por finalidad reponer uno o más de los componentes o elementos del medio ambiente a una calidad similar a la que tenían con anteriori­dad al daño causado o, en caso de no ser ello posible, restable­cer sus propiedades básica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Compensación</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60.-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compensación tienen por finalidad producir o generar un efecto positivo alternativo y equivalente a un efecto adverso identificado.</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	</a:t>
            </a:r>
            <a:r>
              <a:rPr b="0" lang="es-ES_tradnl" sz="2000" spc="-1" strike="noStrike">
                <a:solidFill>
                  <a:srgbClr val="000000"/>
                </a:solidFill>
                <a:latin typeface="Univers"/>
                <a:ea typeface="Times New Roman"/>
              </a:rPr>
              <a:t>Dichas medidas se expresarán en un Plan de Medidas de Compensación, el que incluirá el reemplazo o sustitución de los recursos naturales o elementos del medio ambiente afectados, por otros de similares características, clase, naturaleza y calidad.</a:t>
            </a:r>
            <a:r>
              <a:rPr b="0" lang="en-GB" sz="2000" spc="-1" strike="noStrike">
                <a:solidFill>
                  <a:srgbClr val="000000"/>
                </a:solidFill>
                <a:latin typeface="Tahoma"/>
                <a:ea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de reparación y compensacion</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61.-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reparación y  compensación  sólo se llevarán a cabo en las áreas o lugares en que los efectos adversos significativos que resulten de la ejecución o modificación del proyecto o actividad, se presenten o generen</a:t>
            </a:r>
            <a:r>
              <a:rPr b="0" lang="es-CL" sz="3200" spc="-1" strike="noStrike">
                <a:solidFill>
                  <a:srgbClr val="000000"/>
                </a:solidFill>
                <a:latin typeface="Univers"/>
                <a:ea typeface="Arial"/>
              </a:rPr>
              <a: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valuación de Impacto Ambiental</a:t>
            </a:r>
            <a:endParaRPr b="0" lang="en-US" sz="4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Artículo 2º letra j) : el procedimiento, a cargo de la Comisión Nacional del Medio Ambiente o de la Comisión Regional respectiva, en su caso, que, en base a un Estudio o Declaración de Impacto Ambiental, determina si el impacto ambiental de una actividad o proyecto se ajusta a las normas vigentes</a:t>
            </a:r>
            <a:endParaRPr b="0" lang="en-US" sz="3200" spc="-1" strike="noStrike">
              <a:solidFill>
                <a:srgbClr val="000000"/>
              </a:solidFill>
              <a:latin typeface="Times New Roman"/>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Mitigación (oportunidad)</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edidas de mitigación y modificacion de proyect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uede definirlas la autorida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uando pueden establecers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Hasta que etapa las puede proponer el titular.</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Aprobaci</a:t>
            </a:r>
            <a:r>
              <a:rPr b="0" lang="es-ES" sz="4400" spc="-1" strike="noStrike">
                <a:solidFill>
                  <a:srgbClr val="a50021"/>
                </a:solidFill>
                <a:latin typeface="Tahoma"/>
              </a:rPr>
              <a:t>ón E.I.A. (art.16)</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cumple con la legislación ambient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haciendose cargo de los efectos, características o circunstancias establecidos en el artículo 11, propone medidas mitigación, reparación y compensación adecuada.</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Declaración de Impacto Ambiental</a:t>
            </a: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Contenido D.I.A.(art. 14,15 y 16 Reg.)</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po de proyecto (identificarlo y ubica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cripción del proyecto (obras, fases, tiempos de constru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ntecedentes respecto que los impactos se ajustán a normas ambientales, y que no require presentar un E.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romisos ambientales voluntarios que el titular pretenda desarrollar y no estén en la legislación.</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a50021"/>
                </a:solidFill>
                <a:latin typeface="Tahoma"/>
              </a:rPr>
              <a:t>Declaracion de Impacto Ambiental (art. 18, 2 de la ley)</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Artículo 18: Los titulares de los proyectos o actividades que deban someterse al sistema de evaluación de impacto ambiental y que no requieran elaborar un Estudio de Impacto Ambiental, presentarán una Declaración de Impacto Ambiental, bajo la forma de una declaración jurada, en la cual expresarán que éstos cumplen con la legislación ambiental vigente.</a:t>
            </a:r>
            <a:endParaRPr b="0" lang="en-US" sz="20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f.Declaración de Impacto Ambiental: el  documento descriptivo de una actividad o    proyecto que se pretende realizar, o de las modificaciones que se le introducirán, otorgado bajo juramento por es respectivo titular, cuyo contenido permite al organismo competente evaluar si su impacto ambiental se ajusta a las normas ambientales vigent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Rechazo D.I.A.</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quiere un E.I.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ubsanen errores, omisiones o inexactitude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a:t>
            </a:r>
            <a:r>
              <a:rPr b="0" lang="en-US" sz="2400" spc="-1" strike="noStrike">
                <a:solidFill>
                  <a:srgbClr val="000000"/>
                </a:solidFill>
                <a:latin typeface="Tahoma"/>
              </a:rPr>
              <a:t>i no se cumple legisl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 Y D.I.A.</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 se somete a evaluación el proyecto (art. 8):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la Comisión Regional del Medio Ambiente de la Región en que se realizarán las obras materiales que contemple el proyecto o actividad</a:t>
            </a:r>
            <a:r>
              <a:rPr b="0" lang="en-GB" sz="2000" spc="-1" strike="noStrike">
                <a:solidFill>
                  <a:srgbClr val="000000"/>
                </a:solidFill>
                <a:latin typeface="Tahoma"/>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actividad o proyecto pueda causar impactos ambientales en zonas situadas en distintas regiones, las Declaraciones o los Estudios de Impacto Ambiental deberán presentarse ante la Dirección Ejecutiva de la Comisión Nacional del Medio Ambiente</a:t>
            </a:r>
            <a:r>
              <a:rPr b="0" lang="en-GB" sz="2000" spc="-1" strike="noStrike">
                <a:solidFill>
                  <a:srgbClr val="000000"/>
                </a:solidFill>
                <a:latin typeface="Tahoma"/>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ublicidad de los actos de la evaluación salvo declaración expresa de reserva de ciertas partes.</a:t>
            </a: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 Y D.I.A.</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 solo expediente:</a:t>
            </a:r>
            <a:endParaRPr b="0" lang="en-US" sz="2800" spc="-1" strike="noStrike">
              <a:solidFill>
                <a:srgbClr val="000000"/>
              </a:solidFill>
              <a:latin typeface="Times New Roman"/>
            </a:endParaRPr>
          </a:p>
          <a:p>
            <a:pPr lvl="1" marL="660960" indent="-254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ramitación propiamente administrativa, relación autoridades competentes, y titular del proyecto. </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ón Ciudadana reglada </a:t>
            </a:r>
            <a:r>
              <a:rPr b="1" lang="es-ES" sz="2400" spc="-1" strike="noStrike">
                <a:solidFill>
                  <a:srgbClr val="a50021"/>
                </a:solidFill>
                <a:latin typeface="Tahoma"/>
              </a:rPr>
              <a:t>(sólo E.I.A);</a:t>
            </a:r>
            <a:r>
              <a:rPr b="0" lang="es-ES" sz="2400" spc="-1" strike="noStrike">
                <a:solidFill>
                  <a:srgbClr val="000000"/>
                </a:solidFill>
                <a:latin typeface="Tahoma"/>
              </a:rPr>
              <a:t> personas naturales interesadas y Organizaciones ciudadanas con personalidad jurídica pueden hacer observaciones ( existe plazo formal para hacer observaciones)</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reciben las observaciones e informe de los diversos servicios públicos que participan en la evaluación.</a:t>
            </a:r>
            <a:endParaRPr b="0" lang="en-US" sz="2400" spc="-1" strike="noStrike">
              <a:solidFill>
                <a:srgbClr val="000000"/>
              </a:solidFill>
              <a:latin typeface="Times New Roman"/>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1" lang="es-ES" sz="2400" spc="-1" strike="noStrike">
                <a:solidFill>
                  <a:srgbClr val="000000"/>
                </a:solidFill>
                <a:latin typeface="Tahoma"/>
              </a:rPr>
              <a:t>Una sóla resolución, contiene las conclusiones de todo el proce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a:t>
            </a: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ministrativa:</a:t>
            </a:r>
            <a:endParaRPr b="0" lang="en-US" sz="24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presente con número de copias suficientes.</a:t>
            </a:r>
            <a:endParaRPr b="0" lang="en-US" sz="20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cumple requisitos formales u órgano incompetente: inadmisibilidad.</a:t>
            </a:r>
            <a:endParaRPr b="0" lang="en-US" sz="20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cumple requisitos formales, se remite a servicios públicos para que informen. Tienen 30 días para informar.</a:t>
            </a:r>
            <a:endParaRPr b="0" lang="en-US" sz="2000" spc="-1" strike="noStrike">
              <a:solidFill>
                <a:srgbClr val="000000"/>
              </a:solidFill>
              <a:latin typeface="Times New Roman"/>
            </a:endParaRPr>
          </a:p>
        </p:txBody>
      </p:sp>
      <p:sp>
        <p:nvSpPr>
          <p:cNvPr id="11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on Ciudadan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Junto con Estudio se presenta borrador de extracto a publicar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I.A. Cumple requisitos formales se public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ntro de diez días se publica el extracto en D.O. Y diario de circulación regional o nacional.</a:t>
            </a:r>
            <a:endParaRPr b="0" lang="en-US" sz="2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a:t>
            </a:r>
            <a:endParaRPr b="0" lang="en-US" sz="4400" spc="-1" strike="noStrike">
              <a:solidFill>
                <a:srgbClr val="000000"/>
              </a:solidFill>
              <a:latin typeface="Times New Roman"/>
            </a:endParaRPr>
          </a:p>
        </p:txBody>
      </p:sp>
      <p:sp>
        <p:nvSpPr>
          <p:cNvPr id="12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ministrativ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es de los servicios fundados ( cumple leg., se hace cargo de efect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probación o Rechazo temprano (informe consolid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solidado de observaciones ( sólo observ. Fundadas, puede incluir PA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ventual suspens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on Ciudadana:</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iario debe remitirse para forma parte del expediente.</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60 días hábiles para hacer observaciones desde publicación.</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bser. Organizaciones ciudadanas con personalidad jurídica ( personería), personalmente afectados.</a:t>
            </a:r>
            <a:endParaRPr b="0" lang="en-US" sz="2000" spc="-1" strike="noStrike">
              <a:solidFill>
                <a:srgbClr val="000000"/>
              </a:solidFill>
              <a:latin typeface="Times New Roman"/>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valuación de Impacto Ambiental (enfoques)</a:t>
            </a:r>
            <a:endParaRPr b="0" lang="en-US" sz="4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strumento de apoyo a la toma de decisión. Se aprueba o rechaza un Estudio de Impacto Ambietal, no el proyect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un procedimientos de autorización administrativa de proyectos. (Chile). Por lo tanto la información  requerida es la suficiente para que la autoridad tome una decisión respecto del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a:t>
            </a:r>
            <a:endParaRPr b="0" lang="en-US" sz="4400" spc="-1" strike="noStrike">
              <a:solidFill>
                <a:srgbClr val="000000"/>
              </a:solidFill>
              <a:latin typeface="Times New Roman"/>
            </a:endParaRPr>
          </a:p>
        </p:txBody>
      </p:sp>
      <p:sp>
        <p:nvSpPr>
          <p:cNvPr id="12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dministrativa:</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tular contesta observaciones: adenda.</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 a los serv. 15 días.</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OK. Informe consolidado. Observaciones: Nuevo informe de obseervaciones.</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tular contesta: adenda 2.</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forme consolidado de la evaluación.</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solución de calificación</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lazo 120 días, prorrogable por 60.</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ilencio administrativo.</a:t>
            </a:r>
            <a:endParaRPr b="0" lang="en-US" sz="1800" spc="-1" strike="noStrike">
              <a:solidFill>
                <a:srgbClr val="000000"/>
              </a:solidFill>
              <a:latin typeface="Times New Roman"/>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on Ciudadan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bserservaciones tienen ciertos requisitos form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Observaciones deben ponderarse en texto de la resolución que se pronunica sobre el recurs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debe notificar a quienes hicieron obser., posib. Diario oficial.</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hazo de un proyecto sometido a E.I.A. (oportunidad)</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chazo anticipado : </a:t>
            </a:r>
            <a:r>
              <a:rPr b="0" lang="es-ES_tradnl" sz="2400" spc="-1" strike="noStrike">
                <a:solidFill>
                  <a:srgbClr val="000000"/>
                </a:solidFill>
                <a:latin typeface="Univers"/>
                <a:ea typeface="Times New Roman"/>
              </a:rPr>
              <a:t>se estime que dicho Estudio adolece de información relevante y esencial para efectos de calificar ambientalmente el proyecto o actividad, o apareciere infracción manifiesta a la normativa ambiental aplicable, y que no pudiere subsanarse mediante Adenda.( art. 24 R.S.E.I.A.)</a:t>
            </a:r>
            <a:r>
              <a:rPr b="0" lang="es-ES" sz="2400" spc="-1" strike="noStrike">
                <a:solidFill>
                  <a:srgbClr val="000000"/>
                </a:solidFill>
                <a:latin typeface="Tahoma"/>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 final del proceso de E.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D.I.A. </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presenta con número de copias suficient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claración inadmisibilida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No hay participación ciudadana reglada y autoridad no tiene especiales obligaciones al respecto</a:t>
            </a:r>
            <a:r>
              <a:rPr b="0" lang="es-ES" sz="2000" spc="-1" strike="noStrike">
                <a:solidFill>
                  <a:srgbClr val="000000"/>
                </a:solidFill>
                <a:latin typeface="Tahoma"/>
              </a:rPr>
              <a:t>. No hay publicación extracto, se publica un resumen mensual de todas las presentad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cedimiento similar a E.I.A., pero plazos son la mitad. Adenda 10 días para informa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solidado en caso de errores, omisiones o inexactitud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existe silencio adm. En ley 19.300, pero existe nueva ley de procedimiento ad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e consolidado evaluació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soluc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Resoluci</a:t>
            </a:r>
            <a:r>
              <a:rPr b="0" lang="es-CL" sz="4400" spc="-1" strike="noStrike">
                <a:solidFill>
                  <a:srgbClr val="a50021"/>
                </a:solidFill>
                <a:latin typeface="Tahoma"/>
              </a:rPr>
              <a:t>ó</a:t>
            </a:r>
            <a:r>
              <a:rPr b="0" lang="en-US" sz="4400" spc="-1" strike="noStrike">
                <a:solidFill>
                  <a:srgbClr val="a50021"/>
                </a:solidFill>
                <a:latin typeface="Tahoma"/>
              </a:rPr>
              <a:t>n de Calificaci</a:t>
            </a:r>
            <a:r>
              <a:rPr b="0" lang="es-CL" sz="4400" spc="-1" strike="noStrike">
                <a:solidFill>
                  <a:srgbClr val="a50021"/>
                </a:solidFill>
                <a:latin typeface="Tahoma"/>
              </a:rPr>
              <a:t>ó</a:t>
            </a:r>
            <a:r>
              <a:rPr b="0" lang="en-US" sz="4400" spc="-1" strike="noStrike">
                <a:solidFill>
                  <a:srgbClr val="a50021"/>
                </a:solidFill>
                <a:latin typeface="Tahoma"/>
              </a:rPr>
              <a:t>n Ambiental</a:t>
            </a:r>
            <a:r>
              <a:rPr b="0" lang="es-CL" sz="4400" spc="-1" strike="noStrike">
                <a:solidFill>
                  <a:srgbClr val="a50021"/>
                </a:solidFill>
                <a:latin typeface="Tahoma"/>
              </a:rPr>
              <a:t> (RCA)</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Artículo 36.- </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resolución que califique el proyecto o actividad contendrá, a lo menos:</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a)</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indicación de los elementos, documentos, facultades legales y reglamentarias que se tuvieron a la vista para resolver;</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b)</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s consideraciones técnicas u otras en que se fundamenta la resolución;</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c)</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ponderación de las observaciones formuladas por las organizaciones ciudadanas con personalidad jurídica y por las personas naturales directamente afectadas, si corresponde; y</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d) </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calificación ambiental del proyecto o actividad, aprobándolo, rechazándolo o, si la aprobación fuere condicionada, fijando las condiciones o exigencias ambientales que deberán cumplirse para ejecutar el proyecto o actividad y aquéllas bajo las cuales se otorgarán los permisos ambientales sectoriales que de acuerdo con la legislación deben emitir los organismos del Estado.</a:t>
            </a:r>
            <a:endParaRPr b="0" lang="en-US" sz="1800" spc="-1" strike="noStrike">
              <a:solidFill>
                <a:srgbClr val="000000"/>
              </a:solidFill>
              <a:latin typeface="Times New Roman"/>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 Adm. E.I.A.</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olución que rechaza o establece condiciones a un E.I.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mpresa ( Consejo de Ministros previa audiencia del Consejo Consultivo de CONAMA, art. 20 le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ticipación ciudadana: observaciones no fueron debidamente ponderadas ( art. 28 y 29 ley). Resuelve superior jerárquico. Dirección Ejecutiva CONAMA.</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 Adm. E.I.A. </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ueden coexistir ambos recursos (empresa y comunidad que hizo observacion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Que pasa si reclama sólo comunidad y se acoge rechazando el recurso (recurso sobre recurso, ¿es posible?).</a:t>
            </a:r>
            <a:endParaRPr b="0" lang="en-US" sz="32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s Adminis. D.I.A.</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olución rechaza D.I.A., recurso de la empresa ( Dirección Ejecutiva CONAM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olucion  que acoje D.I.A., ¿recurso jerárquico ley de Bases de la Administración?. Interesado ley 19.880.</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mpatibilidad ley de procedimiento Administrativo</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incipio de la especialidad, como opera en este caso.</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xiste posibilidad de interponer la reposición con reclamación jerárquico: </a:t>
            </a:r>
            <a:endParaRPr b="0" lang="en-US" sz="3200" spc="-1" strike="noStrike">
              <a:solidFill>
                <a:srgbClr val="000000"/>
              </a:solidFill>
              <a:latin typeface="Times New Roman"/>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acoge D.I.A., con condiciones interesado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acoge una D.I.A.: interesados que no son quienes han promovido el procedimiento. </a:t>
            </a: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s Judiciales E.I.A. Y D.I.A</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pecto de resolución que rechaza recursos administrativos de la empresa (art. 20 ley 30 días, juez ordinario).</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cciones o recursos generales del ordenamiento jurídico:</a:t>
            </a:r>
            <a:endParaRPr b="0" lang="en-US" sz="3200" spc="-1" strike="noStrike">
              <a:solidFill>
                <a:srgbClr val="000000"/>
              </a:solidFill>
              <a:latin typeface="Times New Roman"/>
            </a:endParaRPr>
          </a:p>
          <a:p>
            <a:pPr lvl="1" marL="713160" indent="-2743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tección</a:t>
            </a:r>
            <a:endParaRPr b="0" lang="en-US" sz="2800" spc="-1" strike="noStrike">
              <a:solidFill>
                <a:srgbClr val="000000"/>
              </a:solidFill>
              <a:latin typeface="Times New Roman"/>
            </a:endParaRPr>
          </a:p>
          <a:p>
            <a:pPr lvl="1" marL="713160" indent="-2743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mparo Economico.</a:t>
            </a:r>
            <a:endParaRPr b="0" lang="en-US" sz="2800" spc="-1" strike="noStrike">
              <a:solidFill>
                <a:srgbClr val="000000"/>
              </a:solidFill>
              <a:latin typeface="Times New Roman"/>
            </a:endParaRPr>
          </a:p>
          <a:p>
            <a:pPr lvl="1" marL="713160" indent="-2743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ulidad de Derecho Público.</a:t>
            </a:r>
            <a:endParaRPr b="0" lang="en-US" sz="2800" spc="-1" strike="noStrike">
              <a:solidFill>
                <a:srgbClr val="000000"/>
              </a:solidFill>
              <a:latin typeface="Times New Roman"/>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Permisos Ambientales Sectoriales (Ventanilla Unica)</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ólo son permisos ambientales los que se señalan en el reglament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probación ambiental conlleva otorgamiento de dichos permis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debe acompañar la información necesaria para otorgamiento de los permi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50021"/>
                </a:solidFill>
                <a:latin typeface="Tahoma"/>
              </a:rPr>
              <a:t>Evaluación de Impacto Ambiental (caract.)</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strumento eminentemente preventivo, antes de la ejecución de los proyectos (art. 8 y 9).</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fine viabilidad ambiental de los proyectos o actividades 24 y 25 (sólo respecto determinadas normas, los planes de ordenamiento del territorio).</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entanilla única (art. 8 , 24 y 25).</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zos acotados ( se intent</a:t>
            </a:r>
            <a:r>
              <a:rPr b="0" lang="es-CL" sz="2400" spc="-1" strike="noStrike">
                <a:solidFill>
                  <a:srgbClr val="000000"/>
                </a:solidFill>
                <a:latin typeface="Tahoma"/>
              </a:rPr>
              <a:t>ó acortarlos más,  pero se fracasó </a:t>
            </a:r>
            <a:r>
              <a:rPr b="0" lang="es-ES" sz="2400" spc="-1" strike="noStrike">
                <a:solidFill>
                  <a:srgbClr val="000000"/>
                </a:solidFill>
                <a:latin typeface="Tahoma"/>
              </a:rPr>
              <a:t>).</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tento por reducir los niveles de discrecionalidad de las diversas autoridades.</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ección de vía administrativa mediante la cual se presente el proyecto queda en principio a discresión del titular (E.I.A. o D.I.A.). Autoridad puede rechazar presetaci</a:t>
            </a:r>
            <a:r>
              <a:rPr b="0" lang="es-CL" sz="2400" spc="-1" strike="noStrike">
                <a:solidFill>
                  <a:srgbClr val="000000"/>
                </a:solidFill>
                <a:latin typeface="Tahoma"/>
              </a:rPr>
              <a:t>ón.</a:t>
            </a:r>
            <a:r>
              <a:rPr b="0" lang="es-ES" sz="2400" spc="-1" strike="noStrike">
                <a:solidFill>
                  <a:srgbClr val="000000"/>
                </a:solidFill>
                <a:latin typeface="Tahoma"/>
              </a:rPr>
              <a:t> </a:t>
            </a:r>
            <a:endParaRPr b="0" lang="en-US" sz="2400" spc="-1" strike="noStrike">
              <a:solidFill>
                <a:srgbClr val="000000"/>
              </a:solidFill>
              <a:latin typeface="Times New Roman"/>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on provisoria(107)</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Para tales efectos, el titular del proyecto o actividad deberá presentar una solicitud de autorización provisoria, la que deberá contener, a lo menos, lo siguiente:</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a) La identificación del proyecto y de su Estudio de Impacto Ambiental.</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 La identificación y descripción pormenorizada de las obras respecto a las cuales se solicita autorización provisoria, y de las medidas que se adoptarán para hacerse cargo de los impactos ambientales asociados a dichas obras.</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c)Una lista de los permisos ambientales sectoriales que se requieren para ejecutar las obras respecto a las cuales se solicita autorización provisoria.</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d)La póliza de seguro a que se refiere el presente Título y los antecedentes que justifiquen el monto total asegurado que se indique en dicha póliza.</a:t>
            </a:r>
            <a:r>
              <a:rPr b="0" lang="en-GB"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on provisoria</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Univers"/>
                <a:ea typeface="Arial"/>
              </a:rPr>
              <a:t>	</a:t>
            </a:r>
            <a:r>
              <a:rPr b="0" lang="es-CL" sz="2000" spc="-1" strike="noStrike">
                <a:solidFill>
                  <a:srgbClr val="000000"/>
                </a:solidFill>
                <a:latin typeface="Univers"/>
                <a:ea typeface="Arial"/>
              </a:rPr>
              <a:t>Artículo 113.- Para los efectos de evaluar la pertinencia de autorizar</a:t>
            </a:r>
            <a:r>
              <a:rPr b="1" lang="es-CL" sz="2000" spc="-1" strike="noStrike">
                <a:solidFill>
                  <a:srgbClr val="000000"/>
                </a:solidFill>
                <a:latin typeface="Univers"/>
                <a:ea typeface="Arial"/>
              </a:rPr>
              <a:t> </a:t>
            </a:r>
            <a:r>
              <a:rPr b="0" lang="es-CL" sz="2000" spc="-1" strike="noStrike">
                <a:solidFill>
                  <a:srgbClr val="000000"/>
                </a:solidFill>
                <a:latin typeface="Univers"/>
                <a:ea typeface="Arial"/>
              </a:rPr>
              <a:t>provisoriamente el inicio del proyecto o actividad, se deberá considerar, entre otros, los siguientes criterios:</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b) La posibilidad de estimar y acotar los eventuales daños ambientales.</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c) La reversibilidad o reparabilidad de los eventuales daños ambientales.</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d)</a:t>
            </a:r>
            <a:r>
              <a:rPr b="0" lang="es-ES_tradnl" sz="2000" spc="-1" strike="noStrike">
                <a:solidFill>
                  <a:srgbClr val="000000"/>
                </a:solidFill>
                <a:latin typeface="Times New Roman"/>
                <a:ea typeface="Times New Roman"/>
              </a:rPr>
              <a:t> L</a:t>
            </a:r>
            <a:r>
              <a:rPr b="0" lang="es-ES_tradnl" sz="2000" spc="-1" strike="noStrike">
                <a:solidFill>
                  <a:srgbClr val="000000"/>
                </a:solidFill>
                <a:latin typeface="Univers"/>
                <a:ea typeface="Times New Roman"/>
              </a:rPr>
              <a:t>a probabilidad de ocurrencia de los eventuales daños ambient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on provisoria</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e)</a:t>
            </a: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Univers"/>
                <a:ea typeface="Times New Roman"/>
              </a:rPr>
              <a:t>La separación temporal entre el hecho que causa el daño ambiental y la manifestación evidente del mism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	</a:t>
            </a:r>
            <a:r>
              <a:rPr b="0" lang="es-ES_tradnl" sz="2000" spc="-1" strike="noStrike">
                <a:solidFill>
                  <a:srgbClr val="000000"/>
                </a:solidFill>
                <a:latin typeface="Univers"/>
                <a:ea typeface="Times New Roman"/>
              </a:rPr>
              <a:t>f) La circunstancia que las obras respecto de las cuales se solicita autorización provisoria presenten, por sí mismas, alguna de las características señaladas en el artículo 11 de la Ley, que ameritaron que el proyecto o actividad, del cual forman parte, debiera presentarse bajo la forma de un Estudio de Impacto Ambiental.</a:t>
            </a:r>
            <a:r>
              <a:rPr b="0" lang="en-GB" sz="2000" spc="-1" strike="noStrike">
                <a:solidFill>
                  <a:srgbClr val="000000"/>
                </a:solidFill>
                <a:latin typeface="Univers"/>
                <a:ea typeface="Times New Roman"/>
              </a:rPr>
              <a:t> </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Seguro y Autorizacion provisoria</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Artículo 109.- Las menciones generales que debe contener la póliza de seguro serán, a lo menos, las siguientes:</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a) La cobertura del seguro, para lo cual se indicará que la póliza garantiza, hasta el monto asegurado, el fiel cumplimiento por parte del afianzado de su obligación de reparar el daño al medio ambiente, en los términos señalados en el inciso segundo del artículo 15 de la Ley, en el presente título y en las condiciones generales y particulares que se establezcan en la pertinente póliza.</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El fiel cumplimiento por parte del afianzado de su obligación de reparar incluirá todos los riesgos por daños al medio ambiente que sean consecuencia de los actos u omisiones del titular del proyecto o actividad o de las personas de las cuales legalmente responde. En todo caso se señalará que el riesgo podrá provenir de una situación accidental, sea repentina o gr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Seguro y Autorizacion provisoria</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 El plazo que tiene el beneficiario de la póliza para denunciar el hecho dañoso, el que no podrá ser inferior a seis (6) meses contados desde que expire la vigencia de la póliza.</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c) La individualización de las partes contratantes, para lo cual se indicará que la calidad de afianzado corresponderá al titular del proyecto y que la calidad de beneficiario y asegurado corresponderá a la Comisión Nacional del Medio Ambiente.</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d) La cantidad o suma asegurada. </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e) La prima del seguro, y el tiempo, lugar y forma en que haya de ser pagada, para lo cual se indicará expresamente que la falta de pago de la prima es inoponible al beneficiario.</a:t>
            </a:r>
            <a:endParaRPr b="0" lang="en-US" sz="2000" spc="-1" strike="noStrike">
              <a:solidFill>
                <a:srgbClr val="000000"/>
              </a:solidFill>
              <a:latin typeface="Times New Roman"/>
            </a:endParaRPr>
          </a:p>
          <a:p>
            <a:pPr marL="322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Seguro y Autorizacion provisoria</a:t>
            </a:r>
            <a:endParaRPr b="0" lang="en-US" sz="4400" spc="-1" strike="noStrike">
              <a:solidFill>
                <a:srgbClr val="000000"/>
              </a:solidFill>
              <a:latin typeface="Times New Roman"/>
            </a:endParaRPr>
          </a:p>
        </p:txBody>
      </p:sp>
      <p:sp>
        <p:nvSpPr>
          <p:cNvPr id="154" name="PlaceHolder 2"/>
          <p:cNvSpPr>
            <a:spLocks noGrp="1"/>
          </p:cNvSpPr>
          <p:nvPr>
            <p:ph/>
          </p:nvPr>
        </p:nvSpPr>
        <p:spPr>
          <a:xfrm>
            <a:off x="609480" y="1981080"/>
            <a:ext cx="7848720" cy="411480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e)</a:t>
            </a: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La prima del seguro, y el tiempo, lugar y forma en que haya de ser pagada, para lo cual se indicará expresamente que la falta de pago de la prima es inoponible al beneficiario.</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f)</a:t>
            </a: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La fecha, con expresión de la vigencia de la póliza de seguro. Si se ampliare el plazo de ciento veinte días para pronunciarse sobre el Estudio de Impacto Ambiental, la vigencia de la póliza de seguro se entenderá ampliada por el mismo término en que se extendiere el plazo para dictar el pronunciamiento, lo que deberá consignarse en dicha póliza. </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Si se acordare suspender el plazo señalado en el artículo 15, inciso primero de la Ley, en la póliza deberá consignarse que la vigencia de ésta se entenderá automáticamente prorrogada por un término igual al plazo de suspensión acordado. </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Seguro y Autorizacion provisoria</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Artículo 110.-</a:t>
            </a: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El seguro por daño ambiental será contratado en beneficio de la Comisión Nacional del Medio Ambiente, y la cantidad o suma asegurada ingresará al Fondo de Protección Ambiental, para reparar el daño al medio ambiente causado por el siniestro.</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Artículo 111.-</a:t>
            </a: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En caso que el afianzado se haga cargo de la reparación, sea por sí mismo o a través de terceros, ésta deberá efectuarse en coordinación con el beneficiario</a:t>
            </a:r>
            <a:r>
              <a:rPr b="1" lang="es-ES_tradnl" sz="2400" spc="-1" strike="noStrike">
                <a:solidFill>
                  <a:srgbClr val="000000"/>
                </a:solidFill>
                <a:latin typeface="Tahoma"/>
                <a:ea typeface="Times New Roman"/>
              </a:rPr>
              <a:t>.</a:t>
            </a: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valuación de Impacto Ambiental(roles)</a:t>
            </a:r>
            <a:endParaRPr b="0" lang="en-US" sz="4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itulares contratan  o pueden hacer por sí mismos estudios o declaraciones que presentan (no hay registro de empresas habilitad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toridades evaluan, resuelven, fiscalizan y aplican sanciones.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Generalmente resuelve y sanciona un órgano colegiado. Lo preside Intendente, participan los representantes de los ministros, más algunos representantes del CORE.</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 algunos casos se solicitan auditorías ( como exigencia de la autoridad al resolver). Empresas privadas las hacen e  informan a las autoridad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munidades tienen derecho a formular observaciones en caso de Estudios de Impacto Ambiental y puede reclamar no se ponder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Que debe someterse a E.I.A.</a:t>
            </a:r>
            <a:endParaRPr b="0" lang="en-US" sz="48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 </a:t>
            </a:r>
            <a:r>
              <a:rPr b="1" lang="es-ES" sz="2800" spc="-1" strike="noStrike">
                <a:solidFill>
                  <a:srgbClr val="000000"/>
                </a:solidFill>
                <a:latin typeface="Tahoma"/>
                <a:ea typeface="Times New Roman"/>
              </a:rPr>
              <a:t>Lista Positiva: Proyectos señalados en art. 10 ley y 3º</a:t>
            </a:r>
            <a:r>
              <a:rPr b="0" lang="es-ES" sz="2800" spc="-1" strike="noStrike">
                <a:solidFill>
                  <a:srgbClr val="000000"/>
                </a:solidFill>
                <a:latin typeface="Tahoma"/>
                <a:ea typeface="Times New Roman"/>
              </a:rPr>
              <a:t> Reglamento, letras a – r.(reglamento acota en muchos casos lo señalado en la ley, define conceptos juridicos indeterminados), previo a su ejecución o modificación. Se ingresa si el proyecto está en la lista, no por magnitud de impactos del proyecto o inquietud pública por el proyecto.</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Modificaciones </a:t>
            </a:r>
            <a:r>
              <a:rPr b="0" lang="es-ES" sz="2800" spc="-1" strike="noStrike">
                <a:solidFill>
                  <a:srgbClr val="000000"/>
                </a:solidFill>
                <a:latin typeface="Tahoma"/>
                <a:ea typeface="Times New Roman"/>
              </a:rPr>
              <a:t>a los proyectos indicados en art. 10.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Proyecto no obligados, pueden someterse voluntari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jem. Proyectos art. 10</a:t>
            </a:r>
            <a:endParaRPr b="0" lang="en-US" sz="48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ey (art. 10)</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Acueductos, embalses o tranques y sifones que deban someterse a la   autorización establecida en el artículo 294 del Código de Aguas, presas, drenaje,desecación, dragado, defensa o alteración, significativos, de cuerpos o cursos    naturales de agua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87000"/>
          </a:bodyPr>
          <a:p>
            <a:pPr marL="298440" indent="-298440">
              <a:lnSpc>
                <a:spcPct val="9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Reglamento (art.3):</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Univers"/>
                <a:ea typeface="Times New Roman"/>
              </a:rPr>
              <a:t>a)</a:t>
            </a:r>
            <a:r>
              <a:rPr b="1" lang="es-CL" sz="800" spc="-1" strike="noStrike">
                <a:solidFill>
                  <a:srgbClr val="000000"/>
                </a:solidFill>
                <a:latin typeface="Univers"/>
                <a:ea typeface="Times New Roman"/>
              </a:rPr>
              <a:t>	</a:t>
            </a:r>
            <a:r>
              <a:rPr b="1" lang="es-CL" sz="800" spc="-1" strike="noStrike">
                <a:solidFill>
                  <a:srgbClr val="000000"/>
                </a:solidFill>
                <a:latin typeface="Univers"/>
                <a:ea typeface="Times New Roman"/>
              </a:rPr>
              <a:t>Acueductos, embalses o tranques y sifones que deban someterse a la autorización establecida en el artículo 294 del Código de Aguas.</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Univers"/>
                <a:ea typeface="Times New Roman"/>
              </a:rPr>
              <a:t>Presas, drenaje, desecación, dragado, defensa o alteración, significativos, de cuerpos o cursos naturales de aguas. Se entenderá que estos proyectos o actividades son significativos cuando se trate de:</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1.</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Presas cuyo muro tenga una altura igual o superior a cinco metros o que generen un embalse con una capacidad igual o superior a cincuenta mil metros cúbicos (50.000 m³).</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2.</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renaje o desecación de vegas y bofedales ubicados en las Regiones I y II, cualquiera sea su superficie de terreno a recuperar y/o afectar.</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Univers"/>
                <a:ea typeface="Arial"/>
              </a:rPr>
              <a:t>Drenaje o desecación de suelos “ñadis”, cuya superficie de terreno a recuperar y/o afectar sea igual o superior a doscientas hectáreas (200 há).</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Drenaje o desecación de cuerpos naturales de aguas tales como lagos, lagunas, pantanos, marismas, turberas, vegas, albúferas, humeda­les o bofedales, exceptuándose los identificados en los  incisos  anteriores, cuya superficie de terreno a recuperar y/o afectar sea superior a diez hectáreas (10 há), tratándose de las Regio­nes I a IV; o a 20 hectáreas (20 há), tratándose de las Regiones V a VII, incluida la Metropolitana; o a treinta hectáreas (30 há), tratándose de las Regiones VIII a XII.</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3.</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ragado de fango, grava, arenas u otros materia­les de cursos o cuerpos de aguas terrestres, en una cantidad igual o superior a veinte mil metros cúbicos (20.000 m³) de material total a extraer y/o a remover, tratándose de las Regiones I a III, o en una cantidad de cincuenta mil metros cúbicos (50.000 m³) de material total  a extraer y/o a remover, tratándose de las regiones IV a XII, incluida la Región Metropolitana.</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ragado de fango, grava, arenas u otros materiales de cursos o cuerpos de aguas marítimas.</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4.</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efensa o alteración de un cuerpo o curso de aguas terrestres, tal que se movilice una cantidad igual o superior a cincuenta mil metros cúbicos de material (50.000 m³), tratándose de las regiones I a IV, o cien mil metros cúbicos (100.000 m³), tratándose de las regiones V a XII, incluida la Región Metropolitana.</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Se entenderá por defensa o alteración aquellas obras de regularización o protección de las riberas de éstos cuerpos o cursos, o actividades que impliquen un cambio de trazado de su cauce, o la modificación artificial de su sección transversal, todas de modo permanente.</a:t>
            </a:r>
            <a:endParaRPr b="0" lang="en-US" sz="800" spc="-1" strike="noStrike">
              <a:solidFill>
                <a:srgbClr val="000000"/>
              </a:solidFill>
              <a:latin typeface="Times New Roman"/>
            </a:endParaRPr>
          </a:p>
          <a:p>
            <a:pPr marL="2984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Que es modificación de proyecto (art. 2 Reglamento, letra d) </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t>
            </a:r>
            <a:r>
              <a:rPr b="1" lang="es-CL" sz="2400" spc="-1" strike="noStrike">
                <a:solidFill>
                  <a:srgbClr val="000000"/>
                </a:solidFill>
                <a:latin typeface="Arial"/>
              </a:rPr>
              <a:t>Realización de obras, acciones o medidas tendientes a intervenir o complementar un proyecto o actividad ya ejecutado, de modo tal que éste sufra cambios </a:t>
            </a:r>
            <a:r>
              <a:rPr b="1" lang="es-CL" sz="2400" spc="-1" strike="noStrike" u="sng">
                <a:solidFill>
                  <a:srgbClr val="000000"/>
                </a:solidFill>
                <a:uFillTx/>
                <a:latin typeface="Arial"/>
              </a:rPr>
              <a:t>de consideración</a:t>
            </a:r>
            <a:r>
              <a:rPr b="1" lang="es-CL" sz="2400" spc="-1" strike="noStrike">
                <a:solidFill>
                  <a:srgbClr val="000000"/>
                </a:solidFill>
                <a:latin typeface="Arial"/>
              </a:rPr>
              <a:t>”.</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s importante que no cualquier modificación ingrese el sistema, pero el reglamento no señala criterios para definir de consideración:</a:t>
            </a:r>
            <a:endParaRPr b="0" lang="en-US" sz="24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bras de reparación, mantención</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No cambien los impactos</a:t>
            </a:r>
            <a:r>
              <a:rPr b="1" lang="es-CL" sz="2000" spc="-1" strike="noStrike">
                <a:solidFill>
                  <a:srgbClr val="000000"/>
                </a:solidFill>
                <a:latin typeface="Arial"/>
              </a:rPr>
              <a:t>.</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o constituyen un proyecto que deba someterse por sí solo.</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umados no alcanzan las dimensiones que ameritan que se someta al S.E.I.A.</a:t>
            </a:r>
            <a:endParaRPr b="0" lang="en-US" sz="20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vergara</cp:lastModifiedBy>
  <dcterms:modified xsi:type="dcterms:W3CDTF">2005-04-15T14:46:47Z</dcterms:modified>
  <cp:revision>63</cp:revision>
  <dc:subject/>
  <dc:title>PowerPoint Presentation</dc:title>
</cp:coreProperties>
</file>