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CBF5D-1135-4800-8B19-3C686E456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90852-9569-452E-9737-DCB816B38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6C4C0-A5AE-4D86-9F05-DE38C5436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262F6-31F3-4CD1-8229-4D093CA6D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89BDC-F651-419B-AEAD-10D156A4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28664-3704-487F-B27E-0062B818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6537C-225B-4CF7-86E8-277F24A18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1D32-B74E-4E37-AC58-C1ADB6FCE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453A-D738-4754-925D-C0127F3B5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D374C-FA4B-45A5-A645-07A69E39C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403C-1178-4F59-B221-349C683CA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8FF4-0CB4-4061-8219-F2D2F86FD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55C5-D74E-4554-BECF-C8A469DCE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Grupo B: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Grupos C: </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 ha definido que el sector termoeléctrico tiene altos niveles de emisión de SO</a:t>
            </a:r>
            <a:r>
              <a:rPr b="0" lang="es-ES" sz="2000" spc="-1" strike="noStrike">
                <a:solidFill>
                  <a:srgbClr val="000000"/>
                </a:solidFill>
                <a:latin typeface="Tahoma"/>
              </a:rPr>
              <a:t>2</a:t>
            </a:r>
            <a:r>
              <a:rPr b="0" lang="es-ES" sz="2400" spc="-1" strike="noStrike">
                <a:solidFill>
                  <a:srgbClr val="000000"/>
                </a:solidFill>
                <a:latin typeface="Tahoma"/>
              </a:rPr>
              <a:t>. Se ha propuesto tomar medidas inmediatas exigiendo en el plazo de seis meses la reducción de las emisiones de esas instalaciones en un 50%.</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Grupo D:</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400" spc="-1" strike="noStrike">
              <a:solidFill>
                <a:srgbClr val="000000"/>
              </a:solidFill>
              <a:latin typeface="Times New Roman"/>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E: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j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a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rganizarse en grupos de cuatro personas: a la luz de los principios e intrumentos discutidos en clases, cada grupo analizará uno de los problemas propuestos, y luego cada grupo presentará al resto del grupo su opinión resecto al tema. </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upo A: </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 está analizando un sudsidio a la conservación de bosque nativo, de modo que se pagarán ciertas cantidades a los dueños de terrenos que estándo cubierto con bosque nativo que no lo exploten.</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4:39:12Z</dcterms:created>
  <dc:creator>jvergara</dc:creator>
  <dc:description/>
  <dc:language>en-US</dc:language>
  <cp:lastModifiedBy>jvergara</cp:lastModifiedBy>
  <dcterms:modified xsi:type="dcterms:W3CDTF">2005-03-15T06:07:30Z</dcterms:modified>
  <cp:revision>2</cp:revision>
  <dc:subject/>
  <dc:title>Derecho Ambiental en Chile: Breve Historia y Principios Rectores </dc:title>
</cp:coreProperties>
</file>