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76E35-811C-4049-B1EB-428BEE532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D1C9A-B0F0-4394-9873-1930883D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31884-294A-4012-A54F-82DED5F26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07EFF-CC24-4899-A5E1-DA2C9A4CE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467EB-397A-40FC-885A-5D466EC4B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A97E-F2F9-4CE5-A1F6-E0998B34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6BBD1-008F-49B4-B584-B67F710A0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DAEBD-EF9D-4937-AF0F-EEFFCD7E0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9B8F6-C152-447F-9599-7FC63FD2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93A16-8C6B-4AAF-814F-5586218D8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0498D-DD00-4234-9FD2-3285891E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3C77D-7D94-4A63-8C55-AA180D194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875C-9A0A-42AC-906C-7503260BB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Grupos C: </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ha definido que el sector termoeléctrico tiene altos niveles de emisión de SO</a:t>
            </a:r>
            <a:r>
              <a:rPr b="0" lang="es-ES" sz="2000" spc="-1" strike="noStrike">
                <a:solidFill>
                  <a:srgbClr val="000000"/>
                </a:solidFill>
                <a:latin typeface="Tahoma"/>
              </a:rPr>
              <a:t>2</a:t>
            </a:r>
            <a:r>
              <a:rPr b="0" lang="es-ES" sz="2400" spc="-1" strike="noStrike">
                <a:solidFill>
                  <a:srgbClr val="000000"/>
                </a:solidFill>
                <a:latin typeface="Tahoma"/>
              </a:rPr>
              <a:t>. Se ha propuesto tomar medidas inmediatas exigiendo en el plazo de seis meses la reducción de las emisiones de esas instalaciones en un 50%.</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Grupo D:</a:t>
            </a:r>
            <a:endParaRPr b="0" lang="en-US" sz="2400" spc="-1" strike="noStrike">
              <a:solidFill>
                <a:srgbClr val="0000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400" spc="-1" strike="noStrike">
              <a:solidFill>
                <a:srgbClr val="000000"/>
              </a:solidFill>
              <a:latin typeface="Times New Roman"/>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j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a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de cuatro personas: a la luz de los principios e intrumentos discutidos en clases, cada grupo analizará uno de los problemas propuestos, y luego cada grupo presentará al resto del grupo su opinión resecto al tema. </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upo A: </a:t>
            </a:r>
            <a:endParaRPr b="0" lang="en-US" sz="2400" spc="-1" strike="noStrike">
              <a:solidFill>
                <a:srgbClr val="000000"/>
              </a:solidFill>
              <a:latin typeface="Times New Roman"/>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e está analizando un sudsidio a la conservación de bosque nativo, de modo que se pagarán ciertas cantidades a los dueños de terrenos que estándo cubierto con bosque nativo que no lo exploten.</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4:39:12Z</dcterms:created>
  <dc:creator>jvergara</dc:creator>
  <dc:description/>
  <dc:language>en-US</dc:language>
  <cp:lastModifiedBy>jvergara</cp:lastModifiedBy>
  <dcterms:modified xsi:type="dcterms:W3CDTF">2005-03-15T06:07:30Z</dcterms:modified>
  <cp:revision>2</cp:revision>
  <dc:subject/>
  <dc:title>Derecho Ambiental en Chile: Breve Historia y Principios Rectores </dc:title>
</cp:coreProperties>
</file>