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99853-B66B-4278-BF32-BF2774AA5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F1FE9-8F31-4A80-A5A0-0455FFCE3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CDFFC-7D39-4212-8DDA-68965C589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55B89-A357-4FE9-B241-DEC4537DC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E006B-C308-4823-ABB4-53F66D059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F5B54-DD77-41CF-94D7-66EFC5BF2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52A4A-9C1D-4E1C-AC45-1744869F1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D828C-8CB7-4E84-B818-A632E3143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0A8B7-C675-448F-A73A-671BB3DB7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DA647-3D67-4A1E-9B69-056315926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9E44B-FFF8-4761-BEFB-BBFF6EFD3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CD49E-3C2F-4256-806A-2EE4AC2EA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8D9D-8765-4B14-AF04-54E88B525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mbiental en Chile: Breve Historia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Grupo B: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Grupos C: </a:t>
            </a:r>
            <a:endParaRPr b="0" lang="en-US" sz="2400" spc="-1" strike="noStrike">
              <a:solidFill>
                <a:srgbClr val="0000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 ha definido que el sector termoeléctrico tiene altos niveles de emisión de SO</a:t>
            </a:r>
            <a:r>
              <a:rPr b="0" lang="es-ES" sz="2000" spc="-1" strike="noStrike">
                <a:solidFill>
                  <a:srgbClr val="000000"/>
                </a:solidFill>
                <a:latin typeface="Tahoma"/>
              </a:rPr>
              <a:t>2</a:t>
            </a:r>
            <a:r>
              <a:rPr b="0" lang="es-ES" sz="2400" spc="-1" strike="noStrike">
                <a:solidFill>
                  <a:srgbClr val="000000"/>
                </a:solidFill>
                <a:latin typeface="Tahoma"/>
              </a:rPr>
              <a:t>. Se ha propuesto tomar medidas inmediatas exigiendo en el plazo de seis meses la reducción de las emisiones de esas instalaciones en un 50%.</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Grupo D:</a:t>
            </a:r>
            <a:endParaRPr b="0" lang="en-US" sz="2400" spc="-1" strike="noStrike">
              <a:solidFill>
                <a:srgbClr val="0000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2400" spc="-1" strike="noStrike">
              <a:solidFill>
                <a:srgbClr val="000000"/>
              </a:solidFill>
              <a:latin typeface="Times New Roman"/>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E: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ís de alrededor de 15.000.000 millones de habitante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ja y angosta faja de tierra (fronteras naturales, el desierto de atacama; la Cordillera de los Andes; El Pacífico).</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imas variados: desértico en el norte, mediterráneo en zona central, humedo frío en el sur (bosques siempre verd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ran cantidad de terreno difícil de habitar. Genera presión sobre las mejores áre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ntración urbana en la zona cent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conomía sustentada esencialmente el uso, y explotación de recursos naturale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 sur y parte del sur: agricultura ( hasta década de los 80, para uso consumo interno, a partir de los 80´, esencialente mercado exta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sur y sur: forestal( esencialmente mercado externo) y ganadería ( mercado interno y últimamente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a partir de los 90:</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resarrollar una economía vinculado a los servicios (financieros, turísticos, etc.).</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el Derecho a emprender (Constitución 198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o (Constitución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hile desde el siglo XIX y luego en el XX existen ciertas normas que tienen incidencia ambienta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tribunales (Riles 1916), Protección Salud, Agricultura, Parque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conocimiento Constitucional (1980):</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a vivir en un medio ambiente libre de contamina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curso o acción de protec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Derecho de Propieda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al Derecho a desarrollar actividades económic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meros casos relevantes ( Lago Chungará, Bahía de Chañaral, etc.)</a:t>
            </a:r>
            <a:endParaRPr b="0" lang="en-US" sz="28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Ley 19.300 sobre Bases  Generales del Medio Ambiente (marzo 1994)</a:t>
            </a:r>
            <a:endParaRPr b="0" lang="en-US" sz="4400" spc="-1" strike="noStrike">
              <a:solidFill>
                <a:srgbClr val="000000"/>
              </a:solidFill>
              <a:latin typeface="Times New Roman"/>
            </a:endParaRPr>
          </a:p>
        </p:txBody>
      </p:sp>
      <p:sp>
        <p:nvSpPr>
          <p:cNvPr id="5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rresponde a un acuerdo entre el Gobierno de la Epoca y los sectores empresariales (oposición de sectores más ecologist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ey General (asume que habrán leyes específicas, en materias complementarias). </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ley en su mensaje establece los principios que la inspiran: No se encuentran en su texto, como parte del articulado.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rganizarse en grupos de cuatro personas: a la luz de los principios e intrumentos discutidos en clases, cada grupo analizará uno de los problemas propuestos, y luego cada grupo presentará al resto del grupo su opinión resecto al tema. </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upo A: </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 está analizando un sudsidio a la conservación de bosque nativo, de modo que se pagarán ciertas cantidades a los dueños de terrenos que estándo cubierto con bosque nativo que no lo exploten.</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4:39:12Z</dcterms:created>
  <dc:creator>jvergara</dc:creator>
  <dc:description/>
  <dc:language>en-US</dc:language>
  <cp:lastModifiedBy>jvergara</cp:lastModifiedBy>
  <dcterms:modified xsi:type="dcterms:W3CDTF">2005-03-15T06:07:30Z</dcterms:modified>
  <cp:revision>2</cp:revision>
  <dc:subject/>
  <dc:title>Derecho Ambiental en Chile: Breve Historia y Principios Rectores </dc:title>
</cp:coreProperties>
</file>