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8821-C1BC-415B-B7E8-6338AABA7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5C9E-9A7A-4645-B69A-7E7236A3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C36A-1E7F-4E36-A763-B289983E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5182-6B29-4154-83E7-BDEDEC503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87AF-236F-4AFE-9246-E48C1FFA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5D92-FC95-47DD-A5F7-99CDB282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B414-12F4-466E-877E-F345D219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31E3-BD33-4608-A005-757A7FAC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8046-44A4-4F77-AA92-F9C7B70C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E86F-FCB1-4A86-A33E-0F267184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9EB4-913F-4D62-B41B-1F1539CE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6A34-0EFC-4F54-9F22-C72C57CC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30E1-FA2F-4B57-8A6B-340F5BC7E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El Derecho Ambiental</a:t>
            </a:r>
            <a:br>
              <a:rPr sz="4400"/>
            </a:b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rso Derecho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tricio Ley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Javier Verg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Contamina Paga: Instrumentos de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m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arif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ermisos de emisión trans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epositos retornable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Contamina Paga: Instrumentos de Regulación Direc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Normas de calidad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Normas de em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Normas de 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rohib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Contamina Paga: Instrumentos de aceptabilidad so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ducación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nvestig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Contamina Paga: Instrumentos volunt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uditorias (vinculados a mercad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cuerdos voluntarios, compromisos voluntarios, autoregul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Principio de Responsabi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Quien genera daños ambientales debe repararl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iseños especiales de sistemas de responsabilidad  en materia ambiental (en términos generales o para determinadas actividad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Manifestación del principio del que Contamina Pa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Principio Participa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as personas tienen derecho a participar en el desarrollo de los procesos ambie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erecho – Deber de Informar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Derecho a la Informa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l Derecho – De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recho para los ciudada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ber para la autoridad en ciertos c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ber para los entes regulados en determinados casos: ( manejo de sustancias o desechos peligros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Principio de la Preven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vitar las producción de efectos ambientales antes que su repa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ormas de calidad y emis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istema de Evaluación de Impacto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istema de responsabilidad (prevención general y espe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Principio del Gradual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Gradualidad en el establecimientos de nuevos estánda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lazos adecuados para tomar medidas de control de contaminación o para la aplicación de nuevos estándare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Principio Precauto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rincipio 15 Declaracion de Rí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ando haya peligro de daño grave o irreversible, la falta de certeza científica absoluta no deberá utilizarse como razón para postergar la adopción de medidas eficaces en función de los costos para impedir la degradación del medio ambient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Que es el D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gula la relación entre el hombre y 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os impactos que las conductas del hombre generan en el MA y que redundan en impactos en el homb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Principio Precauto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ncerteza científ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Biosegur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Ondas de radiodifu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DA no es simple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be reflejar las complejidades que intenta regular: causas físicas y los efectos de la degrad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o es simple pues los ecosistemas y las actividades que causan impactos no lo 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ahoma"/>
              </a:rPr>
              <a:t>La naturaleza se rehusa a coopera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Caracteristicas del Amb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MPLEJIDAD. Dificil de comprender por su dimensión espacial y temporal. Un fenómeno puede tener consecuencial multiples, difusas, efectos sinergicos, imposibles de pre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INAMISMO. Cambia muy rapidamente a veces de manera impercept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Caracteristicas del 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mplej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ncertidumbre científ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ina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recauto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trovers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nterdiscipli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Orígenes del 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n el mu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1971 Declaración de Foun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1972 Declaración de Estocol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1988 Comisión Brund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el desarrollo sostenible es el desarrollo que permite satisfacer las necesidades del presente sin comprometer la capacidad para que las futuras generaciones puedan satisfacer sus propias necesidades"</a:t>
            </a:r>
            <a:r>
              <a:rPr b="0" lang="es-MX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 action="ppaction://hlinksldjump"/>
              </a:rPr>
              <a:t>[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1992 Declaración de Rio y la Agenda X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2002 Rio+10, Conferencia de Sudaf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Principios Derecho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rso Derecho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Javier Verg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Contamina Pa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l particular que actualmente contamina o que lo haga en el futuro debe incorporar en sus costos de producción todas las inversiones necesarias para evitar la contaminación”  (Mensaje ley de Bases) internalizar las external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e deben desarrollan instrumentos de políticas ambientales tendientes a internalizar estos cos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Contamina Paga: Instrumentos de mercado (excepciones al principi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ncepto general del principio, es que no pueden exitir subsidios o incentivos fiscales para cumplir con la normativa ambient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xcepciones al principi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ituaciones externalidades positiv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equeñas industrias (habitualmente costos de desarrollo, asimetrías de informac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vergara</cp:lastModifiedBy>
  <dcterms:modified xsi:type="dcterms:W3CDTF">2005-03-02T17:10:25Z</dcterms:modified>
  <cp:revision>6</cp:revision>
  <dc:subject/>
  <dc:title>PowerPoint Presentation</dc:title>
</cp:coreProperties>
</file>