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81E-0B55-4E1C-BBAD-36FEE330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06A-11B5-4A97-BDCE-04E0CD1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EFB-60CE-47B9-A3CB-6D18BD94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0D2-3033-463A-A408-D72018C6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7EB-2B7C-4F81-ADDE-C21970D7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136-903C-4360-89AA-48E3BA7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C39-23EB-44BE-BDDA-61F055E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65F-FE70-4348-A7C9-B541F8F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A61-AE0E-4892-9BB5-32E6E2E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D37-C500-4811-916D-FA01DBC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DD5-7166-4162-86CD-5CDFC6B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74A-A14E-4C6D-A213-B0EC44C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C628-5EB6-4532-A763-82BACF5D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El Derecho Ambiental</a:t>
            </a:r>
            <a:br>
              <a:rPr sz="4400"/>
            </a:b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rif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de emisión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ositos retornable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Regulación Dire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calidad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hib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aceptabilidad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volu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ditorias (vinculados a mercad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cuerdos voluntarios, compromisos voluntarios, autoreg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Respons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ien genera daños ambientales debe reparar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ños especiales de sistemas de responsabilidad  en materia ambiental (en términos generales o para determinadas actividad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ifestación del principio del que Contamina P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articip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personas tienen derecho a participar en el desarrollo de los procesos ambie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recho – Deber de Informar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erecho a la Inform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erecho – D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recho para los ciudad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a autoridad en ciertos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os entes regulados en determinados casos: ( manejo de sustancias o desechos peligro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la Pre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vitar las producción de efectos ambientales antes que su re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s de calidad y em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Evaluación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responsabilidad (prevención general y espe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l Gradu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radualidad en el establecimientos de nuevos estánd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zos adecuados para tomar medidas de control de contaminación o para la aplicación de nuevos estánda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io 15 Declaracion de Rí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haya peligro de daño grave o irreversible, la falta de certeza científica absoluta no deberá utilizarse como razón para postergar la adopción de medidas eficaces en función de los costos para impedir la degradación del medio ambient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Que es el D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ula la relación entre el hombre y 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impactos que las conductas del hombre generan en el MA y que redundan en impactos en el h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eza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ndas de radiodi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A no es simpl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reflejar las complejidades que intenta regular: causas físicas y los efectos de la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s simple pues los ecosistemas y las actividades que causan impactos no l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La naturaleza se rehusa a cooper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. Dificil de comprender por su dimensión espacial y temporal. Un fenómeno puede tener consecuencial multiples, difusas, efectos sinergicos, imposibles de p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. Cambia muy rapidamente a veces de manera impercep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idumbre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cau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terdiscipl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Orígene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1 Declaración de Fou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2 Declaración de Estocol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88 Comisión Brund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desarrollo sostenible es el desarrollo que permite satisfacer las necesidades del presente sin comprometer la capacidad para que las futuras generaciones puedan satisfacer sus propias necesidades"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 action="ppaction://hlinksldjump"/>
              </a:rPr>
              <a:t>[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92 Declaración de Rio y la Agenda X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2002 Rio+10, Conferencia de Sud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s Derecho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articular que actualmente contamina o que lo haga en el futuro debe incorporar en sus costos de producción todas las inversiones necesarias para evitar la contaminación”  (Mensaje ley de Bases) internalizar las external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deben desarrollan instrumentos de políticas ambientales tendientes a internalizar est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 (excepciones al princip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general del principio, es que no pueden exitir subsidios o incentivos fiscales para cumplir con la normativa ambien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pciones al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tuaciones externalidades positi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queñas industrias (habitualmente costos de desarrollo, asimetrías de inform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5-03-02T17:10:25Z</dcterms:modified>
  <cp:revision>6</cp:revision>
  <dc:subject/>
  <dc:title>PowerPoint Presentation</dc:title>
</cp:coreProperties>
</file>