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EFF6-8932-4E8D-944E-542314C8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8C41-2DF4-4F15-A786-D1E3D468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6C23-6DA9-4D32-8C91-9C7813DF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DFFC-7B3C-49B1-AFF7-ABA4BFAC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F7DD-A765-4976-A45D-F6016D3E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E5DC-79C1-499E-9F8C-FC0EAABE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4972-AD90-47B5-868C-A71867C3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E87A-5F98-41A3-8856-C9C1B8DF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D3CC-D010-4C24-8113-B7EC8760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4826-A378-4562-A769-5FF851EC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86A5-17B4-42D5-8C1C-2981AEBF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EF62-2ADE-4B64-A46D-B151DF77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B8C0-B90D-49E5-8DC5-700304D5C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El Derecho Ambiental</a:t>
            </a:r>
            <a:br>
              <a:rPr sz="4400"/>
            </a:b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ontamina Paga: Instrumentos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m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arif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ermisos de emisión trans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positos retornable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ontamina Paga: Instrumentos de Regulación Direc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rmas de calidad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rmas de em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rmas de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ohib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ontamina Paga: Instrumentos de aceptabilidad so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ducación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vesti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ontamina Paga: Instrumentos volunt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uditorias (vinculados a mercad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cuerdos voluntarios, compromisos voluntarios, autoregul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Principio de Responsab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Quien genera daños ambientales debe repararl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iseños especiales de sistemas de responsabilidad  en materia ambiental (en términos generales o para determinadas actividad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anifestación del principio del que Contamina Pa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Principio Participa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s personas tienen derecho a participar en el desarrollo de los procesos ambie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recho – Deber de Informar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Derecho a la Inform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Derecho – De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recho para los ciudada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ber para la autoridad en ciertos c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ber para los entes regulados en determinados casos: ( manejo de sustancias o desechos peligros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Principio de la Preven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vitar las producción de efectos ambientales antes que su repa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ormas de calidad y emi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istema de Evaluación de Impacto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istema de responsabilidad (prevención general y espe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Principio del Gradual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Gradualidad en el establecimientos de nuevos estánd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lazos adecuados para tomar medidas de control de contaminación o para la aplicación de nuevos estándare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Principio Precauto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incipio 15 Declaracion de Rí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ando haya peligro de daño grave o irreversible, la falta de certeza científica absoluta no deberá utilizarse como razón para postergar la adopción de medidas eficaces en función de los costos para impedir la degradación del medio ambient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Que es el D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gula la relación entre el hombre y 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os impactos que las conductas del hombre generan en el MA y que redundan en impactos en el homb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Principio Precauto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certeza cientí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Biosegu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Ondas de radiodifu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DA no es simple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be reflejar las complejidades que intenta regular: causas físicas y los efectos de la degrad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o es simple pues los ecosistemas y las actividades que causan impactos no lo 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ahoma"/>
              </a:rPr>
              <a:t>La naturaleza se rehusa a coopera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aracteristicas del Amb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MPLEJIDAD. Dificil de comprender por su dimensión espacial y temporal. Un fenómeno puede tener consecuencial multiples, difusas, efectos sinergicos, imposibles de pre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INAMISMO. Cambia muy rapidamente a veces de manera impercept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aracteristicas del 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mplej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certidumbre cientí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ina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ecauto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trovers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terdiscipli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Orígenes del 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n el m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1971 Declaración de Foun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1972 Declaración de Estocol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1988 Comisión Brund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el desarrollo sostenible es el desarrollo que permite satisfacer las necesidades del presente sin comprometer la capacidad para que las futuras generaciones puedan satisfacer sus propias necesidades"</a:t>
            </a:r>
            <a:r>
              <a:rPr b="0" lang="es-MX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 action="ppaction://hlinksldjump"/>
              </a:rPr>
              <a:t>[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1992 Declaración de Rio y la Agenda X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2002 Rio+10, Conferencia de Sudaf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Principios Derecho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ontamina Pa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l particular que actualmente contamina o que lo haga en el futuro debe incorporar en sus costos de producción todas las inversiones necesarias para evitar la contaminación”  (Mensaje ley de Bases) internalizar las external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 deben desarrollan instrumentos de políticas ambientales tendientes a internalizar estos cos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00000"/>
                </a:solidFill>
                <a:latin typeface="Tahoma"/>
              </a:rPr>
              <a:t>Contamina Paga: Instrumentos de mercado (excepciones al principi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cepto general del principio, es que no pueden exitir subsidios o incentivos fiscales para cumplir con la normativa ambient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xcepciones al principi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ituaciones externalidades positiv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equeñas industrias (habitualmente costos de desarrollo, asimetrías de informa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vergara</cp:lastModifiedBy>
  <dcterms:modified xsi:type="dcterms:W3CDTF">2005-03-02T17:10:25Z</dcterms:modified>
  <cp:revision>6</cp:revision>
  <dc:subject/>
  <dc:title>PowerPoint Presentation</dc:title>
</cp:coreProperties>
</file>