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37E7C-6DBC-405C-B934-0EF7B8968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29F2A-B758-4559-9791-8E83323A0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D7DBB-6546-4EA8-8F3B-15CB87CC2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4B000-EB33-4E91-A3CF-5FF54157A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49F55-AB67-43D2-A3E3-E83BD4F74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A46FD-9B81-4CF4-80E0-3756C94CF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66767-11A0-4E31-B3C9-D16B28071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330B2-84AA-47F8-8C6A-A189B6004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C22DA-4C19-4FA1-84DA-B6F179508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DCA83-E19A-45F8-A81E-C5C6BC087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8F562-E71D-485A-BD1F-562695ED0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E3CBE-8255-4E53-837C-77C3DB209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4DCBB-976F-4AB2-AD12-A8549CB83A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800000"/>
                </a:solidFill>
                <a:latin typeface="Tahoma"/>
              </a:rPr>
              <a:t>El Derecho Ambiental</a:t>
            </a:r>
            <a:br>
              <a:rPr sz="4400"/>
            </a:br>
            <a:r>
              <a:rPr b="0" lang="es-CL" sz="4400" spc="-1" strike="noStrike">
                <a:solidFill>
                  <a:srgbClr val="800000"/>
                </a:solidFill>
                <a:latin typeface="Tahoma"/>
              </a:rPr>
              <a:t>Introduc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Curso Derecho Ambient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Patricio Leyt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Javier Verga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800000"/>
                </a:solidFill>
                <a:latin typeface="Tahoma"/>
              </a:rPr>
              <a:t>Contamina Paga: Instrumentos de Mercad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Impues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Tarif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Permisos de emisión transab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Depositos retornables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800000"/>
                </a:solidFill>
                <a:latin typeface="Tahoma"/>
              </a:rPr>
              <a:t>Contamina Paga: Instrumentos de Regulación Direc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Normas de calidad ambient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Normas de emis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Normas de proces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Prohibic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4400" spc="-1" strike="noStrike">
                <a:solidFill>
                  <a:srgbClr val="800000"/>
                </a:solidFill>
                <a:latin typeface="Tahoma"/>
              </a:rPr>
              <a:t>Contamina Paga: Instrumentos de aceptabilidad soc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Educación Ambient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Investig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800000"/>
                </a:solidFill>
                <a:latin typeface="Tahoma"/>
              </a:rPr>
              <a:t>Contamina Paga: Instrumentos voluntari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Auditorias (vinculados a mercados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Acuerdos voluntarios, compromisos voluntarios, autoregulac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800000"/>
                </a:solidFill>
                <a:latin typeface="Tahoma"/>
              </a:rPr>
              <a:t>Principio de Responsabilid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Quien genera daños ambientales debe repararl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Diseños especiales de sistemas de responsabilidad  en materia ambiental (en términos generales o para determinadas actividades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Manifestación del principio del que Contamina Pag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800000"/>
                </a:solidFill>
                <a:latin typeface="Tahoma"/>
              </a:rPr>
              <a:t>Principio Participativ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Las personas tienen derecho a participar en el desarrollo de los procesos ambienta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Derecho – Deber de Informar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800000"/>
                </a:solidFill>
                <a:latin typeface="Tahoma"/>
              </a:rPr>
              <a:t>Derecho a la Informac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El Derecho – De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Derecho para los ciudadan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Deber para la autoridad en ciertos cas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Deber para los entes regulados en determinados casos: ( manejo de sustancias o desechos peligroso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800000"/>
                </a:solidFill>
                <a:latin typeface="Tahoma"/>
              </a:rPr>
              <a:t>Principio de la Preven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Evitar las producción de efectos ambientales antes que su reparac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Normas de calidad y emis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Sistema de Evaluación de Impacto Ambient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Sistema de responsabilidad (prevención general y especial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800000"/>
                </a:solidFill>
                <a:latin typeface="Tahoma"/>
              </a:rPr>
              <a:t>Principio del Gradualism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Gradualidad en el establecimientos de nuevos estándar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Plazos adecuados para tomar medidas de control de contaminación o para la aplicación de nuevos estándares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800000"/>
                </a:solidFill>
                <a:latin typeface="Tahoma"/>
              </a:rPr>
              <a:t>Principio Precautor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Principio 15 Declaracion de Rí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Cuando haya peligro de daño grave o irreversible, la falta de certeza científica absoluta no deberá utilizarse como razón para postergar la adopción de medidas eficaces en función de los costos para impedir la degradación del medio ambiente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800000"/>
                </a:solidFill>
                <a:latin typeface="Tahoma"/>
              </a:rPr>
              <a:t>Que es el D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Regula la relación entre el hombre y M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Los impactos que las conductas del hombre generan en el MA y que redundan en impactos en el homb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800000"/>
                </a:solidFill>
                <a:latin typeface="Tahoma"/>
              </a:rPr>
              <a:t>Principio Precautor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Incerteza científ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Bioseguri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Ondas de radiodifus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800000"/>
                </a:solidFill>
                <a:latin typeface="Tahoma"/>
              </a:rPr>
              <a:t>DA no es simple!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Debe reflejar las complejidades que intenta regular: causas físicas y los efectos de la degrada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No es simple pues los ecosistemas y las actividades que causan impactos no lo s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Tahoma"/>
              </a:rPr>
              <a:t>La naturaleza se rehusa a cooperar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800000"/>
                </a:solidFill>
                <a:latin typeface="Tahoma"/>
              </a:rPr>
              <a:t>Caracteristicas del Ambien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COMPLEJIDAD. Dificil de comprender por su dimensión espacial y temporal. Un fenómeno puede tener consecuencial multiples, difusas, efectos sinergicos, imposibles de prev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DINAMISMO. Cambia muy rapidamente a veces de manera imperceptib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800000"/>
                </a:solidFill>
                <a:latin typeface="Tahoma"/>
              </a:rPr>
              <a:t>Caracteristicas del 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Compleji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Incertidumbre científ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Dinamis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Precautor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Controvers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Interdisciplinar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800000"/>
                </a:solidFill>
                <a:latin typeface="Tahoma"/>
              </a:rPr>
              <a:t>Orígenes del 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En el mun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1971 Declaración de Foun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1972 Declaración de Estocol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1988 Comisión Brundl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  <a:ea typeface="Arial"/>
              </a:rPr>
              <a:t>el desarrollo sostenible es el desarrollo que permite satisfacer las necesidades del presente sin comprometer la capacidad para que las futuras generaciones puedan satisfacer sus propias necesidades"</a:t>
            </a:r>
            <a:r>
              <a:rPr b="0" lang="es-MX" sz="2000" spc="-1" strike="noStrike" u="sng">
                <a:solidFill>
                  <a:srgbClr val="ccccff"/>
                </a:solidFill>
                <a:uFillTx/>
                <a:latin typeface="Arial"/>
                <a:ea typeface="Arial"/>
                <a:hlinkClick r:id="rId1" action="ppaction://hlinksldjump"/>
              </a:rPr>
              <a:t>[</a:t>
            </a: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1992 Declaración de Rio y la Agenda XX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2002 Rio+10, Conferencia de Sudafric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800000"/>
                </a:solidFill>
                <a:latin typeface="Tahoma"/>
              </a:rPr>
              <a:t>Principios Derecho Ambient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Curso Derecho Ambient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Javier Verga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800000"/>
                </a:solidFill>
                <a:latin typeface="Tahoma"/>
              </a:rPr>
              <a:t>Contamina Pag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El particular que actualmente contamina o que lo haga en el futuro debe incorporar en sus costos de producción todas las inversiones necesarias para evitar la contaminación”  (Mensaje ley de Bases) internalizar las externalidad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Se deben desarrollan instrumentos de políticas ambientales tendientes a internalizar estos cost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800000"/>
                </a:solidFill>
                <a:latin typeface="Tahoma"/>
              </a:rPr>
              <a:t>Contamina Paga: Instrumentos de mercado (excepciones al principio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6665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Concepto general del principio, es que no pueden exitir subsidios o incentivos fiscales para cumplir con la normativa ambiental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Excepciones al principio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Situaciones externalidades positiva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Pequeñas industrias (habitualmente costos de desarrollo, asimetrías de información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vergara</cp:lastModifiedBy>
  <dcterms:modified xsi:type="dcterms:W3CDTF">2005-03-02T17:10:25Z</dcterms:modified>
  <cp:revision>6</cp:revision>
  <dc:subject/>
  <dc:title>PowerPoint Presentation</dc:title>
</cp:coreProperties>
</file>