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561-F2BB-4F78-8C98-DF48AE9C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2F1-1BE3-433B-8DE0-DE76A1E7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31D-0E01-46B2-B231-0DC20DA0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D8F-53EA-44E7-8CC9-D2E2CE1E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606-D899-4EEF-902C-86396FB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582-A629-47CA-A246-53E52D7B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EB1-2FA2-4F59-A1DB-FFCF6D42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AAB-BD04-45D8-8792-8F817761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961-250C-454F-A20B-16F85D1A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71C-DC3B-4ED1-90E1-2343466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0A5-3C7E-426C-A50A-AF51378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F5E-88F5-49DF-A2DC-0B9BF07D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EF1F-29A6-491E-A21E-A32301D55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228600"/>
            <a:ext cx="3809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PRESIDENTE DE LA RE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1066680"/>
            <a:ext cx="185436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io Ejecutivo Conama. Director Ej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1066680"/>
            <a:ext cx="3606840" cy="233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sejo de Dire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nisterio de Economía; Obras Públicas; Agricultura; Bienes Nacionales; Salud; Minería; Vivienda y Urbanismo; Transporte y Telecomunicaciones; Planificación y Cooperación; Relaciones Exteriores; Educación; Defensa; y Secretario General de la Presidencia en calidad de Presidente.                                              Director Ejecutivo (secreta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1066680"/>
            <a:ext cx="1828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sejo Consultivo      Dos representantes de Universidades       Dos representantes ONG                      Dos representantes del Empresariado                Dos representantes de los Trabajadores               Un representante Presid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308320"/>
            <a:ext cx="15238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ités Operativo y Subc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060800"/>
            <a:ext cx="1676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 Regional Cona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0280" y="3733920"/>
            <a:ext cx="3682800" cy="191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REMA Intendente (Pdte.); Gobernador Provincial; 4 Consejeros Regionales. Seremis: Economía; Obras Públicas; Agricultura; Bienes Nacionales; Salud; Minería; Vivienda y Urbanismo; Transporte y Telecomunicaciones; Planificación y Cooperación; Educ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 Regional CONAMA (Secreta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791320"/>
            <a:ext cx="33526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ité Técnico Regional CONAMA                  Director de Servicios Públ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3803760"/>
            <a:ext cx="1828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sejo Consultivo Regional                Dos Representantes de Universidades        Dos Representantes ONG.                     Dos Representantes del Empresariado Dos Representantes de los Trabajadores               Un Intendente 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609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76212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762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800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419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361960" y="1523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200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638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38120" y="60199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762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304920"/>
            <a:ext cx="5486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COMISIÓN NACIONAL DEL MED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295280"/>
            <a:ext cx="167652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sejo de dire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295280"/>
            <a:ext cx="182880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mités Operativo y Subcomi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1295280"/>
            <a:ext cx="1676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io Ejecu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514600"/>
            <a:ext cx="198108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sejo Consul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3352680"/>
            <a:ext cx="266688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sejo Consultativo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4267080"/>
            <a:ext cx="19810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mité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3200400"/>
            <a:ext cx="129528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AMA Directorio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352680"/>
            <a:ext cx="1143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R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806560"/>
            <a:ext cx="30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00200"/>
            <a:ext cx="38088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NAC    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0360" y="5257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eci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5257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Ase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52578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ordinadores y deci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733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62320" y="2666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81916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391520" y="4038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391520" y="19051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38320" y="1752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58:30Z</dcterms:created>
  <dc:creator>rvillalta</dc:creator>
  <dc:description/>
  <dc:language>en-US</dc:language>
  <cp:lastModifiedBy>Javier Vergara</cp:lastModifiedBy>
  <dcterms:modified xsi:type="dcterms:W3CDTF">2004-04-07T15:40:18Z</dcterms:modified>
  <cp:revision>7</cp:revision>
  <dc:subject/>
  <dc:title>PowerPoint Presentation</dc:title>
</cp:coreProperties>
</file>