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B9F-D4DB-4F88-BB3F-F359AB46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AFE1-1AEF-4745-A1B0-934D1DFF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9737-9390-4D25-BF54-9C2ADBCF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EAE-B6B9-4394-B71A-1ABDC3D3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0FC2-0C09-4266-9E05-257A0141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F06-EEF6-44ED-803E-3FD2D0FE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6B00-BC79-4999-9F4C-CE8492E5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710-7D2B-4AEC-9ADC-3F3E20DB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BCF6-5218-4CB7-BC9F-1A8D4ACA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EAF-6464-418E-8224-14BA6D6A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A5F-1C22-43D4-95D0-29249A73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55B-8C7F-4199-9226-779EF8F9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DF63-AD56-4277-AC9B-FE36D0E55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228600"/>
            <a:ext cx="3809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PRESIDENTE DE LA REPÚB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7960" y="1066680"/>
            <a:ext cx="185436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rectorio Ejecutivo Conama. Director Ejecu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1066680"/>
            <a:ext cx="3606840" cy="2336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nsejo de Dire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inisterio de Economía; Obras Públicas; Agricultura; Bienes Nacionales; Salud; Minería; Vivienda y Urbanismo; Transporte y Telecomunicaciones; Planificación y Cooperación; Relaciones Exteriores; Educación; Defensa; y Secretario General de la Presidencia en calidad de Presidente.                                              Director Ejecutivo (secreta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81680" y="1066680"/>
            <a:ext cx="1828800" cy="265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nsejo Consultivo      Dos representantes de Universidades       Dos representantes ONG                      Dos representantes del Empresariado                Dos representantes de los Trabajadores               Un representante Presiden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308320"/>
            <a:ext cx="152388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mités Operativo y Subcom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060800"/>
            <a:ext cx="16765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rector Regional Cona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70280" y="3733920"/>
            <a:ext cx="3682800" cy="1910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REMA Intendente (Pdte.); Gobernador Provincial; 4 Consejeros Regionales. Seremis: Economía; Obras Públicas; Agricultura; Bienes Nacionales; Salud; Minería; Vivienda y Urbanismo; Transporte y Telecomunicaciones; Planificación y Cooperación; Educ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rector Regional CONAMA (Secreta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791320"/>
            <a:ext cx="33526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mité Técnico Regional CONAMA                  Director de Servicios Públ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3803760"/>
            <a:ext cx="1828800" cy="265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nsejo Consultivo Regional                Dos Representantes de Universidades        Dos Representantes ONG.                     Dos Representantes del Empresariado Dos Representantes de los Trabajadores               Un Intendente reg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609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762120"/>
            <a:ext cx="6781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762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82880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8006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4419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81080" y="1828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361960" y="15238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3200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5638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038120" y="60199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4495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43800" y="762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28800" y="304920"/>
            <a:ext cx="5486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COMISIÓN NACIONAL DEL MEDIO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295280"/>
            <a:ext cx="167652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nsejo de dire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1295280"/>
            <a:ext cx="182880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mités Operativo y Subcomi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1295280"/>
            <a:ext cx="16765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rectorio Ejecu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2514600"/>
            <a:ext cx="198108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nsejo Consult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3352680"/>
            <a:ext cx="266688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nsejo Consultativo Reg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4267080"/>
            <a:ext cx="19810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mité Téc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34320" y="3200400"/>
            <a:ext cx="129528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NAMA Directorio Reg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3352680"/>
            <a:ext cx="11430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R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806560"/>
            <a:ext cx="30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NI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600200"/>
            <a:ext cx="380880" cy="46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NAC    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REG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90360" y="525780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ecis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5257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Ase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52578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ordinadores y decis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9051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37339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362320" y="26668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819160" y="3505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44197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391520" y="40381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391520" y="19051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638320" y="1752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58:30Z</dcterms:created>
  <dc:creator>rvillalta</dc:creator>
  <dc:description/>
  <dc:language>en-US</dc:language>
  <cp:lastModifiedBy>Javier Vergara</cp:lastModifiedBy>
  <dcterms:modified xsi:type="dcterms:W3CDTF">2004-04-07T15:40:18Z</dcterms:modified>
  <cp:revision>7</cp:revision>
  <dc:subject/>
  <dc:title>PowerPoint Presentation</dc:title>
</cp:coreProperties>
</file>