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CC5-4801-458C-AF01-44CD2783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E8E-2AC5-44FB-9940-D77237D0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904-A460-447F-A29C-8209C239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566-95B0-4838-A58C-8931957B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9AF-21F5-4296-8468-4F4EA6F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91E-AA90-4D22-860A-7805BBC8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048-0D04-4452-898E-07462435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1F6-E979-4F29-B601-FB3AB285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E65-BB0B-4D6E-96B9-F8A7DBC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D6B-2998-4CC6-AEAD-A60A7C3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FD6-FDE6-4655-BA05-5F447B4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CF1-9C50-437A-9E0A-154065EC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9688-4F9B-4C44-9C50-10459DE3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228600"/>
            <a:ext cx="3809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ESIDENTE DE LA REPÚB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1066680"/>
            <a:ext cx="18543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io Ejecutivo Conama. Director Ej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066680"/>
            <a:ext cx="3606840" cy="233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de Dire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Ministerio de Economía; Obras Públicas; Agricultura; Bienes Nacionales; Salud; Minería; Vivienda y Urbanismo; Transporte y Telecomunicaciones; Planificación y Cooperación; Relaciones Exteriores; Educación; Defensa; y Secretario General de la Presidencia en calidad de Presidente.                                              Director Ejecutivo (secreta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1066680"/>
            <a:ext cx="1828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Consultivo      Dos representantes de Universidades       Dos representantes ONG                      Dos representantes del Empresariado                Dos representantes de los Trabajadores               Un representante Presid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08320"/>
            <a:ext cx="152388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ités Operativo y Subc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060800"/>
            <a:ext cx="1676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 Regional Cona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0280" y="3733920"/>
            <a:ext cx="3682800" cy="191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REMA Intendente (Pdte.); Gobernador Provincial; 4 Consejeros Regionales. Seremis: Economía; Obras Públicas; Agricultura; Bienes Nacionales; Salud; Minería; Vivienda y Urbanismo; Transporte y Telecomunicaciones; Planificación y Cooperación; Edu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 Regional CONAMA (Secreta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791320"/>
            <a:ext cx="33526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mité Técnico Regional CONAMA                  Director de Servicios Públ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3803760"/>
            <a:ext cx="1828800" cy="265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Consejo Consultivo Regional                Dos Representantes de Universidades        Dos Representantes ONG.                     Dos Representantes del Empresariado Dos Representantes de los Trabajadores               Un Intendente 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609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76212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800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361960" y="1523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200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638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38120" y="60199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762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304920"/>
            <a:ext cx="5486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OMISIÓN NACIONAL DEL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295280"/>
            <a:ext cx="16765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de dir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ités Operativo y Subcomi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1295280"/>
            <a:ext cx="1676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rectorio Ejecu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514600"/>
            <a:ext cx="19810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Consul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352680"/>
            <a:ext cx="266688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sejo Consultativo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4267080"/>
            <a:ext cx="19810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ité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3200400"/>
            <a:ext cx="129528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NAMA Directorio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352680"/>
            <a:ext cx="1143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R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806560"/>
            <a:ext cx="30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3808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NAC    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0360" y="5257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ec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5257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se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52578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ordinadores y dec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733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62320" y="2666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916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91520" y="4038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9152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38320" y="1752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58:30Z</dcterms:created>
  <dc:creator>rvillalta</dc:creator>
  <dc:description/>
  <dc:language>en-US</dc:language>
  <cp:lastModifiedBy>Javier Vergara</cp:lastModifiedBy>
  <dcterms:modified xsi:type="dcterms:W3CDTF">2004-04-07T15:40:18Z</dcterms:modified>
  <cp:revision>7</cp:revision>
  <dc:subject/>
  <dc:title>PowerPoint Presentation</dc:title>
</cp:coreProperties>
</file>