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AEF24-C560-43F2-9F51-78BB7E176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F2A7-C04F-436F-87BF-3B68D8FE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F744-CD52-49E3-BE4D-AA60CADAD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4CD66-F823-47FE-832B-2AF732AE1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C87D1-13CE-4576-AD0E-223FE011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6B0C-F4E8-4596-AD9D-C3A58DB1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7A39-34CD-4934-B0E0-B5ABF227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201F5-3800-4396-8F56-F89864A0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04C3E-F7C5-46E6-8156-EE22481C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CAD4-CF6A-4A60-ABB7-CEEA19196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9755-758D-42F0-9C66-D2C55E8E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470F-D801-484A-A75D-24CDEEDCF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D7E4-1606-43D4-92C3-805991652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g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Elementos Natur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intermedi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2"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La colisión de derechos (19 Nº22):</a:t>
            </a:r>
            <a:br>
              <a:rPr sz="4000"/>
            </a:br>
            <a:r>
              <a:rPr b="0" lang="es-ES_tradnl" sz="4000" spc="-1" strike="noStrike">
                <a:solidFill>
                  <a:srgbClr val="a50021"/>
                </a:solidFill>
                <a:latin typeface="Tahoma"/>
              </a:rPr>
              <a:t>La no discriminación arbitraria por razones ambientales</a:t>
            </a:r>
            <a:endParaRPr b="0" lang="en-US" sz="4000" spc="-1" strike="noStrike">
              <a:solidFill>
                <a:srgbClr val="000000"/>
              </a:solidFill>
              <a:latin typeface="Times New Roman"/>
            </a:endParaRPr>
          </a:p>
        </p:txBody>
      </p:sp>
      <p:sp>
        <p:nvSpPr>
          <p:cNvPr id="10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se hace con  quien no ejerce otros derechos (cuotas de captura pesque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rmas de ruido diferenciadas para fuentes fijas y construcción.</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16"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 (casos Araucari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18"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79000"/>
          </a:bodyPr>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cheverría Izquierdo con Servicio de Salud d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3-28T17:35:00Z</dcterms:modified>
  <cp:revision>20</cp:revision>
  <dc:subject/>
  <dc:title>PowerPoint Presentation</dc:title>
</cp:coreProperties>
</file>