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A87-A5F3-4EF1-BDD7-0BD06159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FD2-7F71-4CA8-A454-684ED2D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E89-04E0-4063-BC2D-9E376077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06C-10EA-4F15-9A2E-C93E9DEF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82E-B676-44CA-B742-97E49B4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3FA-8EE7-4B61-AC3C-350EEEFA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20F-5E35-4AD1-9A1C-A38C0A7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AFB-1ECB-4DD2-B7D6-C444A2C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717-E3D6-4814-8FAF-C090312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933-C803-4AB0-B169-F112DF5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891-E32F-4D2D-8D8A-0CEBEEC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1F6-4CEA-4E50-9BA8-DB1107D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9C4-EA3D-4E41-9FF2-6BF0B16ED9D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192560" cy="59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88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Schoolbook"/>
              </a:rPr>
              <a:t>Chile- Estadísticas Mine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2133720"/>
          <a:ext cx="8096400" cy="493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3720"/>
                    <a:ext cx="80964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18800" cy="695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entury Schoolbook"/>
              </a:rPr>
              <a:t>Chile - Claves para el Desarroll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Riqueza de recursos miner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Alta calidad de los profesionales y mano de ob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ultura min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uevas normas sobre minería en los años 8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onstitución Política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Ley Orgánica Constitucional (requiere 4/7 para ser enmend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Código Min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Fijación de normas sobre inversión extranjera a mediados de los años 7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entury Schoolbook"/>
              </a:rPr>
              <a:t>D.L. 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INVERSION EXTRANJERA MATERIALIZADA EN MINERIA </a:t>
            </a:r>
            <a:br>
              <a:rPr sz="2200"/>
            </a:br>
            <a:r>
              <a:rPr b="1" lang="en-US" sz="2200" spc="-1" strike="noStrike">
                <a:solidFill>
                  <a:srgbClr val="cc3300"/>
                </a:solidFill>
                <a:latin typeface="Century Schoolbook"/>
              </a:rPr>
              <a:t>(MILLONES DE DOLA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866960"/>
          <a:ext cx="7770960" cy="422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66960"/>
                    <a:ext cx="777096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PARTICIPACION EN LA PRODUCCION DE C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1:29:56Z</dcterms:created>
  <dc:creator>Consuelo Trujillo</dc:creator>
  <dc:description/>
  <dc:language>en-US</dc:language>
  <cp:lastModifiedBy>Consuelo Trujillo</cp:lastModifiedBy>
  <dcterms:modified xsi:type="dcterms:W3CDTF">2005-05-06T21:30:27Z</dcterms:modified>
  <cp:revision>1</cp:revision>
  <dc:subject/>
  <dc:title>No Slide Title</dc:title>
</cp:coreProperties>
</file>