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6C9-338C-4393-8795-E0D10DC0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B4C-466E-4669-B117-9A2693DC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313-3B04-4979-B582-6714F22F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149-6324-49C0-9832-F9ED1B53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D52-8E5E-4A92-A8D4-D6ED7B06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642-29A0-4E52-A9AA-FB3177D9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88F-34BE-41B3-ADD4-9169E187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107-09C6-4A33-B9D3-35354803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E244-4525-4216-A3F2-07988B2F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9BE-5528-4E69-BE04-7B746F5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829-B245-43CF-9CBF-959E7458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361-4618-4163-ADCF-01C2A9FD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6B5B-09FE-4836-A29E-B853D9F647A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192560" cy="595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588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Chile- Estadísticas Mine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2133720"/>
          <a:ext cx="8096400" cy="493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3720"/>
                    <a:ext cx="80964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18800" cy="695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Century Schoolbook"/>
              </a:rPr>
              <a:t>Chile - Claves para el Desarroll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Riqueza de recursos miner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Alta calidad de los profesionales y mano de ob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ultura mine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uevas normas sobre minería en los años 8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onstitución Política de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Ley Orgánica Constitucional (requiere 4/7 para ser enmend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ódigo Min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ormas sobre inversión extranjera a mediados de los años 7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D.L.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INVERSION EXTRANJERA MATERIALIZADA EN MINERIA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(MILLONES DE DOLA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866960"/>
          <a:ext cx="777096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66960"/>
                    <a:ext cx="777096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PARTICIPACION EN LA PRODUCCION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09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21:29:56Z</dcterms:created>
  <dc:creator>Consuelo Trujillo</dc:creator>
  <dc:description/>
  <dc:language>en-US</dc:language>
  <cp:lastModifiedBy>Consuelo Trujillo</cp:lastModifiedBy>
  <dcterms:modified xsi:type="dcterms:W3CDTF">2005-05-06T21:30:27Z</dcterms:modified>
  <cp:revision>1</cp:revision>
  <dc:subject/>
  <dc:title>No Slide Title</dc:title>
</cp:coreProperties>
</file>