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C60-DD31-4DB9-BF31-C5A125B7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BE5-EF29-44E4-9C7A-DEE51F54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41D-FDC7-48C7-8ACC-9F54B473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A6A-E6F4-4F3B-972B-ECE46CF2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C01-3056-4561-B55D-B74A58AF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4FE-C990-43C4-B771-3C653DBF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595-5A14-449D-86FB-1F2B6CF5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83B-9BA0-40C4-9BE6-1D0BC9B9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661-B3E8-4BDF-8B9E-C2690921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730-33F4-4AA1-B53F-05B19785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B2B-3E6A-4072-BFB0-47FE3333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5E6-A159-4181-B42A-3A597B9F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CB5A-52A1-459E-9FB1-597CDD4AAAC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192560" cy="595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588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Chile- Estadísticas Mine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2133720"/>
          <a:ext cx="8096400" cy="493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3720"/>
                    <a:ext cx="80964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18800" cy="695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Century Schoolbook"/>
              </a:rPr>
              <a:t>Chile - Claves para el Desarroll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Riqueza de recursos miner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Alta calidad de los profesionales y mano de ob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ultura mine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uevas normas sobre minería en los años 8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onstitución Política de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Ley Orgánica Constitucional (requiere 4/7 para ser enmend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ódigo Min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ormas sobre inversión extranjera a mediados de los años 7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D.L.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INVERSION EXTRANJERA MATERIALIZADA EN MINERIA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(MILLONES DE DOLA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866960"/>
          <a:ext cx="777096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66960"/>
                    <a:ext cx="777096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PARTICIPACION EN LA PRODUCCION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09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21:29:56Z</dcterms:created>
  <dc:creator>Consuelo Trujillo</dc:creator>
  <dc:description/>
  <dc:language>en-US</dc:language>
  <cp:lastModifiedBy>Consuelo Trujillo</cp:lastModifiedBy>
  <dcterms:modified xsi:type="dcterms:W3CDTF">2005-05-06T21:30:27Z</dcterms:modified>
  <cp:revision>1</cp:revision>
  <dc:subject/>
  <dc:title>No Slide Title</dc:title>
</cp:coreProperties>
</file>