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CA79-E794-4C3E-8788-2545F8644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F102-A149-4E96-BF0F-C843128C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A460-8A73-41B9-B185-CF16FB998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A10F-A038-46AC-BE44-4B38B8ED0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333D-17C4-4E38-9378-4CD7558A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6092-05E9-4072-8522-4551FA3F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AFEA-9FEA-4964-B9ED-92791798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CC2A-C254-4F52-8FD5-BF197BEE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CB35-2C37-43C0-AB4F-87F369B7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2F07-8AE3-441C-8136-4F7868EC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76F7-AC60-49C8-9E2F-6255D7BF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0958-46DA-46D7-B33B-D9ABA852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F713-E1AF-42C5-9B28-80E80E759569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4192560" cy="5951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382240" cy="5886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52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Chile- Estadísticas Miner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2133720"/>
          <a:ext cx="8096400" cy="4933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133720"/>
                    <a:ext cx="8096400" cy="49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18800" cy="6951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144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Century Schoolbook"/>
              </a:rPr>
              <a:t>Chile - Claves para el Desarroll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143000"/>
            <a:ext cx="7772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entury Schoolbook"/>
              </a:rPr>
              <a:t>Riqueza de recursos minera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entury Schoolbook"/>
              </a:rPr>
              <a:t>Alta calidad de los profesionales y mano de ob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entury Schoolbook"/>
              </a:rPr>
              <a:t>Cultura mine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entury Schoolbook"/>
              </a:rPr>
              <a:t>Fijación de nuevas normas sobre minería en los años 80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entury Schoolbook"/>
              </a:rPr>
              <a:t>Constitución Política de Chi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entury Schoolbook"/>
              </a:rPr>
              <a:t>Ley Orgánica Constitucional (requiere 4/7 para ser enmendad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entury Schoolbook"/>
              </a:rPr>
              <a:t>Código Min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entury Schoolbook"/>
              </a:rPr>
              <a:t>Fijación de normas sobre inversión extranjera a mediados de los años 70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 algn="just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entury Schoolbook"/>
              </a:rPr>
              <a:t>D.L. 6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Century Schoolbook"/>
              </a:rPr>
              <a:t>INVERSION EXTRANJERA MATERIALIZADA EN MINERIA </a:t>
            </a:r>
            <a:br>
              <a:rPr sz="2200"/>
            </a:br>
            <a:r>
              <a:rPr b="1" lang="en-US" sz="2200" spc="-1" strike="noStrike">
                <a:solidFill>
                  <a:srgbClr val="cc3300"/>
                </a:solidFill>
                <a:latin typeface="Century Schoolbook"/>
              </a:rPr>
              <a:t>(MILLONES DE DOLAR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5800" y="1866960"/>
          <a:ext cx="7770960" cy="422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66960"/>
                    <a:ext cx="7770960" cy="42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entury Schoolbook"/>
              </a:rPr>
              <a:t>PARTICIPACION EN LA PRODUCCION DE CO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1981080"/>
          <a:ext cx="777096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21:29:56Z</dcterms:created>
  <dc:creator>Consuelo Trujillo</dc:creator>
  <dc:description/>
  <dc:language>en-US</dc:language>
  <cp:lastModifiedBy>Consuelo Trujillo</cp:lastModifiedBy>
  <dcterms:modified xsi:type="dcterms:W3CDTF">2005-05-06T21:30:27Z</dcterms:modified>
  <cp:revision>1</cp:revision>
  <dc:subject/>
  <dc:title>No Slide Title</dc:title>
</cp:coreProperties>
</file>