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E2C-5F9E-4E36-99B9-BA33A355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4A7-E5D3-474B-91B8-604B80F9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7C7-8188-4194-B4A3-591B3A30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108-78A9-4549-AA89-69D21677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436E-0700-4353-95D2-EA6A03E8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F58F-E352-45D4-A413-0226DD4F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4F1F-AECF-4B35-A87E-8F94B127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A217-CFF9-4473-9FA3-91B8F3CA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2237-77D0-494D-97BC-A0F80041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8E7A-5EE5-4BF9-8258-AEB2594B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BFA3-0188-4030-9C03-2F63917A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A56-1EAA-4387-AB81-8CF0138A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9C86-5040-406A-938B-FC0604C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A24C-EF53-4834-8765-725DE335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DBA1-8F72-400D-B374-2E0EFE1E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F992-DA24-4DB1-B6CF-6D7813A7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8881-A6FB-4F40-A212-395CC557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E3C-161A-4EEE-8128-0B31829B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B73-66FF-4045-A44F-26364C0F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708-C702-451C-97CA-B8E3F817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41B-F44B-456D-94DB-0A4121B3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9FA-61ED-4981-B6C8-1D332E74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161-491D-4A37-A599-9D63A919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B6D-8152-4D7E-845C-E7C0F938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0A12-9C08-4BD8-87C4-E99FBFAF937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33FA-73BA-4199-AA20-8A02543EF04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IMPUESTO AL</a:t>
            </a:r>
            <a:br>
              <a:rPr sz="3600"/>
            </a:b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VALOR AGREGADO (IVA)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fesor: Rodrigo Rojas Palma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yudantes: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Jorge Carraha </a:t>
            </a: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Rodrigo Zarhi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200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QUISITOS HECHO GRAVAD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ASICO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Convención Traslaticia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ominio o de una cuota domin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vención, acto o contrato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dependiente del nombre que le den las partes que sirva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ransferir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Transferir una cuota de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inio: derecho real que permite usar, gozar y disponer de una cosa arbitrariamente “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iedad, separada del goce de la cosa se llama “nuda propied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2.- Debe recaer sobre bienes corporales</a:t>
            </a: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muebles, bienes corporales inmuebles de una empresa constructora, o derechos re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944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lasificación de los Bie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8288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1752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2362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- prod. De inmue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327672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5720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lasificación de los derech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4648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502920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020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.- Transferencias afec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e propiedad de una empresa constructo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b.- por cuenta propia, celebrando con terceros uno o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más contratos de administración para la ejecución de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la ob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.- por cuenta propia, celebrando con terceros todas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o algunas especial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que encarga la ob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or cuenta propia celebrando un contrato general de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rucción por suma alzada con otra empres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ruc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dquiriendo obras construidas y terminadas por otra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ituación de empresa constructor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dquiridos terminados, a los cuales la empresa constructora efectúa obras adicionales, complementarias, ampliaciones, terminaciones o remodelaciones – Hecho gravado sólo las obras complementar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ción Im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Convención a título Oneros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ólo tienen por objeto la utilidad de una de las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utilidad de ambas partes, gravándose un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o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060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Bienes deben estar ubicados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l Territorio Nacion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territorio 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ependiente lugar en que se celebre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pec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ienes que se encuentren embarc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 proced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- Realizada por un “vendedor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dor – definición leg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ículo 10 No. 3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turaleza, cantidad y fr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abitualidad” – elemento subjetiv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entas respecto de las cuales n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se tiene calidad de vended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articulares que ocasionalmente vend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us bienes nuevos o us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resas que vendan bienes corpo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ebles que integran su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ovilizado o fijo (ojo art. 8 letra 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tas materiales sobrantes adquir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ánimo de ser consumidos o utiliz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ante rodaje administrativo (p.e. pap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alificación habitualidad venta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dor: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 organizada para construir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der, aunque no sea exclusivo, o s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porádico, o aprovech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asionalmente para construir y v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dicaciones – se presume habitu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¿Quién es vendedo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4360" y="2209680"/>
            <a:ext cx="382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57200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NO son vended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mpresas que vendan material oficina sobr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abitualidad Empresa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da empresa organizada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y vender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giro construcción no sea exclus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nque giro construcción sea esporádico 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enor importa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existe organización empresa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ta usada ocasionalmente para constr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vender uno o vario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No se califica de habitual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mpresas constructor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s de inmuebles que las empresas constructoras hayan construido para 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so, esto 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ecesarios para producir la renta,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Que hayan estado sujeto al trat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able y tributario de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Los Impuestos Directo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Gravan la riqueza al momento de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gene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p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ob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tib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tib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24685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finición de Servic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2 No.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quisitos del Servicio com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 gravado básic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.- Realización de una prestación a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avor de otra person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4674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n importar que sea HABITUAL u OCAS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.- Que el prestador del servici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erciba una remunerac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7162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cibir”: recibir una cosa y entregarse de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.- Proveniente actividades del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ías. Aéreas, de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.- Proveniente actividades del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artículo 20 No. 3 y 4 Ley Ren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ctividades del 20 No.4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Agentes de seguros que no sean personas natura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línicas, hospitales, laboratorios y otros establecimientos análogos particula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Empresas de diversión y espar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86832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Impuestos Indirect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Grava la riqueza cuando se con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yente de Derech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ace la obligación tribu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yente de Hech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orta carga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terpretaciones del SI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.- El servicio debe prestarse 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utilizarse en Chi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 especiales en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s ven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peraciones, transacciones o prestaciones que la ley expresamente EQUIPARA a ventas. – Establecidas artículo 8 de la L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nque no tengan todos los elementos del hecho gravado básico de ventas (p.e. puede faltar calidad de “vendedor”, habitualidad, et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istad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Import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Aportes a socie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Adju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Retiros efectuados por vendedor 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Retiros destinados a rifas y sort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Entregas o distribuciones gratui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Contratos instalación o confección de especial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istad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Contratos generales de constr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Venta de establecimiento de comercio y de otras univers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Promesa de venta de bienes corporales muebles de propiedad de una empresa constructora de su giro, contratos de arriendo con opción de comp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venta bienes activo fijo antes 48 ó 12 me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Importacio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por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troducción legal de mercaderías extranjeras para su uso o consumo en el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se distingue si hay habitu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ortación realizada por cualquier persona, sea o no vendedor o prestador de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mpuesto se devenga al consumarse legalmente la importación (termina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Aportes a socie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porte o transferencia de dominio o de una cuota de dominio con oca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onstitución, ampliación, mo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OCIE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nes corporales muebles o inmuebles de propiedad de empresas constructoras, o en derechos reales constituidos sobre dichos bi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rtante debe tener calidad de “vendedo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Adjudicaciones en liquidacio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 sociedades (8,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ichos muebles sean propios del giro de la respectiva sociedad o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be ser originada por liquidación de sociedad o comun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Impuesto a las Ventas y Servicios</a:t>
            </a:r>
            <a:br>
              <a:rPr sz="2800"/>
            </a:b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es un impuesto Indirec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yor recaudación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 traslación o recar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ci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ción y pago men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djudicación d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judicación de 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iquidación de sociedades que sean empresas constructoras, comunidades, cooperativas de vivi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es necesario que sea del giro de la constructora, comunidad o cooperati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Retiros efectuados por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mpresario, socios, direct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s efectuados por empresario, socios, directores o emple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corporales muebles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jeto: uso o consumo personal de tales personas o sus famil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etiro de Bienes Corporal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 de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truido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forma parte de activo fijo (mas de 12 meses) el retiro no se afecta con 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altantes de inventario – Se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ideran reti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sunción legal de que los faltantes de inventario constituyen reti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necesario justificar salida de faltantes mediante documentación fehac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notaciones cronológicas en sistema de inventario permanente, contabilidad fidedig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enuncias por robos o accid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Informes liquidadoras de seg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ermas reconocidas por ley u organismo E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- Bienes entregados a rifas 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istribuidos 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tiro de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ean o no del giro de la empr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estinados a rifas y sort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Fines promocionales o de propa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Realizado por vendedores (no prestadores de 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es necesaria la habitu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5.1 Bienes distribui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gratuitamen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art. 8 letra 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trega o distribución gratuita de bi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realizados con fines de promoción o propag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alidad de 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pueden o no ser del giro del 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No cumplen requisitos distribuciones efectuadas con fin simplemente benéf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6.- Contrato de Instalación o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fección de Especi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iene por objeto la incorporación de elementos que adhieren permanentemente al inmueble y son necesarios para que cumpla cabalmente la función específica para lo cual se construy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equiparan a venta cuando son a “suma alzad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7.- Contratos Generale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ció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cepto del contrato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ato que tiene por finalidad la confección de una obra material inmueble nueva que comprenda al menos dos especialidades, sea que se efectúe por si mismo o por intermedio de terc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uma al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que construye suministra materias o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que encarga la construcción suministra la materia o las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s o las materias princip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uación Histó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asta el 01.10.87 sólo se gravaban los contratos por administración (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7.- Contratos Generale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strucción (cont.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- Venta de establecimiento de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blecimiento de Comer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- Universalidad de hecho con existencia distinta a la de los      elementos que la componen, corporales e incorporales, donde el comerciante ejerce su of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idad de H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odo conjunto de bienes corporales e incorporales unidos opr su afectación a un fin común y que posee individualidad propia e independiente de los elementos que la componen (p.e. Fábricas, establecimientos industriales, bibliotecas, museo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diferentes etapas de circulación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- Venta de establecimiento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mercio y otras universalida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quisitos del hecho gravado espe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s el valor de los bienes corporales muebles PROPIOS DEL GIRO del establecimiento o universalidad que se ven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alidad de “vendedor” de l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Se exceptúan bienes del activo inmovi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esión del derecho de herencia (art.8 letra 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8.1 Si establecimiento o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universalidad incluyen inmue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. 8 letra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de establecimientos de comercio y otras universalidades que comprenden inmuebles del giro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ben pertenecer el activo realizable, ser “vended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9.- Promesa de venta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rporales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mesa de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corporales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 propiedad de una empresa construc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gi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struidos total o parcialmente por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0.- Contratos de arriendo con opción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de compra de b.c.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trato de arriendo con opción de comp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elebrados por empresas constructo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specto de inmuebles total 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rcialmente construidos por el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asimilan a las promesas de venta para la aplicación del tribut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2.- Venta de Bienes del Activ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de bienes corporales muebles o in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lasificados en activo fi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nta antes de los 48 meses contados desde su adquisición (muebles) ó 12 meses (inmue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Que el contribuyente haya tenido derecho al CREDITO FISCAL por IVA sopor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vehiculos motoriz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aplica de la misma man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queda exento del impuesto especial contemplado en el artículo 41 de la Ley (0,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2.- Venta de Bienes del Activ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Fijo (art. 8 letra m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HECHOS GRAVADO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960280"/>
            <a:ext cx="77724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uebles e inmueb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, subarrendamiento, usufructo o cualquier otra forma de cesión temporal del uso y goce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.- bienes corporales mue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b.- 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c.- inmuebles con instalaciones o maquinarias que permitan el ejercicio de una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d.- todo tipo de establecimiento de comerci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 bienes corporales muebles que forman parte del activo fi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rrendamiento entre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obre bienes cuya venta está exenta de 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bienes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rporales muebles (cont.)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, subarrendamiento, otras formas de cesión temporal de uso o g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mobl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mobiliario y menaje en cantidad y naturaleza suficiente para ser habi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inmueble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amobla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4724280"/>
            <a:ext cx="51051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VA  se aplica sólo a renta que exceda del 11% o del  avaluo fiscal al año o en la proporción que corresponda (sólo aplicable a arrien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continuació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no agrícolas que tengan instalaciones o maquinarias que permitan desarrollar actividad comercial o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muebles agrícolas, en la parte que tengan actividades industriales anexas o complementarias desarrolladas dentro del pre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1.- Arrendamiento de inmueble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n instalacion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51055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VA sólo renta que exceda del 11% del avaluo fiscal o de la cantidad proporcional que corresponda (arrien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rendamiento, subarrendamiento, cualquier forma de cesión temporal del uso y go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ienes incorporales que tiene su origen en “propiedad intelectual” y “propiedad industri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 se grava la constitución del derecho, ni la enajen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2.- Arrendamiento de marcas,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atentes y prestaciones similar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3.- Estacionamiento de vehículos 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n playas de estacionamient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cionamiento de vehículo en playas de estacionamiento u otros lugares destinado a dicho f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terrenos sin construcción, o construcciones lige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Edificios especialmente destinados a tal ef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4.- Primas de seguros de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cooperativas de segur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imas de cooperativas de servicios de segu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tes de modificación de 1980, no constituía hecho hecho gravado por cuanto no era actividad clasificado en Nos. 3 y 4 art. 20 Ley Renta, sino que se clasificaban en el número 5 del mencionado precep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isten ciertas exenciones apli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Base Imponible” –precio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agado por consumidor final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stablece un impuesto a Ventas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Estructura General de la Ley</a:t>
            </a: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(Decreto Ley 825 de 1974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01:31Z</dcterms:created>
  <dc:creator>JCARRAHA</dc:creator>
  <dc:description/>
  <dc:language>en-US</dc:language>
  <cp:lastModifiedBy> Rodrigo Rojas</cp:lastModifiedBy>
  <dcterms:modified xsi:type="dcterms:W3CDTF">2005-03-30T03:00:01Z</dcterms:modified>
  <cp:revision>9</cp:revision>
  <dc:subject/>
  <dc:title>Presentación de PowerPoint</dc:title>
</cp:coreProperties>
</file>