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8E520-5DD6-4A68-940C-ACE474483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CC858-F2F5-49D9-BB82-AECA3C12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7CD9D-14F8-4C2B-B31B-58A4C4F36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E0DBD-8796-4EE2-A83E-07AB343A2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FE4BA-3056-411A-9864-7C598D5DF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93B5F-B1D5-4B39-B4FF-0E9DFD1D7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B2B38-4504-4D73-A9CA-37C162180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453B0-394B-4427-91DE-6DEAAB3F1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A7D5B-0861-4D28-B33D-525E9BC76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5703D-F2F1-481B-9906-FE8BB409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38E59-BE30-43E9-8B55-87843926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5F13-C45A-432C-9AFF-84695C46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68B5-896A-4D79-B495-73A155C1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02573-8FDE-42E8-98B0-A8BEA4390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76F3C-29FE-4DDC-B9B5-3425C343C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37EF7-F6B9-468A-BBC6-6E100498F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A1352-A5F8-4F42-9D87-A3051B6BF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06FF6-4734-40C3-BB08-95DBA0867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4E0C-BB6E-4B1A-A357-7FC4C2A4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F50E2-77C1-4FEE-8831-B76E9465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2E5E-8A9E-49FC-8FE3-3EA0FE9A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B398-2258-4CC2-801A-7148314F0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1AE4-1486-48B9-929D-548D098B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5BA6-4285-4E0A-88C8-D010AE523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4B0D-5DF3-4550-9BCF-6CA9D998B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9BF6-8640-4745-931F-AD18CAF93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4-29T18:46:52Z</dcterms:modified>
  <cp:revision>55</cp:revision>
  <dc:subject/>
  <dc:title>LEY DE IMPUESTO A LA RENTA</dc:title>
</cp:coreProperties>
</file>