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DD4CD-2B8F-46CA-B726-9D22E2020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8868A-8615-4978-82A1-EE58F6CB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6FF1A-3DA7-465C-9D63-CD28E58E0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85528-7329-48F7-BA69-7CD81085E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5C946-F3E8-4406-8570-55F2430C6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A3F4F-0BA5-494E-B755-FB0EFB2D2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66E75-D1FC-4EDA-9294-C11E29972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418C4-4CB6-4AD2-B22C-09BEE864D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52BE5-ED2C-4BED-ABB7-11B019FA8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A1850-A5DE-42B1-9389-52FF350A2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493D1-A8B3-4CFD-8504-4A1F1919C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CDA7A-7463-4345-BD94-BEA43372B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A3693-3B60-4B9D-98EF-E041AA000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4AD01-6918-4B8E-BB30-6AC69CCD2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4CFED-BA0D-44DD-9E97-93ED46332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13D99-4DDB-4F30-B1C9-0E4FB11C5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1F0E2-B437-4C33-B06A-A6598B729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2FC51-C742-4422-B052-6AF3E25E7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6F8C-7AD5-488A-8346-50979B5B4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A9AD-0A2C-4D76-AC81-9283556B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51B85-DCA6-453D-B68B-FE0ADD48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1D75-FEED-4D9D-9CDD-2356150C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27FF-4A6D-498C-89F7-229A30CA2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B389-1794-4B64-98E2-83EBBC964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8DA7-AD57-46DB-BB55-DD4905989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4736-CD23-4661-A510-25ACD31B5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4-29T18:46:52Z</dcterms:modified>
  <cp:revision>55</cp:revision>
  <dc:subject/>
  <dc:title>LEY DE IMPUESTO A LA RENTA</dc:title>
</cp:coreProperties>
</file>