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E35-965B-4458-AB93-B74EF11C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131-96B6-4295-9EB7-A04EF40B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A79-6F01-461A-93CC-D579FD35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5E6-7DDA-483C-89F9-4609C32C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EB97-756B-44A6-A555-66204383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8C0E-A12B-4DD2-90C1-193E6713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16EF-363A-4F47-AD82-F162500F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119C-D743-4650-B250-77257B6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19FF-8147-4D4C-87DB-CDA1CB22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06E1-C16D-4671-83F8-A6D0CBEC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B9F2-882C-42F8-A919-22F818E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AE1-8EE0-4BFA-BE45-C6F1A029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DA86-A060-430B-A13A-43AA2863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69D1-5906-4EB1-B410-74AFF31C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07EB-44EB-48AD-A3FE-5B3E6EF4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D9AE-6307-4EDE-8D79-776DB696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BFC6-692E-4353-BCD6-852BB502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3EC-6096-4FAC-AB10-091C0599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0F0-2C67-43D8-845A-C6B79C7D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21E-9EAC-4240-881C-9A17EF32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0ED-530F-49F0-A27C-F440EDD2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CB0-5154-481D-AB7D-F0F517AD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9E3-7BFB-4843-A405-D1593A5A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34B-4B47-42D5-9930-9408AD6C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4E91-F805-47D3-925B-B2BF9F31A16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8FA9-0A76-44A1-A3BB-4B2C181E85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IMPUESTO AL</a:t>
            </a:r>
            <a:br>
              <a:rPr sz="3600"/>
            </a:b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VALOR AGREGADO (IVA)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fesor: Rodrigo Rojas Palma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yudantes: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Jorge Carraha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odrigo Zarhi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QUISITOS HECHO GRAVAD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ASICO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Convención Traslaticia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ominio o de una cuota domi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vención, acto o contra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dependiente del nombre que le den las partes que sirva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ransferir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ransferir una cuot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inio: derecho real que permite usar, gozar y disponer de una cosa arbitrariamente “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iedad, separada del goce de la cosa se llama “nuda 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2.- Debe recaer sobre bienes corporales</a:t>
            </a: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uebles, bienes corporales inmuebles de una empresa constructora, o derechos re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944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lasificación de los Bie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8288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1752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362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- prod. De inmue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5720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lasificación de los derech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4648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502920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020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.- Transferencias afec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e propiedad de una empresa constructo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b.- por cuenta propia, celebrando con terceros uno o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más contratos de administración para la ejecución de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la 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.- por cuenta propia, celebrando con terceros todas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o algun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or cuenta propia celebrando un contrato general de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rucción por suma alzada con otra empres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ruc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dquiriendo obras construidas y terminadas por otra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dquiridos terminados, a los cuales la empresa constructora efectúa obras adicionales, complementarias, ampliaciones, terminaciones o remodelaciones – Hecho gravado sólo las obras complementar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ción Im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Convención a título Oneros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ólo tienen por objeto la utilidad de una de las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utilidad de ambas partes, gravándose un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o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Bienes deben estar ubicados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l Territorio Nacion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territorio 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ependiente lugar en que se celebre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pec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ienes que se encuentren embarc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 proced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- Realizada por un “vendedor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dor – definición le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ículo 10 No. 3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turaleza, cantidad y fr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abitualidad” – elemento subjeti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entas respecto de las cuales n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e tiene calidad de vended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rticulares que ocasionalmente vend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us bienes nuevos o us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resas que vendan bienes corpo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ebles que integran su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ovilizado o fijo (ojo art. 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tas materiales sobrantes adquir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ánimo de ser consumidos o utiliz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ante rodaje administrativo (p.e. pa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alificación habitualidad venta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dor: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 organizada para construir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r, aunque no sea exclusivo, o s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porádico, o aprovech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asionalmente para construir y v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dicaciones – se presume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¿Quién es vendedo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4360" y="2209680"/>
            <a:ext cx="382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5720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NO son vended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s que vendan material oficina sobr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abitualidad Empresa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da empresa organizada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y vender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giro construcción no sea exclu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giro construcción sea esporádico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enor impor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existe organización empresa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ta usada ocasionalmente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vender uno o vario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No se califica de habitual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mpresas 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s de inmuebles que las empresas constructoras hayan construido para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so, esto 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ecesarios para producir la renta,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Que hayan estado sujeto al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able y tributario de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Los Impuestos Directo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Gravan la riqueza al momento de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gene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p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ob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tib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tib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4685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finición de Servic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2 No.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quisitos del Servicio com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.- Realización de una prestación 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avor de otra person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4674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n importar que sea HABITUAL u OCA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.- Que el prestador del servici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erciba una remunerac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cibir”: recibir una cosa y entregarse de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.- Proveniente actividades del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ías. Aéreas, de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.- Proveniente actividades del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ctividades del 20 No.4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gentes de seguros que no sean personas natura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línicas, hospitales, laboratorios y otros establecimientos análogos particula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Empresas de diversión y espar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8683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Impuestos Indirect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Grava la riqueza cuando se con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yente de Derech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ace la obligación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yente de Hech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orta carga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terpretaciones del S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.- El servicio debe prestarse 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utilizarse en Ch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 especiales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peraciones, transacciones o prestaciones que la ley expresamente EQUIPARA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istad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Import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Aportes a socie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Adju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Retiros efectuados por vendedor 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Retiros destinados a rifas y sort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Entregas o distribuciones gratui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Contratos instalación o confección de especial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istad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Contratos generales de constr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Venta de establecimiento de comercio y de otras univers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Promesa de venta de bienes corporales muebles de propiedad de una empresa constructora de su giro, contratos de arriendo con opción de comp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venta bienes activo fijo antes 48 ó 12 me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Importacio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troducción legal de mercaderías extranjeras para su uso o consumo en el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se distingue si hay habitu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ortación realizada por cualquier persona, sea o no vendedor o prestador de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uesto se devenga al consumarse legalmente la importación (termin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Aportes a socie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porte o transferencia de dominio o de una cuota de dominio con oca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stitución, ampliación, mo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OCI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rtante debe tener calidad de “vendedo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Adjudicaciones en liquidacio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 sociedades (8,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ichos muebles sean propios del giro de la respectiva sociedad o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Impuesto a las Ventas y Servicios</a:t>
            </a: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s un impuesto Indirec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yor recaudación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 traslación o recar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y pago men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djudicación d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Retiros efectuados por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mpresario, socios, direct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corporales muebles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tiro d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 de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truido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forma parte de activo fijo (mas de 12 meses) el retiro no se afecta con 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altantes de inventario – Se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ideran reti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notaciones cronológicas en sistema de inventario permanente, contabilidad fidedig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enuncias por robos o acci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formes liquidadoras de seg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ermas reconocidas por ley u organismo E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- Bienes entregados a rifas 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istribuidos 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ean o no del giro de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estinados a rifas y sort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Fines promocionales o de propa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Realizado por vendedores (no prestadores de 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es necesaria la habitu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1 Bienes distribui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realizados con fines de promoción o propa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alidad de 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ueden o no ser del giro del 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cumplen requisitos distribuciones efectuadas con fin simplemente benéf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6.- Contrato de Instalación o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fección de Especi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7.- Contratos Generale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ció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uma al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que construye suministra materias o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que encarga la construcción suministra la materia o las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s o las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Histó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asta el 01.10.87 sólo se gravaban los contratos por administración (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7.- Contratos Generale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ció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- Venta de establecimiento de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- Universalidad de hecho con existencia distinta a la de los      elementos que la componen, corporales e incorporales, donde el comerciante ejerce su of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diferentes etapas de circulación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- Venta de establecimiento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s el valor de los bienes corporales muebles PROPIOS DEL GIRO del establecimiento o universalidad que se ven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alidad de “vendedor” de l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e exceptúan bienes del activo inmovi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esión del derecho de herencia (art.8 letra 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1 Si establecimiento o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universalidad incluyen inmue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9.- Promesa de venta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rporales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0.- Contratos de arriendo con opción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 compra de b.c.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specto de inmuebles total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rcialmente construidos por el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2.- Venta de Bienes del Activ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antes de los 48 meses contados desde su adquisición (muebles) ó 12 meses (inmue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vehiculos motoriz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aplica de la misma man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queda exento del impuesto especial contemplado en el artículo 41 de la Ley (0,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2.- Venta de Bienes del Activ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96028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uebles e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, subarrendamiento, usufructo o cualquier otra forma de cesión temporal del uso y goce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.-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.- inmuebles con instalaciones o maquinarias que permitan el ejercicio de una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 bienes corporales muebles que forman parte del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 entre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obre bienes cuya venta está exenta de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rporales muebles (cont.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obiliario y menaje en cantidad y naturaleza suficiente para ser habi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inmueble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mobla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4724280"/>
            <a:ext cx="51051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VA  se aplica sólo a renta que exceda del 11% o del  avaluo fiscal al año o en la proporción que corresponda (sólo aplicable a arrien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inmueble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 instalacion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51055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VA sólo renta que exceda del 11% del avaluo fiscal o de la cantidad proporcional que corresponda (arrien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, subarrendamiento, cualquier forma de cesión temporal del uso y go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incorporales que tiene su origen en “propiedad intelectual” y “propiedad industri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se grava la constitución del derecho, ni la enajen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Arrendamiento de marcas,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atentes y prestaciones similar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Estacionamiento de vehículo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n playas de estacionamien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terrenos sin construcción, o construcciones lige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dificios especialmente destinados a tal ef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Primas de seguro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operativas de segu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tes de modificación de 1980, no constituía hecho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ase Imponible” –preci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agado por consumidor final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stablece un impuesto a Venta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tructura General de la Ley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Decreto Ley 825 de 1974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01:31Z</dcterms:created>
  <dc:creator>JCARRAHA</dc:creator>
  <dc:description/>
  <dc:language>en-US</dc:language>
  <cp:lastModifiedBy> Rodrigo Rojas</cp:lastModifiedBy>
  <dcterms:modified xsi:type="dcterms:W3CDTF">2005-03-30T03:00:01Z</dcterms:modified>
  <cp:revision>9</cp:revision>
  <dc:subject/>
  <dc:title>Presentación de PowerPoint</dc:title>
</cp:coreProperties>
</file>