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3F7-3D72-42E0-87F7-AA83A9C4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09A-2FE9-4E54-9443-A5E6D64A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DF7-D095-4E89-BB66-8E48CD40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D60-D725-41A2-803A-F7B39735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AEE6-7FA8-46BE-9478-0035D03B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AAE2-0766-4632-9A39-BC94A892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A9A9-C705-44BB-A092-8B00EFD5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0588-853D-4984-8A36-05E0F1AE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5064-75EA-4DA7-808B-FE73E90A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A1F6-835D-43FC-A5F3-CE260F01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440A-9509-4AB6-AD4C-0ADABE4D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21BF-6561-45E2-8E9F-D5F4970D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9108-27F0-430A-9813-A013B311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1E86-4974-4CFE-8D86-B16A26E3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76AB-4943-44A2-B2BE-69AE105B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8843-8241-4CDA-A4E1-40CA0966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23C7-CFC1-49F2-8929-06376F53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1CF-8D4E-47E3-8349-41BA4FB8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1F36-3D0D-41F3-8643-1AFC5886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E1B-F529-4E2E-A8C8-680B1B01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493-7D37-46CF-BEBC-E79765C6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E29-82EC-4641-B9C3-976C6FD6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ED4-B246-471C-9110-FCE524D4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A85-2608-43A9-99E8-762B3ABB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01EB-9990-4FD8-8FB4-C925D678883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CF09-D34C-4463-9AE4-81DDCF63253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IMPUESTO AL</a:t>
            </a:r>
            <a:br>
              <a:rPr sz="3600"/>
            </a:b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VALOR AGREGADO (IVA)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rofesor: Rodrigo Rojas Palma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yudantes: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Jorge Carraha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Rodrigo Zarhi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EQUISITOS HECHO GRAVAD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BASICO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Convención Traslaticia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ominio o de una cuota domi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vención, acto o contrat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dependiente del nombre que le den las partes que sirva p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ransferir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ransferir una cuot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inio: derecho real que permite usar, gozar y disponer de una cosa arbitrariamente “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iedad, separada del goce de la cosa se llama “nuda 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2.- Debe recaer sobre bienes corporales</a:t>
            </a:r>
            <a:br>
              <a:rPr sz="2800"/>
            </a:b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uebles, bienes corporales inmuebles de una empresa constructora, o derechos rea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944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lasificación de los Bie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1981080"/>
            <a:ext cx="2209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ser re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182880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3352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1752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2057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nticip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2362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- prod. De inmue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572000"/>
            <a:ext cx="1828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derech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32767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3657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d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038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Destin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45720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548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lasificación de los derech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Domi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2133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ufru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abi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657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Servid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re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343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ipote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2819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4648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502920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en sobre d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020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.- Transferencias afec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e propiedad de una empresa constructo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ituación de empresa constructora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.- por cuenta propia, realizando ella mis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odas l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b.- por cuenta propia, celebrando con terceros uno o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más contratos de administración para la ejecución de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la o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.- por cuenta propia, celebrando con terceros todas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o algun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ituación de empresa constructora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Por cuenta propia celebrando un contrato general de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rucción por suma alzada con otra empres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ruc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dquiriendo obras construidas y terminadas por otra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ituación de empresa constructo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adquiridos terminados, a los cuales la empresa constructora efectúa obras adicionales, complementarias, ampliaciones, terminaciones o remodelaciones – Hecho gravado sólo las obras complementar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lasificación Im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1.- Impuestos Dir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2.- Impuestos Indir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3.- Convención a título Oneros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ratuit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ólo tienen por objeto la utilidad de una de las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es, sufriendo la otra todo el gravame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neros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utilidad de ambas partes, gravándose un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cio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-3060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4.- Bienes deben estar ubicados en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l Territorio Nacion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bicados en territorio 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dependiente lugar en que se celebre conv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pec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ción bienes ubicados transitori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ra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ienes cuya inscripción, matrícula o patente hay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o otorgada en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ienes que se encuentren embarc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ís proced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5.- Realizada por un “vendedor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dedor – definición leg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ículo 10 No. 3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finición – artículo 2 No.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abitualidad – calificada por el S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RT. 4.- Reglamento: SII considerará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aturaleza, cantidad y fr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Presunciones de habitualidad - g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abitualidad” – elemento subjeti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rresponde al contribuyente probar 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existe habitualidad y/o que no adquiri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 “ánimo” de rev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ume habitualidad respecto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 las transferencias y reti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ctuados por un vendedor dentro de 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entas respecto de las cuales n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e tiene calidad de vended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articulares que ocasionalmente vend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us bienes nuevos o us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resas que vendan bienes corpo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ebles que integran su a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ovilizado o fijo (ojo art. 8 letra 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tas materiales sobrantes adquir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ánimo de ser consumidos o utiliz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ante rodaje administrativo (p.e. pap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alificación habitualidad venta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dedor: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mpresa organizada para construir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der, aunque no sea exclusivo, o s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porádico, o aprovech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casionalmente para construir y v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dicaciones – se presume habitu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¿Quién es vendedor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4360" y="2209680"/>
            <a:ext cx="382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4800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57200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orporales del GIRO –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NO son vendedo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articulares que venden ocasion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mpresas que vendan activo fijo (8 letra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mpresas que vendan material oficina sobr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abitualidad Empresa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tructor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oda empresa organizada para constr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y vender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nque giro construcción no sea exclus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nque giro construcción sea esporádico 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menor import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existe organización empresa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inta usada ocasionalmente para constr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vender uno o vario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No se califica de habitual en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mpresas constructor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s de inmuebles que las empresas constructoras hayan construido para 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uso, esto 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ecesarios para producir la renta,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Que hayan estado sujeto al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able y tributario de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Los Impuestos Directo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Gravan la riqueza al momento de s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gene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p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obt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1523880"/>
            <a:ext cx="762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1676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13716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1981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1219320"/>
            <a:ext cx="2743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tibual a la venta de bienes corporales muebles, sean de su propia producción o de terc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3429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4114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124080"/>
            <a:ext cx="2514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tib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724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roductor Fabric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5257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48769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Venda materias primas e insumos que por cualquiera causa no utilice en sus procesos Produ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24685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 GRAVADO BÁS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finición de Servic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. 2 No.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equisitos del Servicio com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 gravado bás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.- Realización de una prestación a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avor de otra person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4674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uede ser realizada por persona natural o juríd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estació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cto o hecho que un contratante realiza o promete  a otro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n importar que sea HABITUAL u OCAS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B.- Que el prestador del servici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erciba una remuneració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162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ercepción de “interés, prima o comisión, o cualquiera otra forma de remuneració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 la percepción nace la obligación tribut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ercibir”: recibir una cosa y entregarse de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.- Proveniente actividades del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artículo 20 No. 3 y 4 Ley Ren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ndustria comercio, minería, explotación de las riquezas del mar, y demás actividades extrac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ías. Aéreas, deseguros, bancos, asociaciones de ahorro y préstamos, sociedades administradoras fondos mutuos, sociedades de inversión o capitalización, empresas financieras y otras de actividad análo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.- Proveniente actividades del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artículo 20 No. 3 y 4 Ley Ren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constructo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periodísticas, publicitarias, de radiodifusión y televi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de procesamiento automáti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de telecomun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rredores que sean personas juríd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rredores que sean personas naturales, cuyas rentas no provengan exclusivamente de su trabajo o actuación 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misionistas con oficina establec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Martilleros, agentes de aduana, embarcadores y otros que intervienen com. Marít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ctividades del 20 No.4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Agentes de seguros que no sean personas natura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línicas, hospitales, laboratorios y otros establecimientos análogos particula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Empresas de diversión y espar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8683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2.- Impuestos Indirect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Grava la riqueza cuando se cons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yente de Derecho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isface la obligación tribu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yente de Hecho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orta carga del trib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terpretaciones del S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ntrato de suministro – hoy supe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Gestor de Nego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.- El servicio debe prestarse 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utilizarse en Chi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 Prestado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uando la actividad que genera el servicio es desarrollada en el territorio 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S GRAVAD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SPECI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s gravados especiales en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s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peraciones, transacciones o prestaciones que la ley expresamente EQUIPARA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istad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Import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Aportes a socie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Adju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Retiros efectuados por vendedor 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Retiros destinados a rifas y sorte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Entregas o distribuciones gratui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Contratos instalación o confección de especial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istad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Contratos generales de constr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Venta de establecimiento de comercio y de otras univers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Promesa de venta de bienes corporales muebles de propiedad de una empresa constructora de su giro, contratos de arriendo con opción de comp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venta bienes activo fijo antes 48 ó 12 me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Importacio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ntroducción legal de mercaderías extranjeras para su uso o consumo en el paí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o se distingue si hay habitu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mportación realizada por cualquier persona, sea o no vendedor o prestador de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mpuesto se devenga al consumarse legalmente la importación (termina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2.- Aportes a socie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porte o transferencia de dominio o de una cuota de dominio con ocasión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stitución, ampliación, mo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OCIE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rtante debe tener calidad de “vendedo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3.- Adjudicaciones en liquidacio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 sociedades (8,c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judicación 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ichos muebles sean propios del giro de la respectiva sociedad o comun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judicación debe ser originada por liquidación de sociedad o comun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Impuesto a las Ventas y Servicios</a:t>
            </a:r>
            <a:br>
              <a:rPr sz="2800"/>
            </a:b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s un impuesto Indirec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ayor recaudación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 traslación o recar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ci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ción y pago mens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djudicación de bienes corporal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judicación d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iquidación de sociedades que sean empresas constructoras, comunidades, cooperativas de vivie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es necesario que sea del giro de la constructora, comunidad o cooperati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4.- Retiros efectuados por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mpresario, socios, directo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tiros efectuados por empresario, socios, directores o emple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ienes corporales mueblesdel 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bjeto: uso o consumo personal de tales personas o sus famil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etiro de Bienes Corporal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tiro de inmue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l giro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struido total o parcialmente por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 forma parte de activo fijo (mas de 12 meses) el retiro no se afecta con 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altantes de inventario – Se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ideran reti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esunción legal de que los faltantes de inventario constituyen reti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 necesario justificar salida de faltantes mediante documentación fehac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notaciones cronológicas en sistema de inventario permanente, contabilidad fidedig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Denuncias por robos o accid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nformes liquidadoras de segu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Mermas reconocidas por ley u organismo E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5.- Bienes entregados a rifas 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istribuidos 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Sean o no del giro de l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Destinados a rifas y sorte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Fines promocionales o de propag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Realizado por vendedores (no prestadores de 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o es necesaria la habitu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5.1 Bienes distribuid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realizados con fines de promoción o propag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alidad de vend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pueden o no ser del giro del vend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o cumplen requisitos distribuciones efectuadas con fin simplemente benéf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6.- Contrato de Instalación o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fección de Especi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7.- Contratos Generales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trucció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i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suma al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que construye suministra materias o materi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que encarga la construcción suministra la materia o las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s o las materi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ción Histó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Hasta el 01.10.87 sólo se gravaban los contratos por administración (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7.- Contratos Generales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trucción 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8.- Venta de establecimiento de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tablecimiento de Comer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- Universalidad de hecho con existencia distinta a la de los      elementos que la componen, corporales e incorporales, donde el comerciante ejerce su of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idad de H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odo conjunto de bienes corporales e incorporales unidos opr su afectación a un fin común y que posee individualidad propia e independiente de los elementos que la componen (p.e. Fábricas, establecimientos industriales, bibliotecas, museo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diferentes etapas de circulación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8.- Venta de establecimiento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s el valor de los bienes corporales muebles PROPIOS DEL GIRO del establecimiento o universalidad que se ven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alidad de “vendedor” de los bi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Se exceptúan bienes del activo inmovil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esión del derecho de herencia (art.8 letra 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8.1 Si establecimiento o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universalidad incluyen inmue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9.- Promesa de venta de bie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rporales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0.- Contratos de arriendo con opción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 compra de b.c.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specto de inmuebles total 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arcialmente construidos por el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2.- Venta de Bienes del Activ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ijo (art. 8 letra m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 antes de los 48 meses contados desde su adquisición (muebles) ó 12 meses (inmue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so vehiculos motoriz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aplica de la misma man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queda exento del impuesto especial contemplado en el artículo 41 de la Ley (0,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2.- Venta de Bienes del Activ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ijo (art. 8 letra m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S GRAVAD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SPECI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960280"/>
            <a:ext cx="77724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bie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muebles e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rrendamiento, subarrendamiento, usufructo o cualquier otra forma de cesión temporal del uso y goce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.-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b.- inmuebles amobl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.- inmuebles con instalaciones o maquinarias que permitan el ejercicio de una actividad comercial o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.- todo tipo de establecimiento de comerci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rrendamiento bienes corporales muebles que forman parte del activo fi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rrendamiento entre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obre bienes cuya venta está exenta de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bie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rporales muebles (cont.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mobiliario y menaje en cantidad y naturaleza suficiente para ser habi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inmuebles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moblado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4724280"/>
            <a:ext cx="51051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VA  se aplica sólo a renta que exceda del 11% o del  avaluo fiscal al año o en la proporción que corresponda (sólo aplicable a arrien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uantía del impuesto no se incremen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r aplicación d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A no repercute en mayor cost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ción, distribución 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rci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nfluye en fijación de precios de v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9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inmuebles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 instalacione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51055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VA sólo renta que exceda del 11% del avaluo fiscal o de la cantidad proporcional que corresponda (arrien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rendamiento, subarrendamiento, cualquier forma de cesión temporal del uso y go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ienes incorporales que tiene su origen en “propiedad intelectual” y “propiedad industria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se grava la constitución del derecho, ni la enajen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2.- Arrendamiento de marcas,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atentes y prestaciones similare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3.- Estacionamiento de vehículos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n playas de estacionamient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tacionamiento de vehículo en playas de estacionamiento u otros lugares destinado a dicho f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terrenos sin construcción, o construcciones lige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dificios especialmente destinados a tal ef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4.- Primas de seguros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operativas de segu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tes de modificación de 1980, no constituía hecho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Base Imponible” –preci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agado por consumidor final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stablece un impuesto a Ventas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structura General de la Ley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Decreto Ley 825 de 1974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Materia y Destino del Impuest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finiciones, Contribuyentes, O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l Valor 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mpuestos Especiales a las Ventas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dministración del Impue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01:31Z</dcterms:created>
  <dc:creator>JCARRAHA</dc:creator>
  <dc:description/>
  <dc:language>en-US</dc:language>
  <cp:lastModifiedBy> Rodrigo Rojas</cp:lastModifiedBy>
  <dcterms:modified xsi:type="dcterms:W3CDTF">2005-03-30T03:00:01Z</dcterms:modified>
  <cp:revision>9</cp:revision>
  <dc:subject/>
  <dc:title>Presentación de PowerPoint</dc:title>
</cp:coreProperties>
</file>