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3A6-8E4E-42F3-AD79-A36667AC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154-9CAC-4AB9-97D9-D8F76081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25B-57B3-4A6F-A2AB-7BC4229E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C8B-A6F1-4319-BE58-B8121F42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34C9-083F-4EC9-9223-944F840B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F4E0-BADB-4B7B-9C6B-E8B8786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92B2-D2EC-4556-9250-5011A32E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C561-95B5-4804-B50D-DF07F288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89FE-0CB5-4E74-8084-BA15E1DC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6411-16D1-44D7-805A-287CEE9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56B-6115-4ED4-889B-5A13D0EB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49B-319E-44D7-867E-740C9200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FBC4-AE57-4FE2-9412-F07AE25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8BB2-9695-413F-8C50-29B62F25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9703-46DF-48C6-8498-6831F80A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80F7-835C-4258-A545-2ED80ACA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1CD6-5C5F-47F1-ABD2-1757236B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A87-5360-414B-8580-79A16502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6AE-E1BB-422A-A973-7BEBABE9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EEC-7D2A-4B4B-A9C9-C812BE1C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553-C2B5-42C5-8974-D1EC66EE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211-297D-410A-8B96-2F00A1DC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238-46EE-4DCF-8569-925FCC10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E34-2B79-4450-979F-41EE0B28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5438-177F-43E5-9FDC-50E8D3C8DC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FA54-896D-4B5B-A406-5638E1075BD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IMPUESTO AL</a:t>
            </a: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VALOR AGREGADO (IVA)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HECHO GRAVAD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Convención Traslatici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2.- Debe recaer sobre bienes corporale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uebles, bienes corporales inmuebles de una empresa constructora, o derechos re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752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362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- prod. De inmue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derech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50292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b.- por cuenta propia, celebrando con terceros uno o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más contratos de administración para la ejecución de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.- por cuenta propia, celebrando con terceros toda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or cuenta propia celebrando un contrato general de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ción por suma alzada con otra empres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dquiriendo obras construidas y terminadas por otra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Im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ólo tienen por objeto la utilidad de una de las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utilidad de ambas partes, gravándose un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Bienes deben estar ubicado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ependiente lugar en que se celebre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pec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que se encuentren embarc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 proce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 – definición le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ículo 10 No. 3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turaleza, cantidad y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entas respecto de las cuales n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ticulares que ocasionalmente ven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resas que vendan bienes corpo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ebles que integran su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tas materiales sobrantes adquir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ánimo de ser consumidos o utiliz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alificación habitualidad vent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: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 organizada para construir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r, aunque no sea exclusivo, o s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porádico, o aprovech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asionalmente para construir y 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dicaciones – se presume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4360" y="2209680"/>
            <a:ext cx="382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on vended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material oficina sobr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 Empresa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sea esporádico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ta usada ocasionalmente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e califica de habitual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s 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 de inmuebles que las empresas constructoras hayan construido para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so, esto 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ecesarios para producir la renta,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Que hayan estado sujeto al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able y tributario de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Los Impuestos Directo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2 No.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del Servicio com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Realización de una prestación 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vor de otra person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467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n importar que sea HABITUAL u OCA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.- Que el prestador del servi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erciba una remune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ibir”: recibir una cosa y entregarse de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ías. Aéreas, de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ctividades del 20 No.4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Impuestos Indirect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.- El servicio debe prestarse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 especiale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Import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portes a socie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dju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efectuados por vendedor 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destinados a rifas y sor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Entregas o distribuciones gratui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instalación o confección de especial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generales de constr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de establecimiento de comercio y de otras univers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mesa de venta de bienes corporales muebles de propiedad de una empresa constructora de su giro, contratos de arriendo con opción de comp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bienes activo fijo antes 48 ó 12 me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troducción legal de mercaderías extranjeras para su uso o consumo e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se distingue si hay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ortación realizada por cualquier persona, sea o no vendedor o prestador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uesto se devenga al consumarse legalmente la importación (termin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porte o transferencia de dominio o de una cuota de dominio con oca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rtante debe tener calidad de “vendedo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Adjudicaciones en liquidacio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chos muebles sean propios del giro de la respectiva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Impuesto a las Ventas y Servicio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un impuesto Indirec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djudicación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Retiros efectuados por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muebles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tiro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forma parte de activo fijo (mas de 12 meses) el retiro no se afecta con 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ltantes de inventario – S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notaciones cronológicas en sistema de inventario permanente, contabilidad fidedig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nuncias por robos o ac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formes liquidadoras de seg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ermas reconocidas por ley u organismo E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Bienes entregados a rifas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an o no del giro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stinados a rifas y sort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Fines promocionales o de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 por vendedores (no prestadores de 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es necesaria la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1 Bienes distribui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s con fines de promoción o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ueden o no ser del giro del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cumplen requisitos distribuciones efectuadas con fin simplemente bené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6.- Contrato de Instalación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encarga la construcción suministra la materia o las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s o las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- Universalidad de hecho con existencia distinta a la de los      elementos que la componen, corporales e incorporales, donde el comerciante ejerce su o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s el valor de los bienes corporales muebles PROPIOS DEL GIRO del establecimiento o universalidad que se ven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“vendedor” de l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 exceptúan bienes del activo inmovi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esión del derecho de herencia (art.8 letra 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1 Si establecimiento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9.- Promesa de venta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0.- Contratos de arriendo con opción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vehiculos motoriz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aplica de la misma man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da exento del impuesto especial contemplado en el artículo 41 de la Ley (0,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uebles e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, subarrendamiento, usufructo o cualquier otra forma de cesión temporal del uso y goce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.- inmuebles con instalaciones o maquinarias que permitan el ejercicio de una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muebles (cont.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mobl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4724280"/>
            <a:ext cx="51051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 se aplica sólo a renta que exceda del 11% o del  avaluo fiscal al año o en la proporción que corresponda (sólo aplicable a 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 instalacion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5105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sólo renta que exceda del 11% del avaluo fiscal o de la cantidad proporcional que corresponda (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rrendamiento de marcas,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tentes y prestaciones similar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Estacionamiento de vehículo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 playas de estacionamien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terrenos sin construcción, o construcciones lig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dificios especialmente destinados a tal ef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Primas de seguro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tes de modificación de 1980, no constituía hecho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e Imponible” –pre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gado por consumidor final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tructura General de la Ley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 Rodrigo Rojas</cp:lastModifiedBy>
  <dcterms:modified xsi:type="dcterms:W3CDTF">2005-03-30T03:00:01Z</dcterms:modified>
  <cp:revision>9</cp:revision>
  <dc:subject/>
  <dc:title>Presentación de PowerPoint</dc:title>
</cp:coreProperties>
</file>