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B87-18C2-4D84-9841-BF13B6C5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D34-D5DA-48D9-B03C-798DFACB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945-77F7-4D7A-9714-1C59FD2A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D2A-9994-4C78-AD71-4F877B39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96B6-9328-40E5-BE61-F2F59C6A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BB3C-0D50-4C48-BB35-6E637962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1B4D-C097-4EA0-8B31-E5F9DB7B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7E94-70BC-400F-8A48-8DFAD217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C138-F0F2-403F-A7CC-706B175B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B7C7-FB3A-4CDE-B793-AEECB6B8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01BF-5E11-4D77-97D5-BBA3A3E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8ED-B7A1-46EF-AEDE-84D0AC6C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BBF6-DE47-47B6-BCA0-6F8595ED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222D-3E77-4465-800A-5B8CE8E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9B79-331D-464B-AAC9-586F900F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8216-D386-4D20-AEA3-2613CD9B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47B8-CF74-4499-B530-43CDEE67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7EE-170B-49EA-AD6A-26EA6DA1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35E-C640-46AD-ACF4-D7BC5946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6FD-9182-4C94-A501-AAE53E18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B69-C48F-4144-8C0B-1EAB986D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E67-0063-4ED5-904F-477BFE62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E9B-FB4C-485F-90BB-8852E31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9F6-2D3A-4A49-A66A-F61B5FE6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C4AC-71F7-48DA-A759-041AFA9A8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FE91-0408-4665-8173-3DE69D4E6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s 1y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jemplo 4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Debemos hacer un viaje de 250 mill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stos asociados: boleto de bus =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auto: por 10 mil millas los costos asociados son: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gur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es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2.000, gasolina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, mantenimiento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stos irrecuper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Cambia su respuesta si estamos dispuestos a pagar $ 60 por evitarnos la molestia de manej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Ejercicio 1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Chris tiene un trabajo muy flexible. Trabaja todo el día pero puede tomarse uno libre cuando quiera. Su amigo Don le propone tomarse libre el martes e ir a Fantasilandia. La entrada cuesta $15 por persona; la gasolina y el estacionamiento $5 cada uno. Para Chris, pasar un día en Fantasilandia tiene un valor de $45, pero también disfruta tanto su trabajo que estaría dispuesto a pagar $10 por hacerl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i Chris gana $10, ¿debe ir a Fantasilandia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¿Qué sueldo lo deja indiferente entre ir y no i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rcicio 2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Al y Jane han arrendado un salón de banquetes para celebrar una fiesta. 50 personas han confirmado su participación. La empresa encargada cobrará $400 por la comida y $100 por la bebida. Por su parte, la orquesta cobra $ 300 y el arriendo del salón cuesta $200. ¿Cuál es el costo de invitar a 10 personas má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s 1y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a microeconomía es el estudio de la forma en qu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ige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los individuos en condiciones d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sez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 (Fr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casez significa que no tenemos y no podemos obtener suficientes recursos para satisfacer todas las necesidad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toda decisión hay un problema de escasez: tiempo, dinero,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 escasez nos obliga a elegir: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studiar o trabajar; estudiar o ir a una fiesta; decisiones del gobier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Las elecciones que hacemos a diario no están restringidas sólo a recursos de tipo económic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Otras restricciones pueden ser de orden político, legal o moral. Sin embargo, en este curso nos centraremos principalmente en los factores económicos que determinan las decisiones de los agentes económic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Miller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 define la microeconomía como el estudio del comportamiento de las familias, las empresas y los mercados en los cuales ellos operan. La teoría macroeconómica utiliza modelos que pretenden explicar y predecir el comportamiento de los consumidores y product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economía, las decisiones se basan en un 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costo-benef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 acuerdo a este enfoque una decisión x, se tomará sólo si los costos superan a los beneficios de realizarla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Para aplicar esta regla, es necesario definir y medir en forma adecuada los costos y benefic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Una forma de medir es en términos monetarios. Sin embargo, en la mayoría de las decisiones, no es fácil expresar algunos de los beneficios o costos en términos monetar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 debemos bajar el volumen de la radi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uáles son los costos y beneficio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ómo expresamos los costos en términos monetarios? </a:t>
            </a:r>
            <a:r>
              <a:rPr b="0" lang="es-MX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concepto de precio de reser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istintas personas tienen distintos precios de reser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nto estamos dispuestos a pagar? </a:t>
            </a:r>
            <a:r>
              <a:rPr b="0" lang="es-MX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Benefici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rrores habituales en el análisis de decision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1. No considerar los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s de oportunidad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2. Considerar los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s irrecuperables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1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Valor de ir a esquiar = $50 m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ostos  de arriendo de equipos, transporte = $ 30 m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ebe ir a esquiar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epende del costo alternativo del tiemp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2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les son los costos de estudiar en la Universidad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No olvidar el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 de oportun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les son los beneficio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Si bien los jóvenes no hacen explícitamente análisis costo-beneficio, estos experimentos se han realizado por siglo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3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Es justo cobrar intereses por un crédit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osto de oportunidad en que incurre el prestamist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Sin el cobro de intereses es justo: ¿por qué es visto como “malo”? (los más ricos también pagan interes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La verdadera preocupación debiera estar en las diferencias de riqueza, más que en el cobro de intere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0:59:02Z</dcterms:created>
  <dc:creator> </dc:creator>
  <dc:description/>
  <dc:language>en-US</dc:language>
  <cp:lastModifiedBy> </cp:lastModifiedBy>
  <dcterms:modified xsi:type="dcterms:W3CDTF">2005-03-11T05:27:26Z</dcterms:modified>
  <cp:revision>24</cp:revision>
  <dc:subject/>
  <dc:title>Microeconomía</dc:title>
</cp:coreProperties>
</file>