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14C-DCDE-4661-B4E8-80A1113A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015-D8B0-4933-A9A9-75BBC1E4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B01-1A24-47F8-85CC-3438CBE5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F81-15DF-4D7F-9809-21E7506D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DC9F-0915-4D41-924F-59ACCD95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334D-8F6E-4DD6-B7E2-2D270B4F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DBAC-E05B-4C94-B5C3-B2BC557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D577-ED70-42A7-8AF5-1FEA495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C19E-EB11-4F8A-8B0E-4104C75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49A-A71C-4FB5-BFD7-7F058283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075-C17B-49F9-ABD1-E189BFA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AD9-E483-4C2D-A2D8-EDD970E6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5600-960C-4B6E-916F-20BA1C1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D0B5-2B73-45D3-9C40-87BBE63A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E1A5-DB06-45A6-A844-3E3C2196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1B3-D935-4D9B-B36B-E4302914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B27-93CA-4833-B6C1-743C48A5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922-1835-4B52-BD96-FACCD879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F4F-0A76-44E1-9BA6-555B27BD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DCB-B1BA-4208-B98A-DC7A0F7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CAA-FE4D-4603-AEC1-2C2C13DA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8A3-9818-46E6-9074-43B8FBB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85BD-8949-4008-9C30-06E63ACC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E13-3828-4D41-A59C-B112DD7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F6BB-05B5-46DB-9EF0-84ACB248E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CF88-94E3-4CF9-A4B4-C2F68F372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mplo 4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Debemos hacer un viaje de 250 mill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asociados: boleto de bus =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to: por 10 mil millas los costos asociados son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gur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es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2.000, gasolina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mantenimiento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irrecuper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Cambia su respuesta si estamos dispuestos a pagar $ 60 por evitarnos la molestia de manej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1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Chris tiene un trabajo muy flexible. Trabaja todo el día pero puede tomarse uno libre cuando quiera. Su amigo Don le propone tomarse libre el martes e ir a Fantasilandia. La entrada cuesta $15 por persona; la gasolina y el estacionamiento $5 cada uno. Para Chris, pasar un día en Fantasilandia tiene un valor de $45, pero también disfruta tanto su trabajo que estaría dispuesto a pagar $10 por hacerl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i Chris gana $10, ¿debe ir a Fantasilandia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¿Qué sueldo lo deja indiferente entre ir y no i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Al y Jane han arrendado un salón de banquetes para celebrar una fiesta. 50 personas han confirmado su participación. La empresa encargada cobrará $400 por la comida y $100 por la bebida. Por su parte, la orquesta cobra $ 300 y el arriendo del salón cuesta $200. ¿Cuál es el costo de invitar a 10 personas má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microeconomía es el estudio de la forma e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ig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os individuos en condiciones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sez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(Fr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ez significa que no tenemos y no podemos obtener suficientes recursos para satisfacer todas las necesida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oda decisión hay un problema de escasez: tiempo, dinero,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escasez nos obliga a elegir: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studiar o trabajar; estudiar o ir a una fiesta; decisiones del gobi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Las elecciones que hacemos a diario no están restringidas sólo a recursos de tipo económ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Otras restricciones pueden ser de orden político, legal o moral. Sin embargo, en este curso nos centraremos principalmente en los factores económicos que determinan las decisiones de los agentes económ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Miller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 define la microeconomía como el estudio del comportamiento de las familias, las empresas y los mercados en los cuales ellos operan. La teoría macroeconómica utiliza modelos que pretenden explicar y predecir el comportamiento de los consumidores y product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economía, las decisiones se basan en un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costo-benef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e enfoque una decisión x, se tomará sólo si los costos superan a los beneficios de realizarl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Para aplicar esta regla, es necesario definir y medir en forma adecuada los costos y benefic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Una forma de medir es en términos monetarios. Sin embargo, en la mayoría de las decisiones, no es fácil expresar algunos de los beneficios o costos en términos moneta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 debemos bajar el volumen de la radi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uáles son los costos y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ómo expresamos los costos en términos monetarios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concepto de precio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istintas personas tienen distintos precios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nto estamos dispuestos a pagar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Benefic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rrores habituales en el análisis de decisio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1. No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de oportunidad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2.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irrecuperables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1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Valor de ir a esquiar = $5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s  de arriendo de equipos, transporte = $ 3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be ir a esquiar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pende del costo alternativo del tiemp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costos de estudiar en la Universida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No olvidar el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 de oportun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 bien los jóvenes no hacen explícitamente análisis costo-beneficio, estos experimentos se han realizado por siglo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3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Es justo cobrar intereses por un crédit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 de oportunidad en que incurre el prestamis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n el cobro de intereses es justo: ¿por qué es visto como “malo”? (los más ricos también pagan interes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La verdadera preocupación debiera estar en las diferencias de riqueza, más que en el cobr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0:59:02Z</dcterms:created>
  <dc:creator> </dc:creator>
  <dc:description/>
  <dc:language>en-US</dc:language>
  <cp:lastModifiedBy> </cp:lastModifiedBy>
  <dcterms:modified xsi:type="dcterms:W3CDTF">2005-03-11T05:27:26Z</dcterms:modified>
  <cp:revision>24</cp:revision>
  <dc:subject/>
  <dc:title>Microeconomía</dc:title>
</cp:coreProperties>
</file>