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E4B-D89F-4DD6-9715-DE9D73C5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367A-297B-44E7-96DB-1E5C3C51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A8A-4C61-4591-989F-633F48F2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A4D-ECCA-4F7E-B083-0592EBD4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252E-9959-40CF-BD4B-7F764F97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1277-51EF-4D70-A12B-943C095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43F-7762-4A0B-9D21-DE77CD6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57FD-114F-4568-BF05-988D123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10A8-EEEA-47CE-A8F3-0DA29B7F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B077-F8D1-4DB4-BD79-5585C869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95AE-A287-4985-8352-13427FA2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268B-1262-4CBF-A5B4-DF9BD863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DD66-3C96-4416-80BB-94DEB0C4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18A-8EEF-4DC8-B028-7058568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7CB0-A070-44FB-9F8F-727AD499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606E-972E-40E7-8183-8A9FBE8C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B86-2491-4578-92EE-AC27CB3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22D-3E30-4BF3-844B-786AF890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689-6F1D-4EFB-B622-CC8B28C7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EB1-14BD-47BC-96C1-354F5ED7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0D7-9942-4C0F-9EAC-1AAE71FC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689-50A2-4AB1-B845-6D33B9A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7F2-5738-4149-B0DC-AFA19FC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F1D-A3C5-4C90-9ACA-8B492B7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84B-2A60-47B1-8899-E9D6151C7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0EAB-81C6-42A6-8ADD-B350F14A2B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jemplo 4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Debemos hacer un viaje de 250 milla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asociados: boleto de bus =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to: por 10 mil millas los costos asociados son: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guro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teres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2.000, gasolina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, mantenimiento </a:t>
            </a:r>
            <a:r>
              <a:rPr b="0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stos irrecuperab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Cambia su respuesta si estamos dispuestos a pagar $ 60 por evitarnos la molestia de maneja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1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Chris tiene un trabajo muy flexible. Trabaja todo el día pero puede tomarse uno libre cuando quiera. Su amigo Don le propone tomarse libre el martes e ir a Fantasilandia. La entrada cuesta $15 por persona; la gasolina y el estacionamiento $5 cada uno. Para Chris, pasar un día en Fantasilandia tiene un valor de $45, pero también disfruta tanto su trabajo que estaría dispuesto a pagar $10 por hacerl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Si Chris gana $10, ¿debe ir a Fantasilandia?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¿Qué sueldo lo deja indiferente entre ir y no ir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rcici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Al y Jane han arrendado un salón de banquetes para celebrar una fiesta. 50 personas han confirmado su participación. La empresa encargada cobrará $400 por la comida y $100 por la bebida. Por su parte, la orquesta cobra $ 300 y el arriendo del salón cuesta $200. ¿Cuál es el costo de invitar a 10 personas má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Clases 1y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microeconomía es el estudio de la forma en qu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ig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los individuos en condiciones de </a:t>
            </a: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scasez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. (Fran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casez significa que no tenemos y no podemos obtener suficientes recursos para satisfacer todas las necesidad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oda decisión hay un problema de escasez: tiempo, dinero, ot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La escasez nos obliga a elegir: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studiar o trabajar; estudiar o ir a una fiesta; decisiones del gobier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Las elecciones que hacemos a diario no están restringidas sólo a recursos de tipo económ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Otras restricciones pueden ser de orden político, legal o moral. Sin embargo, en este curso nos centraremos principalmente en los factores económicos que determinan las decisiones de los agentes económic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Miller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 define la microeconomía como el estudio del comportamiento de las familias, las empresas y los mercados en los cuales ellos operan. La teoría macroeconómica utiliza modelos que pretenden explicar y predecir el comportamiento de los consumidores y product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economía, las decisiones se basan en un </a:t>
            </a:r>
            <a:r>
              <a:rPr b="0" lang="es-MX" sz="2200" spc="-1" strike="noStrike" u="sng">
                <a:solidFill>
                  <a:srgbClr val="ffffff"/>
                </a:solidFill>
                <a:uFillTx/>
                <a:latin typeface="Times New Roman"/>
              </a:rPr>
              <a:t>análisis costo-benef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De acuerdo a este enfoque una decisión x, se tomará sólo si los costos superan a los beneficios de realizarla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Para aplicar esta regla, es necesario definir y medir en forma adecuada los costos y benefic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Una forma de medir es en términos monetarios. Sin embargo, en la mayoría de las decisiones, no es fácil expresar algunos de los beneficios o costos en términos monetari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 debemos bajar el volumen de la radi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uáles son los costos y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ómo expresamos los costos en términos monetarios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concepto de precio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istintas personas tienen distintos precios de reserv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nto estamos dispuestos a pagar? </a:t>
            </a:r>
            <a:r>
              <a:rPr b="0" lang="es-MX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Benefici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rrores habituales en el análisis de decision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1. No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de oportunidad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2. Considerar los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s irrecuperables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1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Valor de ir a esquiar = $5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s  de arriendo de equipos, transporte = $ 30 m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be ir a esquiar?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Depende del costo alternativo del tiemp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2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costos de estudiar en la Universida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No olvidar el </a:t>
            </a: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costo de oportun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Cuáles son los beneficio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 bien los jóvenes no hacen explícitamente análisis costo-beneficio, estos experimentos se han realizado por siglos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 u="sng">
                <a:solidFill>
                  <a:srgbClr val="ffffff"/>
                </a:solidFill>
                <a:uFillTx/>
                <a:latin typeface="Times New Roman"/>
              </a:rPr>
              <a:t>Ejemplo 3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¿Es justo cobrar intereses por un crédit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Costo de oportunidad en que incurre el prestamist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Sin el cobro de intereses es justo: ¿por qué es visto como “malo”? (los más ricos también pagan interes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La verdadera preocupación debiera estar en las diferencias de riqueza, más que en el cobr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rmann González B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0:59:02Z</dcterms:created>
  <dc:creator> </dc:creator>
  <dc:description/>
  <dc:language>en-US</dc:language>
  <cp:lastModifiedBy> </cp:lastModifiedBy>
  <dcterms:modified xsi:type="dcterms:W3CDTF">2005-03-11T05:27:26Z</dcterms:modified>
  <cp:revision>24</cp:revision>
  <dc:subject/>
  <dc:title>Microeconomía</dc:title>
</cp:coreProperties>
</file>