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C8E-E7E5-4138-92E4-96E59564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18A-4D96-4064-A323-0C5A7AB5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36A-B58E-4697-95B0-2394FC88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D0D-EA3E-4B8E-BE38-6BFE94C6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5F43-3D05-4B04-8CAF-9066364C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0344-329A-4FE5-AACF-5FA487CA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B58F-B728-4CA3-9480-3395A806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47BE-836B-4A17-AA74-BA3D9C7A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7DBA-2F3C-405F-91A2-9BEA48D0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2854-FF43-4FBD-ADE5-04954187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E6D0-1D3A-4057-8C27-7763F4B6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D65-CD7B-4F1C-9CAB-EE7C7C5C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DED8-7AE3-4BCD-8F54-65DD6E6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0A32-CF67-4EF8-A376-CE0C5DB1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C6A5-112C-4C8F-8783-4B4A65F2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24DA-DB75-476C-8BE0-D1C63AAA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D537-0791-4AFE-8FDB-3C1ADD44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CEC-82F9-4B00-8A00-40E27AD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99F-CA43-4D9E-B9B5-B4FED4C8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D84-0131-4108-BB36-10FB2324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030-2EBB-4070-9301-ACDE63C7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822-86B5-4435-B518-40F2E340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C09-90E2-41E4-9C1C-FCCA5350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F41-A45A-4037-B1B0-0BD36E89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126F-72CF-422E-9025-A92245BB8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8592-9F88-49B8-88A2-496F68FF0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s 1y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jemplo 4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Debemos hacer un viaje de 250 mill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stos asociados: boleto de bus =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auto: por 10 mil millas los costos asociados son: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gur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es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2.000, gasolina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, mantenimiento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stos irrecuper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Cambia su respuesta si estamos dispuestos a pagar $ 60 por evitarnos la molestia de manej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Ejercicio 1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Chris tiene un trabajo muy flexible. Trabaja todo el día pero puede tomarse uno libre cuando quiera. Su amigo Don le propone tomarse libre el martes e ir a Fantasilandia. La entrada cuesta $15 por persona; la gasolina y el estacionamiento $5 cada uno. Para Chris, pasar un día en Fantasilandia tiene un valor de $45, pero también disfruta tanto su trabajo que estaría dispuesto a pagar $10 por hacerl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i Chris gana $10, ¿debe ir a Fantasilandia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¿Qué sueldo lo deja indiferente entre ir y no i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rcicio 2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Al y Jane han arrendado un salón de banquetes para celebrar una fiesta. 50 personas han confirmado su participación. La empresa encargada cobrará $400 por la comida y $100 por la bebida. Por su parte, la orquesta cobra $ 300 y el arriendo del salón cuesta $200. ¿Cuál es el costo de invitar a 10 personas má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s 1y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a microeconomía es el estudio de la forma en qu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ige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los individuos en condiciones d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sez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 (Fr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casez significa que no tenemos y no podemos obtener suficientes recursos para satisfacer todas las necesidad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toda decisión hay un problema de escasez: tiempo, dinero,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 escasez nos obliga a elegir: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studiar o trabajar; estudiar o ir a una fiesta; decisiones del gobier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Las elecciones que hacemos a diario no están restringidas sólo a recursos de tipo económic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Otras restricciones pueden ser de orden político, legal o moral. Sin embargo, en este curso nos centraremos principalmente en los factores económicos que determinan las decisiones de los agentes económic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Miller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 define la microeconomía como el estudio del comportamiento de las familias, las empresas y los mercados en los cuales ellos operan. La teoría macroeconómica utiliza modelos que pretenden explicar y predecir el comportamiento de los consumidores y product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economía, las decisiones se basan en un 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costo-benef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 acuerdo a este enfoque una decisión x, se tomará sólo si los costos superan a los beneficios de realizarla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Para aplicar esta regla, es necesario definir y medir en forma adecuada los costos y benefic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Una forma de medir es en términos monetarios. Sin embargo, en la mayoría de las decisiones, no es fácil expresar algunos de los beneficios o costos en términos monetar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 debemos bajar el volumen de la radi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uáles son los costos y beneficio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ómo expresamos los costos en términos monetarios? </a:t>
            </a:r>
            <a:r>
              <a:rPr b="0" lang="es-MX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concepto de precio de reser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istintas personas tienen distintos precios de reser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nto estamos dispuestos a pagar? </a:t>
            </a:r>
            <a:r>
              <a:rPr b="0" lang="es-MX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Benefici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rrores habituales en el análisis de decision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1. No considerar los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s de oportunidad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2. Considerar los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s irrecuperables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1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Valor de ir a esquiar = $50 m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ostos  de arriendo de equipos, transporte = $ 30 m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ebe ir a esquiar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epende del costo alternativo del tiemp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2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les son los costos de estudiar en la Universidad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No olvidar el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 de oportun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les son los beneficio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Si bien los jóvenes no hacen explícitamente análisis costo-beneficio, estos experimentos se han realizado por siglo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3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Es justo cobrar intereses por un crédit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osto de oportunidad en que incurre el prestamist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Sin el cobro de intereses es justo: ¿por qué es visto como “malo”? (los más ricos también pagan interes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La verdadera preocupación debiera estar en las diferencias de riqueza, más que en el cobro de intere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0:59:02Z</dcterms:created>
  <dc:creator> </dc:creator>
  <dc:description/>
  <dc:language>en-US</dc:language>
  <cp:lastModifiedBy> </cp:lastModifiedBy>
  <dcterms:modified xsi:type="dcterms:W3CDTF">2005-03-11T05:27:26Z</dcterms:modified>
  <cp:revision>24</cp:revision>
  <dc:subject/>
  <dc:title>Microeconomía</dc:title>
</cp:coreProperties>
</file>