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530-91E2-411D-AD20-41C2E3ED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859-D032-4B7C-8C21-1A8AF8A9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4B1-C2EE-4F62-969D-3369E20C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226-67E3-4725-A07D-AFE749AF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644-82B4-4EA8-B1B6-D7BA033B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9C75-C6DB-4385-8ED2-3AE269E0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1C50-ADDC-4538-8C26-68604FC9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8EB2-15B8-4CB8-A236-84D53C20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88A-DC0F-47B7-8DD7-A9CCF48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2362-A847-45C9-BECD-7E07457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C62B-5E22-432B-A668-83EE848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DE0-8AE3-4A31-8D0D-AB709280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686-9C13-4933-92A6-865A1A1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B7C-C180-4044-98E1-7DC11C1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50F9-1A30-43E7-AF22-0D65E1DE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073-F160-4B98-93CB-F23E5625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C6D-1F45-4D7B-8C08-B68F5351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BCF-6D0C-46AA-9793-2C07EF3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337-B4E2-40FF-BF3E-DF7E217D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E30-8608-4AE7-AA65-44F105B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45D-03DA-4041-AF8C-7D913FB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662-CDB2-4F6A-8FCE-9021554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8F6-1344-496D-BA48-8AAF508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137-BE1B-49F1-912F-A5D88E0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3E2D-5AD2-4232-8DC3-1762EE63F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1A24-3EDC-4172-AAFF-B6E97BB81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mplo 4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Debemos hacer un viaje de 250 mill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asociados: boleto de bus =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to: por 10 mil millas los costos asociados son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gur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es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2.000, gasolina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mantenimiento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irrecuper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Cambia su respuesta si estamos dispuestos a pagar $ 60 por evitarnos la molestia de manej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1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Chris tiene un trabajo muy flexible. Trabaja todo el día pero puede tomarse uno libre cuando quiera. Su amigo Don le propone tomarse libre el martes e ir a Fantasilandia. La entrada cuesta $15 por persona; la gasolina y el estacionamiento $5 cada uno. Para Chris, pasar un día en Fantasilandia tiene un valor de $45, pero también disfruta tanto su trabajo que estaría dispuesto a pagar $10 por hacerl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i Chris gana $10, ¿debe ir a Fantasilandia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¿Qué sueldo lo deja indiferente entre ir y no i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Al y Jane han arrendado un salón de banquetes para celebrar una fiesta. 50 personas han confirmado su participación. La empresa encargada cobrará $400 por la comida y $100 por la bebida. Por su parte, la orquesta cobra $ 300 y el arriendo del salón cuesta $200. ¿Cuál es el costo de invitar a 10 personas má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microeconomía es el estudio de la forma e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ig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os individuos en condiciones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sez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(Fr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ez significa que no tenemos y no podemos obtener suficientes recursos para satisfacer todas las necesida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oda decisión hay un problema de escasez: tiempo, dinero,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escasez nos obliga a elegir: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studiar o trabajar; estudiar o ir a una fiesta; decisiones del gobi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Las elecciones que hacemos a diario no están restringidas sólo a recursos de tipo económ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Otras restricciones pueden ser de orden político, legal o moral. Sin embargo, en este curso nos centraremos principalmente en los factores económicos que determinan las decisiones de los agentes económ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Miller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 define la microeconomía como el estudio del comportamiento de las familias, las empresas y los mercados en los cuales ellos operan. La teoría macroeconómica utiliza modelos que pretenden explicar y predecir el comportamiento de los consumidores y product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economía, las decisiones se basan en un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costo-benef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e enfoque una decisión x, se tomará sólo si los costos superan a los beneficios de realizarl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Para aplicar esta regla, es necesario definir y medir en forma adecuada los costos y benefic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Una forma de medir es en términos monetarios. Sin embargo, en la mayoría de las decisiones, no es fácil expresar algunos de los beneficios o costos en términos moneta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 debemos bajar el volumen de la radi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uáles son los costos y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ómo expresamos los costos en términos monetarios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concepto de precio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istintas personas tienen distintos precios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nto estamos dispuestos a pagar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Benefic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rrores habituales en el análisis de decisio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1. No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de oportunidad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2.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irrecuperables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1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Valor de ir a esquiar = $5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s  de arriendo de equipos, transporte = $ 3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be ir a esquiar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pende del costo alternativo del tiemp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costos de estudiar en la Universida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No olvidar el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 de oportun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 bien los jóvenes no hacen explícitamente análisis costo-beneficio, estos experimentos se han realizado por siglo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3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Es justo cobrar intereses por un crédit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 de oportunidad en que incurre el prestamis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n el cobro de intereses es justo: ¿por qué es visto como “malo”? (los más ricos también pagan interes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La verdadera preocupación debiera estar en las diferencias de riqueza, más que en el cobr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0:59:02Z</dcterms:created>
  <dc:creator> </dc:creator>
  <dc:description/>
  <dc:language>en-US</dc:language>
  <cp:lastModifiedBy> </cp:lastModifiedBy>
  <dcterms:modified xsi:type="dcterms:W3CDTF">2005-03-11T05:27:26Z</dcterms:modified>
  <cp:revision>24</cp:revision>
  <dc:subject/>
  <dc:title>Microeconomía</dc:title>
</cp:coreProperties>
</file>