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2F8-62ED-4A14-BD33-DC06BBF5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139-57D7-44E2-BD7A-AB0E36B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31A-87EC-44DC-9A05-F10BC8DB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2E8-6C2C-4C48-B07F-BA15EE22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BEF-C4F8-46A7-B518-AE16D22A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BD6-69A4-40DA-B7F6-BECB3483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46B-D643-45DB-9711-D074ABE5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542-758C-4FAF-BA17-FBEE0406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440-4070-486C-BD4F-9A230A9B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357-EF6E-4B1C-A324-31473FE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B97-03A4-44B7-BC20-30A00B82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0DF-1C30-4879-83EA-C461C03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9621-ECB6-4146-881F-A1659B224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La Cibernética Y El 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ymond R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tras teorias explican el origen de la informacion reduciendo la racionalidad por la novedad de las experienci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onclusione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inguna maquina va abuscar informacion por si sola si no se le proporciona un origen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uando una maquina lee datos, lo hace porque los individuos las programan para aquell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cibernéticas solo pueden imitar razonamientos lógicos de una forma mas perfecta que el cerebro humano pero no pueden hacer que aumente la informacion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Cibernética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Ciencia del control de la informacion por medio de maquinas Ya Sean Estas Naturales  o Artificiales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Informació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Transmición a un ser consciente de una significación, de una noción, por medio de un mensaje mas o menos convencional y por un soporte espacio temporal”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Interes práctico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erar al cerebro y al cuerpo huma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Mitos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ominación del hombre por las maqu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dicionamiento y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confunde el almacenamiento por el sent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primer termino la informacion proviene de del ser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solo pueden conservar información o extenderla pero solo la consciencia puede aumentar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Si la informacion viene de los individuos ¿como llega a ello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id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mecanic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diale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rí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s teorias tratan de explicarlo todo racionalmente a costa de la novedad de la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13:39Z</dcterms:created>
  <dc:creator>Claudio</dc:creator>
  <dc:description/>
  <dc:language>en-US</dc:language>
  <cp:lastModifiedBy>Claudio</cp:lastModifiedBy>
  <dcterms:modified xsi:type="dcterms:W3CDTF">2005-04-12T01:47:45Z</dcterms:modified>
  <cp:revision>4</cp:revision>
  <dc:subject/>
  <dc:title>La Cibernética Y El Origen De La Información</dc:title>
</cp:coreProperties>
</file>