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6E74-2C3B-4A33-A30E-358229531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79AA-8A49-44D6-9D57-D65618AF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D74B-15CB-46F7-9A12-0A146266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41B4-A4C6-419E-BE4B-DB7B20FE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FE4C-86E7-4368-A6FB-D5F79C48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9D78-4A70-4B4C-A37A-7BC2EBA7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9AB2-9655-4CAA-B173-C947FD12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2979-7F6C-46C5-9AE2-DBB7D05B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195D-6D33-4873-8193-C628DE5C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3724-B32C-45DD-976F-811DAFD5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CFAC-DF79-486A-866F-D3D2B781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ED1B-7B68-4802-8497-FD5CE0AA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BB36-A26C-4304-ACA2-7B75508AC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808000"/>
                </a:solidFill>
                <a:latin typeface="Times New Roman"/>
              </a:rPr>
              <a:t>La Cibernética Y El Origen De La Informació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aymond Ru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Otras teorias explican el origen de la informacion reduciendo la racionalidad por la novedad de las experiencia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Conclusiones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Ninguna maquina va abuscar informacion por si sola si no se le proporciona un origen de ent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Cuando una maquina lee datos, lo hace porque los individuos las programan para aquello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Las maquinas cibernéticas solo pueden imitar razonamientos lógicos de una forma mas perfecta que el cerebro humano pero no pueden hacer que aumente la informacion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808000"/>
                </a:solidFill>
                <a:latin typeface="Times New Roman"/>
              </a:rPr>
              <a:t>Cibernética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“Ciencia del control de la informacion por medio de maquinas Ya Sean Estas Naturales  o Artificiales”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808000"/>
                </a:solidFill>
                <a:latin typeface="Times New Roman"/>
              </a:rPr>
              <a:t>Información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“Transmición a un ser consciente de una significación, de una noción, por medio de un mensaje mas o menos convencional y por un soporte espacio temporal”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Interes práctico de la cibernética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iberar al cerebro y al cuerpo human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Mitos de la cibernética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Dominación del hombre por las maqu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ondicionamiento y aprendiz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omunic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e confunde el almacenamiento por el sent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Origen de la informació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n primer termino la informacion proviene de del ser hu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Las maquinas solo pueden conservar información o extenderla pero solo la consciencia puede aumentar la informació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Si la informacion viene de los individuos ¿como llega a ellos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Teorias ideal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Teorias mecanic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Teorias dialec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Crítica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stas teorias tratan de explicarlo todo racionalmente a costa de la novedad de la experi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10:13:39Z</dcterms:created>
  <dc:creator>Claudio</dc:creator>
  <dc:description/>
  <dc:language>en-US</dc:language>
  <cp:lastModifiedBy>Claudio</cp:lastModifiedBy>
  <dcterms:modified xsi:type="dcterms:W3CDTF">2005-04-12T01:47:45Z</dcterms:modified>
  <cp:revision>4</cp:revision>
  <dc:subject/>
  <dc:title>La Cibernética Y El Origen De La Información</dc:title>
</cp:coreProperties>
</file>