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F2E8-56C4-4796-92B1-ABB1675A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A09-2F8F-4ABA-9E1E-52212DA3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4F78-6CB9-4A95-B87D-2E34E2B9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1C55-4880-4CBC-85FC-70B45AC3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2D6F-D894-48E9-8B7C-896AE74B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1EBD-F797-43AC-903E-A6FF09FB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AF39-1C65-4CEA-9363-9D263C19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D34-7BC9-4854-859C-5A2B8838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8D1-E311-4479-9616-231D7938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2CC3-6AB3-467B-BB41-045E118A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445-BFF0-4118-9E92-7DD4EED4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CAC-F659-4F84-819F-E9A7933D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676-D4FA-4EE5-B9DA-66B6F4313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La Cibernética Y El 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Raymond Ru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tras teorias explican el origen de la informacion reduciendo la racionalidad por la novedad de las experiencia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onclusiones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Ninguna maquina va abuscar informacion por si sola si no se le proporciona un origen de ent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uando una maquina lee datos, lo hace porque los individuos las programan para aquello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cibernéticas solo pueden imitar razonamientos lógicos de una forma mas perfecta que el cerebro humano pero no pueden hacer que aumente la informacion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Cibernética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Ciencia del control de la informacion por medio de maquinas Ya Sean Estas Naturales  o Artificiales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808000"/>
                </a:solidFill>
                <a:latin typeface="Times New Roman"/>
              </a:rPr>
              <a:t>Información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“Transmición a un ser consciente de una significación, de una noción, por medio de un mensaje mas o menos convencional y por un soporte espacio temporal”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Interes práctico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Liberar al cerebro y al cuerpo human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Mitos de la ciberné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Dominación del hombre por las maqui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ndicionamiento y aprendiz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omunic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e confunde el almacenamiento por el sent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Origen de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n primer termino la informacion proviene de del ser hu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Las maquinas solo pueden conservar información o extenderla pero solo la consciencia puede aumentar la informació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Si la informacion viene de los individuos ¿como llega a ellos?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id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mecanic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Teorias dialec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Crítica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stas teorias tratan de explicarlo todo racionalmente a costa de la novedad de la exper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1T10:13:39Z</dcterms:created>
  <dc:creator>Claudio</dc:creator>
  <dc:description/>
  <dc:language>en-US</dc:language>
  <cp:lastModifiedBy>Claudio</cp:lastModifiedBy>
  <dcterms:modified xsi:type="dcterms:W3CDTF">2005-04-12T01:47:45Z</dcterms:modified>
  <cp:revision>4</cp:revision>
  <dc:subject/>
  <dc:title>La Cibernética Y El Origen De La Información</dc:title>
</cp:coreProperties>
</file>