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890E-D548-4E49-8A55-9F491F4F2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10EA-0D2B-44E4-8429-1647556B0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6EFE-818A-424A-ACE2-938D3F20A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3C10-EC28-479E-A3BD-C985026DC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65A2E-3811-4C03-A7FC-C650078D4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E6153-CDF7-4E3E-9FF1-D135967B7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ACE8A-2510-4DB7-9A21-4C5F1E5E1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658BF-E465-4711-A5DE-903428704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54333-2E56-4F5A-8F40-465DC433E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8C96D-6AAB-4C0F-91BE-46FF06D02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905EA-CD0E-4839-A4C8-CD7AF6DDF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5859-82F3-40BB-B77D-AAAE39BC7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C7BE7-9398-4EDF-BD3F-3D7BA7BF7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786DB-E03B-4F43-A9DA-35B48DAC1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A2325-7532-41D5-B499-DDF66DB73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F1BC2-688F-4047-9C7C-C26E27B18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99692-3CA2-46E3-9E6B-B24D1E9A1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9BC1-D9B3-4C99-B676-0BB2287C5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0365-401F-41DD-8A61-AD9A2445F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7DE7-27F4-4CBC-B367-4725A3A6F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808C-839C-4AED-AE40-D8BECA343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F8E9-B1C8-4F65-B56C-8ACCFE191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A154-BBDA-4B23-B984-6467331AA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D037-3B28-467B-9BD8-0FFBFFAE4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8d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538dc7"/>
                </a:gs>
                <a:gs pos="100000">
                  <a:srgbClr val="253f5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008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008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20A9F-FDD2-455F-B7D4-00ECEFC18018}" type="slidenum">
              <a:rPr b="0" lang="es-ES" sz="10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8d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AFEC4-0CDF-4D35-85AF-963E4E877C30}" type="slidenum">
              <a:rPr b="0" lang="es-ES" sz="10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538dc7">
              <a:alpha val="50000"/>
            </a:srgbClr>
          </a:solidFill>
          <a:ln w="76320">
            <a:solidFill>
              <a:srgbClr val="f8f8f8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8f8f8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8000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8d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538dc7">
              <a:alpha val="50000"/>
            </a:srgbClr>
          </a:solidFill>
          <a:ln w="76320">
            <a:solidFill>
              <a:srgbClr val="f8f8f8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es-MX" sz="4800" spc="-1" strike="noStrike" u="sng">
                <a:solidFill>
                  <a:srgbClr val="f8f8f8"/>
                </a:solidFill>
                <a:uFillTx/>
                <a:latin typeface="Arial"/>
              </a:rPr>
              <a:t>LA BOMBA INFORMÁTICA</a:t>
            </a:r>
            <a:br>
              <a:rPr sz="4800"/>
            </a:br>
            <a:r>
              <a:rPr b="0" lang="es-MX" sz="4000" spc="-1" strike="noStrike">
                <a:solidFill>
                  <a:srgbClr val="f8f8f8"/>
                </a:solidFill>
                <a:latin typeface="Arial"/>
              </a:rPr>
              <a:t>Paul Virilio</a:t>
            </a:r>
            <a:br>
              <a:rPr sz="4000"/>
            </a:br>
            <a:endParaRPr b="0" lang="en-US" sz="4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538dc7">
              <a:alpha val="50000"/>
            </a:srgbClr>
          </a:solidFill>
          <a:ln w="76320">
            <a:solidFill>
              <a:srgbClr val="f8f8f8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8f8f8"/>
                </a:solidFill>
                <a:latin typeface="Arial"/>
              </a:rPr>
              <a:t>               </a:t>
            </a:r>
            <a:r>
              <a:rPr b="0" lang="es-MX" sz="3200" spc="-1" strike="noStrike">
                <a:solidFill>
                  <a:srgbClr val="f8f8f8"/>
                </a:solidFill>
                <a:latin typeface="Arial"/>
              </a:rPr>
              <a:t>1999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8f8f8"/>
                </a:solidFill>
                <a:latin typeface="Arial"/>
              </a:rPr>
              <a:t>M° Graciela Venegas V.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8d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Capítulo XIII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A partir de ahora, el aquí ya no existe, todo es ahora”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Pasado, presente y futuro, esta tripartición antigua de la duración cede entonces su primacía a la inmediatez de una teletransferencia que se asemeja a un nuevo tipo de relieve”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8d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FIN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8f8f8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8f8f8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8f8f8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8f8f8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8f8f8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8f8f8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8f8f8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8f8f8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8f8f8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8f8f8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8f8f8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8f8f8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8f8f8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8d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Capítulo I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Una ciencia sin conciencia no es más que ruina del alma”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8d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Capítulo II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Este tiempo mundial en que la instantaneidad borra definitivamente la realidad de las distancias”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8d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Capítulo III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8f8f8"/>
                </a:solidFill>
                <a:latin typeface="Arial"/>
              </a:rPr>
              <a:t>El ciber es un nuevo continente, el ciber es una realidad suplementaria, el ciber debe refugiar la sociedad de los individuos, el ciber es universal, irresponsable y sin cabeza”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8d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Capítulo IV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Nuestro prolífico entorno audiovisual nos ha condicido desde hace tiempo a no preocuparnos verdaderamente por estas múltiples apariencias de nosostros mismos que son ocultados, deformados, explorados y manipulados a nuestras espaldas por los estados mayores desconocidos”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8d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Capítulo V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Hoy se dice que ya no hacen falta guerras para matar la realidad del mundo”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8d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Capítulo VII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Con su voyerismo, la televigilancia cobra un nuevo sentido: ya no se trata de prevenirse contra una intrusión criminal, sino de compartir sus angustias, sus obsesiones con toda una red gracias a la sobresposición de un lugar de vida”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La segunda bomba, la bomba informática, capaz de desintegrar la paz de las naciones por la interactividad de la información” 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En Internet la tentación es permanente, pues es fácil causar estragos con toda impunidad”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8d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Capítulo VIII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No sabemos cómo comportarnos para escuchar o decir algo, al igual que ya no sabemos escribir bien, a pesar de la revolución del fax, que supuestamente debía reactivar la epístola”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8d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Capítulo XII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Internet, es a la vez la peor y la mejor de las cosas”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Un tecnosistema de comunicación estratégica que conlleva el riesgo sistemático de una reacción en cadena de los estragos, a partir del momento en que la mundialización se haga efectiva “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9T15:33:26Z</dcterms:created>
  <dc:creator>Gianina Ganzur</dc:creator>
  <dc:description/>
  <dc:language>en-US</dc:language>
  <cp:lastModifiedBy>lucarna01</cp:lastModifiedBy>
  <dcterms:modified xsi:type="dcterms:W3CDTF">2005-04-12T15:29:47Z</dcterms:modified>
  <cp:revision>5</cp:revision>
  <dc:subject/>
  <dc:title>LA BOMBA INFORMÁTICA Paul Virilio 1999</dc:title>
</cp:coreProperties>
</file>