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033-3733-480C-8234-019C868F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02E-5F08-4878-80EF-4DEB867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DB0-0241-4DC2-9C1E-DA6C5EB0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299-8526-45D1-B3EB-C609D769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0755-843E-4E75-9CC2-CDF8FB7C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A483-38E1-4B2C-8F80-9F399DD5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07E6-BB44-4B7F-9382-7593F0F1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7AE-444E-4985-917B-A95374F6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5963-CBF2-4D26-B671-4D9A5943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3D56-5482-4584-9107-B63C4F6D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6995-4B04-44E5-AD01-B1622B2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FFC-2C49-487B-9E0F-835BB37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E41A-6DD8-4F5C-959F-BA918A75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A7A5-40DC-4330-8670-0AB9DC7F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42E6-4386-4CF6-895A-414A9DD2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A66-13D1-4B1A-A31E-D2F25442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0CD9-E517-4D4C-B4DF-C443C1C9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B9B-3CF7-4C3A-9EA1-C91F4C1C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341-960C-4376-B437-BC803375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B99-E887-4BF0-9048-58C8CD34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531-8A3A-4EF3-A0EC-FF8F57A5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B43-8C8D-4294-82D2-8757F07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E99-5EA6-4C4F-B94A-D2118B9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7A2-E3D6-4155-87B6-180EEC94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BFFD-4AEF-4DD8-BBB4-687B1CB2A2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E4C9-8C1B-4BEA-8CA7-ABCA08C6DC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CNOLOGIAS DE LA INFORMACION Y LAS COMUNICACIONES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Y RELACIONES LABORALES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105520"/>
            <a:ext cx="78487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a Donoso Ab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de Estudios en Derecho Infor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EJORAR EL ACCESO A LAS TICs Y A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rvicio y Acceso Universal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: en el aprendizaje, el trabajo y la vida cotidiana (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cepto dinámico y evolutiv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actores clave: disponibilidad, continuidad, precio, accesibilidad y conocimiento. 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ara lograr los objetivos de igualdad y eficac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lidad de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in diferencias de sexo, ni de condición geográfica o discapac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 requiere una nueva cultura de la educación, la formación y el aprendizaje a lo largo de toda la vida, apoyada por la reestructuración selectiva del gasto público a favor de la inversión en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BUSQUEDA DE EMPLEO EN LA SOCIEDAD DE LA INFORMACION (más y mejores puestos?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so de las TICs permitirá modernizar la economía y mejorar la produc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pacidad de encontrar trabajo: elemento clave para mejorar el mercado de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l obstáculo estructural en el crecimiento del empleo: lento ajuste de las cualificaciones profesional en relación a las 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roblema: Incluir factores correctivos para que la sociedad de la información no agudice las divisiones existentes en la socie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Inquietud sobre cómo afectará a los puestos de trabajo y sobre el riesgo de crear una sociedad dividida entre los que dominan y los que no dominan las herramientas informática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LEXIBILIDAD Y SEGURIDAD EN LA VIDA LABOR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54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La Soc. de la Información introduce el concepto de un nuevo equilibrio entre la flexibilidad para las empresas y la seguridad para los trabajadores como base de una moderna organización del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ibro Verde sobre la Cooperación para una nueva organización d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mis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sultas con los interlocutores sociales sobre el marco para desarrollar el tele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crementa la función del diálogo social para facilitar el cambio estructural y desarrollar las TIC como instrumento para políticas dirigidas a la salud y seguridad en 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LEXIBILIDAD Y SEGURI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40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Hay que garantizar el respeto y la protección de los derechos de las person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fectación a los trabajadores del área de servicio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Las TIC permiten la deslocalización de tareas hacia otras partes d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mbio organizativo y capacitación o formación continu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l proceso de adaptación de la población activa a los requisitos y las presiones de la sociedad de la información debe ir acompañado de la participación de los trabajadores en la concepción, selección y aplicación de las tecnologías y el cambio organizat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La integración sin problemas de las TIC en una empresa requiere un planteamiento integrado que combine la introducción de TIC con la transformación organizativa y el desarrollo de los recursos hum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696440" cy="46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EN CONSECUENCIA, LA FORMACION CONTINUA, A LO LARGO DE TODA LA VIDA ES LA ÚNICA FORMA DE ESTAR SIEMPRE VIG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Planes de formación perma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Programas vision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Innovación empresa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Adaptabilidad del trabaj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CREAR UNA “CULTURA DE LA ANTICIPACIÓN” DE LOS CAMBIOS COMO BASE PARA UNA ESTRATEGIA DE PREVISIÓN PARA LA INVERSIÓN EN RECURSOS HUMA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L EMPLEO EN LA SOCIEDAD DE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0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reciente incertidumbre de los distintos sectores sociales, en cuanto a cómo afectará la sociedad de la información al mercado de trabajo, especialmente en cuando al crecimiento del empleo y más rápida la reducción del desempl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os beneficios en nuevas invers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Transformación de competencias antiguas en nue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introducción de TIC junto con los cambios organizativos, en el contexto de una economía glob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o de la productivid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Beneficios y salarios reales más al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Nueva demanda y nuevos emple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7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mbios en la demanda que evoluciona hacia más y más amplias competencias y en detrimento de los trabajadores menos cualifi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n problema estructural fundamental en Europa es la lenta adaptación de las competencias a las nuevas estructuras económicas (el mercado de trabajo de dos velocidad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to puede explicar el lento crecimiento económico de europ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estrategia europea de empleo hace hincapié en la capacidad de encontrar trabajo como la clave para mejorar el funcionamiento de los mercados de trabajo y la creación de empl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categorías profesionales deben ser definidos con claridad para apoyar una gestión más eficaz del proceso de transformación de los puestos de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estructura sectorial del empleo en Europa ha cambiado radical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servicios representan hoy en día alrededor del 65% del empleo total de Europ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ce sólo veinte años suponían menos del 50% del empleo to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onsecuencia esta “desmaterialización” de la economía plantea innumerables a nuestros esquemas conceptuales y nuestros sistemas estad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¿dónde se crea el va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ómo puede obten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ién puede hacer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ómo se distribuye?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bilidad de la fiscalidad a la estructura económica de la sociedad de la información sometida a un proceso de cambi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 que en Europa occidental hay más de 16.000 empresas de software y de servicios informát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ás de 300.000 emple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ás de 100.000 profesionales independi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queñas oficinas que emplean otras 200.000 person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ello deben añadirse Internet y los servicios de software y multimedios, la gran mayoría de los cuales tienen menos de 20 empleados y muchos menos de 5 (Panorama de la Industria 1997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1999 ya daba trabajo a más de 4 millones de perso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o de cada cuatro nuevos puestos de trabajo netos es resultado de la SI y la demanda en la misma supera con mucho la 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ba que había 500.000 puestos de trabajo no cubiertos solamente en el ámbito de los profesionales informá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Sociedad de la Información es el sector más dinámico de la economía de la UE, y justifica ya más del 5% del PIB de la 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de la Sociedad del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TIC Industrias TIC + industrias de conten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ditor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Audiovisu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Publicit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relacionadas con la tecnología de la información y la 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Ordenadores y progra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Servicios relacionados con los ordenadores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quipamiento y servicios tele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Micro-componentes electrón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quipamiento de ofic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tá creciendo más rápidamente que cualquier otro sector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industrias de la información y la comunicación están creciendo a una velocidad más de 5 puntos porcentuales mayor que los otros sectores, en términos reales, impulsando de hecho el crecimiento económico total de la UE en más de un 1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828800"/>
            <a:ext cx="82789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sificación y capacidad de proceso de las máquinas ha provocado un salto cualitativo, una revolución en los sistemas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ciedad de la Información ---&gt; Gest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286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TICs SISTEMAS DE PRODUCCION Y RELACIONES LAB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mensión socio-económica + industrias que utilizan productos y servicios de información y comunicación + industrias 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industrias de la Sociedad de la Información penetran ya en todos los aspectos de la vida empresarial, laboral y de ocio con productos c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léfonos 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exiones en red por ordena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televisión dig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redes de fibra óp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rvicios que incluyen la conexión por medio de comunicaciones 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redes informát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conexiones de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audiovis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empresas y consumidores europeos gastan hace varios años más en productos y servicios de información que en la combinación de automóviles, acero y aeronáu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Comisión, EITO (1998 y 1999 y, COM(1998) 590 final - 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ROTECCION DE LOS DATOS DE LOS TRABAJADO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uso de las TIC ha hecho que sea más sencillo que nunca almacenar, tratar y acceder a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datos personales no escapan a esta condi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posible supervisar y obtener datos de forma continua sobre los diferentes aspectos de las actividades del trabajador o incluso sobre su comportamiento personal del trabajador, sus actividades y caracte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atos podrán ser de voz, de texto, de imagen o incluso integrando todos es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gumentos comunes: seguridad o para medir y mejorar la produ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iesgo:  un uso no apropiado de los datos, con afectación de los derechos fundamentales del trabaja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TECCION DE LA SALUD DE LOS TRABAJADO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TIC pueden contribuir a la aplicación correcta de la legislación comunitaria en materia de salud y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recogida y evaluación estratégica de los datos sobre la salud y la seguridad pueden conducir a mejores planes de prevención de riesgos labo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d de directores de recursos humanos en Internet, diálogo social europeo en línea: herramientas de comunicación eficaz en la mate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utilización actual de las TIC por los trabajadores, se calcula en un 38% del total. Nuevos problemas de salu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mayor estr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casa ergonom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usculoesquelé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posibilidades de almacenamiento y cruce de esta información nos llama a reflexio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l uso de los datos de salud de los trabajadores puede traer aparejadas consecuencias noc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ulneración a la intimidad del trabaja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cisiones arbitrarias en contra del trabaja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rol de los agentes sociales está encaminado a potenciar un buen uso de los datos y la seguridad en su su util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N MARCO JURÍDICO ADECUADO PARA EL TELETRABAJ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ciedad de la información contempla nuevas formas flexibles de organizac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teletrabajo es una de estas formas y constituye una modalidad del trabajo a dis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etrabaja quien se desempeña en una cierta labor en un lugar distinto del establecimiento empresarial, comunicado con éste a través de las tecnologías de la información y comun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 que en 1994 había alrededor de 1,25 millones de teletrabajadores en Europa. 1,21% de la población activa europea (Informe final del proyecto TELDE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mismo proyecto informó que más del 40% de los europeos estaban interesados en acogerse al tele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fundamental es establecer un marco contractual o normativo que garantice la no vulneración de los derechos de los teletrabaj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ÁLOGO SOCIAL EN LA SOCIEDAD DE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Sociedad de la información está alterando la naturaleza del diálogo social está siendo alterada porque los interlocutores sociales ya no actúan dentro de los sistemas tradicionales de negociación colec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información, la consulta y la negociación deberían hacerse al nivel al que se adoptan las decisiones de política industrial, pero también a niveles y conforme a métodos que tengan en cuenta las nuevas formas de organización del trabajo cada vez más utiliz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Directiva sobre comités de empresa europeos introduce un marco para la consulta a escala de la UE* que tiende a establecer un marco comunitario jurídicamente vinculante sobre procedimientos de información y consulta a escala nacional, que completará e introducirá coherencia en la legislación comunitaria en este ámb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 algn="just">
              <a:spcBef>
                <a:spcPts val="2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rectiva 94/45/CE del Consejo, de 22 de septiembre de 1994, sobre la constitución de un comité de empresa europeo o de un procedimiento de información y consulta a los trabajadores en las empresas y grupos de empresas de dimensión comunitaria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OL DE LOS INTERLOCUTORES SOCIALES EN EL DIÁLOGO SOCIAL DE LA SOCIEDAD DE LA INFORMACIÓ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sificar el papel del diálogo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piciar un foro para el intercambio de experiencias que favorezca la aplicación de planteamientos integrados del cambio estructural en 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incipios que deben regi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novación organiza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novación tecnológ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arrollo de recursos hum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reación de empl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Comunicación de la Comisión de septiembre de 1996  COM (96) 448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752480"/>
            <a:ext cx="86104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. La Información como eje central de las sociedades en general y de la economía e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I. Convergencia y Digitalización: Lo que antes se diferenciaba por los distintos soportes hoy converge en 0 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II. Desmaterialización: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u desarrollo ha conducido a una desmaterialización progresiva (lo que antes veíamos en papel hoy lo vemos en pantalla).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V. Eliminación de Fronteras y Límites Difus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Transnacionalización (conflictos de legislación y de jurisdic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Convergencia de 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Flujo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RCADO LABORAL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42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. Globaliza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I. Nuevo Orden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urgen 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os servicios de información, genera ciudadanos más informados y por tanto menos desproteg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II.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Valorización de los sistemas produc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828800"/>
            <a:ext cx="82296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1. Crisis del Estado como unidad sociopolítica de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Sociedad virtual paral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Revelación al sistema norm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Castigos aplicados por la 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2. Identidades culturales particulares en j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3. Simbología asociada a Estados Poderosos: Sus redes y su presencia en la Red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4. Surgimiento de nuevos grupos de presión o interés: cyberliberties, freedom, empresa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0492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PECTOS POLITICOS RELEVANTES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CIEDAD DE LA INFORMACION DEL TRABAJ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La sociedad entera se ve afectada por las Tecnologías de la Información y las Comun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La empresa no es ajena a esta transformación.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istemas de prod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parición de sistemas de producción flex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15328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Sociedad de la información necesita una mayor fuerza laboral con conocimientos y habilidades en T.I.C.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lfabetización tecno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j. en Alemania al 2000 se estimaba que debían importar 30.000 trabajadores extracomuni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 necesario reaccionar y tener eficientes canales de comunicación para entregar a los sectores productivos los trabajadores  que neces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lanteamientos políticos, educación, formación, acceso al empleo, deben recoger las necesidades del nuevo ento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buenas prácticas y experiencias por parte de empresas y otros países servirán para elegir el camino más adecuado en estas polí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L MERCADO DE TRABAJO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37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E.- En 1996 se presentó un Libro Verde Vivir y trabajar en la sociedad de la información: prioridad para las perso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ar el conocimiento sobre las repercusiones sociales de la sociedad de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troducir una dimensión de la sociedad de la información, cuando sea preciso, en todas las políticas y acciones 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Determinar actuaciones específicas destinadas a maximizar la contribución de la sociedad de la información para fomentar el empleo y la inclu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Comisión sugiere que las políticas públicas en el ámbito de la sociedad de la información tengan como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Mejorar el acceso a la información y las T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Hacer progresar la democracia y la justicia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omentar la capacidad de encontrar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l aprendizaje permanente de la fuerza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ar la capacidad de la economía de la UE para lograr niveles altos y sostenibles de crecimiento y empl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seguir y aumentar la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omentar la inclusión y ayudar a las personas que tienen necesidades especiales y a las que carecen de oportunidades para mejorar su pos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Mejorar la calidad y la eficacia de la administración públ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5:03:34Z</dcterms:created>
  <dc:creator>Facultad de Derecho</dc:creator>
  <dc:description/>
  <dc:language>en-US</dc:language>
  <cp:lastModifiedBy>ldonoso</cp:lastModifiedBy>
  <dcterms:modified xsi:type="dcterms:W3CDTF">2005-05-25T16:14:53Z</dcterms:modified>
  <cp:revision>20</cp:revision>
  <dc:subject/>
  <dc:title>TIC Y RELACIONES LABORALES</dc:title>
</cp:coreProperties>
</file>