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C942-A5B9-4756-A8E4-27B96579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14B5-77B2-436D-844A-158B672E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4A6-0ABC-4B99-B7E9-D20A3373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0C6A-2A84-411B-B1DF-F69A05B9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7ECA-F195-41D5-AB37-7CCC0CE8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F703-9C80-4F4C-9B07-B3CB9D0F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B90F-962B-4460-98B2-B85C6F84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A7DD-ECCB-4F5D-B506-ADA11B03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D6EC-77A2-4C9C-8143-597E3125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31EF-86E8-409B-BA68-5E80FDF9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0DAC-5210-468D-A4C4-D457A534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EE03-1C27-4A84-BC45-CDAE5F15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A84F-8C44-4357-8E7E-85F947E3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3251-4A4A-4F60-84E9-FCB792CA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8ADA-3B99-4B63-BC06-40675B6F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DBA8-BA1F-4298-93E4-CB394679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6B36-E630-4388-B3C5-1BC7B1E9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E099-29F7-49FE-88C7-FAC928F7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DB41-4FB9-4AB9-85DE-EF4F89C7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8684-D91A-460C-84A0-90DA87BF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B9AC-C5D4-49E6-8B50-1860A1BD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D4A6-7298-4C22-83B1-99DADA28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A920-EDC6-4A4E-8325-AEF7A57C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9698-C960-4929-A370-FCB7D00C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47C7-5898-43C6-AB54-DE5B27B3B9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40CF-EEC2-4616-BB2C-BB668F6D0C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5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14400" y="914400"/>
            <a:ext cx="754380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Tempus Sans ITC"/>
              </a:rPr>
              <a:t>SOCIEDAD DE LA INFORMACION Y DEL CONOC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5105520"/>
            <a:ext cx="784872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rena Donoso Ab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entro de Estudios en Derecho Informá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19320" y="1981080"/>
            <a:ext cx="71625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3780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fraestructura de comunicaciones de alta calidad. 67.2% de los hogares con acceso a servicio telefónico fijo o móvi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cceso creciente a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net. Tres millones cien mil personas que acceden, a fines del 200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da  vez más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formación y servicios del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ado. 213 sitios relacionados con 17 Ministerios y subsecretarí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coherente p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l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í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ica de gobier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arco legal de firma y documentos electrón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45720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Chile en la Sociedad de la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3780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suficienci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Brech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ocial (18%/67% primero / décimo quinti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erritorial (20.9%/5.9% acceso urbano/rur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Bajo desarrollo de la industria de contenidos nacio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suficiente formación de recursos humanos en 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Bajo Nivel de Oferta en formación continua que garantrice adecuación tecnológica (informe OECD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La tasa de participación para la población entre 15 y 65 años alcanza en Chile a 18,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En la República Checa e Irlanda cubre a alrededor de un 25%, en Holanda a un tercio de la población y en Nueva Zelanda y Finlandia a la mitad o más de su población, respectiv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762120" y="2057400"/>
          <a:ext cx="7543800" cy="137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54380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762120" y="3276720"/>
          <a:ext cx="7543800" cy="380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276720"/>
                    <a:ext cx="75438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219320" y="457200"/>
            <a:ext cx="7467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Indicadores relativos a la telefonía al año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2120" y="3505320"/>
          <a:ext cx="7543800" cy="3553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505320"/>
                    <a:ext cx="754380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62120" y="3733920"/>
          <a:ext cx="7543800" cy="3553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733920"/>
                    <a:ext cx="754380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85800" y="525780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Fuente: (ITU) International Telecommunications Union (2000) (Columnas 1 a 5); The World Bank (2001) (Columnas 3  y 6, referidas al año 1999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62120" y="3962520"/>
          <a:ext cx="7543800" cy="3808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3962520"/>
                    <a:ext cx="75438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empus Sans ITC"/>
              </a:rPr>
              <a:t>Indicadores de Actividad Telecomunicaciones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empus Sans ITC"/>
              </a:rPr>
              <a:t>Informe Subtel Mayo 200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2361960"/>
            <a:ext cx="2895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ciembre 20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Junio 20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ciembre 2001 (p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riación Semestral (%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riación 12 meses (%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2133720"/>
            <a:ext cx="1447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íneas en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386.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531.2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581.1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,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,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2362320"/>
            <a:ext cx="1828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37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ne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,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2920" y="2133720"/>
            <a:ext cx="1981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37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fonía Móvil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fonía Fij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2209680"/>
            <a:ext cx="1828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37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fonía Móv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ne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,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,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4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600200" y="2057400"/>
            <a:ext cx="6553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3780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net para todos. Acortar las brechas digitales en hogares, empresas y reg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Estado al servicio de los ciudadanos. El rol del estado como principal prestador de servicios en la era de la inform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evar  la productividad e innovación de las  empresa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y redes produc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r los recursos humanos del país para la sociedad de la información y la nueva econom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stitucionalidad y marco jurídico para Internet y las nuevas industrias emerg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2286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Metas de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304920"/>
            <a:ext cx="8686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Problemas Jurídicos de la Sociedad de la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Derechos fundamentales en la sociedad tecn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Igualdad ante la ley e igualdad en el acceso a los medios tecn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ibertad de Expresión y Derecho a l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Intimidad y protección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ibertad de Aso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Derecho Pri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smaterialización de los docu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smaterialización de los obje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nvergencia de Derechos pers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blemas de jurisdicción en materia de contr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ntratos atíp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sponsa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Derecho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nvergencia de medios en servicios regul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guridad Nacional y Redes terror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lincuencia informát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obierno electrónico y participación ciudad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ublicidad de la ley de los actos de la administración pú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Derecho Inter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aída de las fronteras y juicios sobre la soberan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Jurisdicción en actos cometidos en la 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2438280"/>
            <a:ext cx="746748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on aquellas que, producto del desarrollo de las máquinas de cálculo automático, se aplican normalmente al tratamiento automático, almacenamiento y  transmisión de la 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jemplos de TIC: informática, telecomunicaciones, ficheros electrónicos, transferencias de datos, inteligencia artificial, robótica, biotecnología, nanotecnologí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152280"/>
            <a:ext cx="693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empus Sans ITC"/>
              </a:rPr>
              <a:t>Tecnologías de la Información y las Comunic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914400"/>
            <a:ext cx="8763120" cy="5638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2590920"/>
            <a:ext cx="1676520" cy="236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RIC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2514600"/>
            <a:ext cx="1752480" cy="2286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514600"/>
            <a:ext cx="1600200" cy="2286000"/>
          </a:xfrm>
          <a:prstGeom prst="ellipse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CIE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8880" y="2514600"/>
            <a:ext cx="1676520" cy="2286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CIE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O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320" y="5029200"/>
            <a:ext cx="3352680" cy="15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5181480"/>
            <a:ext cx="3352680" cy="152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5486400"/>
            <a:ext cx="33526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24480" y="5638680"/>
            <a:ext cx="2667240" cy="152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447920"/>
            <a:ext cx="7924680" cy="7596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600200"/>
            <a:ext cx="1066680" cy="3049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00 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1600200"/>
            <a:ext cx="1066680" cy="3049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00  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600200"/>
            <a:ext cx="1067040" cy="3049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1600200"/>
            <a:ext cx="1066680" cy="3049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48720" y="1600200"/>
            <a:ext cx="1066680" cy="3049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2514600"/>
            <a:ext cx="1600200" cy="22860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CIE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DUST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5334120"/>
            <a:ext cx="3352680" cy="15228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2209680"/>
            <a:ext cx="1295280" cy="228600"/>
          </a:xfrm>
          <a:prstGeom prst="rightArrow">
            <a:avLst>
              <a:gd name="adj1" fmla="val 50000"/>
              <a:gd name="adj2" fmla="val 14165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2133720"/>
            <a:ext cx="1295640" cy="228600"/>
          </a:xfrm>
          <a:prstGeom prst="rightArrow">
            <a:avLst>
              <a:gd name="adj1" fmla="val 50000"/>
              <a:gd name="adj2" fmla="val 14169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2133720"/>
            <a:ext cx="1295280" cy="228600"/>
          </a:xfrm>
          <a:prstGeom prst="rightArrow">
            <a:avLst>
              <a:gd name="adj1" fmla="val 50000"/>
              <a:gd name="adj2" fmla="val 14165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2057400"/>
            <a:ext cx="1295640" cy="228600"/>
          </a:xfrm>
          <a:prstGeom prst="rightArrow">
            <a:avLst>
              <a:gd name="adj1" fmla="val 50000"/>
              <a:gd name="adj2" fmla="val 14169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600200"/>
            <a:ext cx="1066680" cy="3049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228600"/>
            <a:ext cx="8610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SISTEMAS DE PRODUCCION A TRAVÉS DE LA HIS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Antigüedad ----------------&gt; Sistema Esclav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Edad Media ----------------&gt; Siervos de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Renacimiento -------------&gt; Artes y O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Revolución Industrial ------&gt; Maquinismo y Producción en s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Sociedad de la Información ---&gt; Gestión de la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Sociedad del Conocimiento---&gt; Gestión del conoc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14400" y="3049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LA SOCIEDAD DE LA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752480"/>
            <a:ext cx="86104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. La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nformación como eje central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de las sociedades en general y de la economía en part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I.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nvergencia y Digitalización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Lo que antes se diferenciaba por los distintos soportes hoy converge en 0 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II.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smaterialización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Su desarrollo ha conducido a una desmaterialización progresiva (lo que antes veíamos en papel hoy lo vemos en pantalla)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V.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iminación de Fronteras y Límites Difus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Transnacionalización (conflictos de legislación y de jurisdicció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Convergencia de med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Flujos de 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1905120"/>
            <a:ext cx="817884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. Globaliz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I. Nuevo Orden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907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uevos marginados, los analfabetos 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907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urgen nuevos conceptos de organización social, tales como las redes de colaboración o coalisiones colabora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907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servicios de información, genera ciudadanos más informados y por tanto menos desproteg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I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alorización de los sistema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907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alorización de los servicios por sobre la producción de bie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907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rvicios de información en el eje cent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1828800"/>
            <a:ext cx="82296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 Crisis del Estado como unidad sociopolítica de Gobi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ciedad virtual paral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velación al sistema nor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tigos aplicados por la com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 Identidades culturales particulares en j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 Simbología asociada a Estados Poderosos: Sus redes y su presencia en la Red de Re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 Surgimiento de nuevos grupos de presión o interés: cyberliberties, freedom, empresas de telecomun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0492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ASPECTOS POLITICOS RELEVANTES EN LA SOCIEDAD DE LA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228600"/>
            <a:ext cx="8839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Sociedad de la Información y la organización del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905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sociedad entera se ve afectada por las Tecnologías de la Información y las Comunic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empresa no es ajena a esta transformación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istemas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parición de sistemas de producción flexi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Globalización de los mercados y de la produ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vergencia de industrias tradicionalmente sepa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rcado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T.I.C., están en permanente transformación y evolución (el concepto de longlife learning, se reproduce nuevament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Servicio Universal de Telecomunicaciones y Sociedad de l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Servicio y Acceso Univers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n el aprendizaje, el trabajo y la vida cotidiana (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cepto dinámico y evoluti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Factores clave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disponibilidad, continuidad, precio, accesibilidad y conocimiento. El acceso a servicios y a aplicaciones avanzados a través de puntos públicos de acceso como bibliotecas, escuelas, y otros lugares de reunión social podría ser lo más aproximado al servicios unive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Para lograr los objetivos de igualdad y eficac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alidad de l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n diferencias de sexo, ni de condición geográfica o discapa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requiere una nueva cultura de la educación, la formación y el aprendizaje a lo largo de toda la vida, apoyada por la reestructuración selectiva del gasto público a favor de la inversión en recursos hum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4:54:24Z</dcterms:created>
  <dc:creator>Facultad de Derecho</dc:creator>
  <dc:description/>
  <dc:language>en-US</dc:language>
  <cp:lastModifiedBy>Facultad de Derecho</cp:lastModifiedBy>
  <dcterms:modified xsi:type="dcterms:W3CDTF">2002-12-10T22:43:05Z</dcterms:modified>
  <cp:revision>10</cp:revision>
  <dc:subject/>
  <dc:title>Sin título de diapositiva</dc:title>
</cp:coreProperties>
</file>