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16D-75A9-4E84-AB85-E929A432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31E-4733-47F0-9EF3-4DD24EE6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19A-0AA0-4456-BD32-242EEB89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728-445E-4A7A-8BC2-34674B96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C066-6ACE-445B-86F9-6118BBF3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498E-DD95-4663-A773-7C031D05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D915-1929-4907-B77B-A79C4E18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1F4-3B79-424D-B725-6276C08A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09C4-93C5-4B4D-B65A-3E44206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F79-3CCF-458C-98F0-9EA358D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D3BA-95FE-4569-B677-A1FF254C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FF4-06B6-4399-97BA-7F24B0FD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064B-B66D-4DEB-8CA1-079A01D3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6D7-C9AF-4658-ACD0-394CE22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E14C-CB1B-49D4-8D5A-66F875DB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B783-9456-4113-93F4-6A488333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FE0B-CBB0-457B-9E22-C2A929EF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1F1-BBD5-4434-A49F-92C8763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70A-F2CF-486C-8C37-82176217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C4A-66D9-4A05-8340-BF26AD41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C0C-EFFA-45C0-9B0D-4F51CBA2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11B-873E-41FB-80E3-894AFCC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46C-6AD5-4B63-9F2B-1F14426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815-DECA-4A44-A549-4C25886C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6CC-C187-44D5-820F-D1732602A9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319-C757-4184-B816-16EBE642AD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914400"/>
            <a:ext cx="75438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Tempus Sans ITC"/>
              </a:rPr>
              <a:t>SOCIEDAD DE LA INFORMACION Y DEL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105520"/>
            <a:ext cx="78487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rena Donoso Ab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entro de Estudios en Derecho Infor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1981080"/>
            <a:ext cx="71625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fraestructura de comunicaciones de alta calidad. 67.2% de los hogares con acceso a servicio telefónico fijo o móvi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ceso creciente a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net. Tres millones cien mil personas que acceden, a fines del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 vez más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formación y servicios del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ado. 213 sitios relacionados con 17 Ministerios y subsecreta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coherente 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l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ca de gobier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rco legal de firma y documentos electr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572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Chile en la Sociedad de l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suficie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rech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cial (18%/67% primero / décimo quint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erritorial (20.9%/5.9% acceso urbano/rur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jo desarrollo de la industria de contenidos naci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suficiente formación de recursos humanos en 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jo Nivel de Oferta en formación continua que garantrice adecuación tecnológica (informe OECD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tasa de participación para la población entre 15 y 65 años alcanza en Chile a 18,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n la República Checa e Irlanda cubre a alrededor de un 25%, en Holanda a un tercio de la población y en Nueva Zelanda y Finlandia a la mitad o más de su población, respec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62120" y="2057400"/>
          <a:ext cx="7543800" cy="137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62120" y="3276720"/>
          <a:ext cx="7543800" cy="380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7543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21932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Indicadores relativos a la telefonía al año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3505320"/>
          <a:ext cx="7543800" cy="355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505320"/>
                    <a:ext cx="75438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3733920"/>
          <a:ext cx="7543800" cy="355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733920"/>
                    <a:ext cx="75438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85800" y="525780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uente: (ITU) International Telecommunications Union (2000) (Columnas 1 a 5); The World Bank (2001) (Columnas 3  y 6, referidas al año 199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3962520"/>
          <a:ext cx="7543800" cy="3808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962520"/>
                    <a:ext cx="7543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empus Sans ITC"/>
              </a:rPr>
              <a:t>Indicadores de Actividad Telecomunicacion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empus Sans ITC"/>
              </a:rPr>
              <a:t>Informe Subtel Mayo 200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2895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ciembre 2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Junio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ciembre 2001 (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ción Semestral (%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ción 12 meses (%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133720"/>
            <a:ext cx="144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íneas en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86.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31.2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81.1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36232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2133720"/>
            <a:ext cx="1981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ía Móvil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ía Fij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209680"/>
            <a:ext cx="1828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ía 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4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00200" y="2057400"/>
            <a:ext cx="655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net para todos. Acortar las brechas digitales en hogares, empresas y reg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Estado al servicio de los ciudadanos. El rol del estado como principal prestador de servicios en la era de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evar  la productividad e innovación de las  empres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redes produ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r los recursos humanos del país para la sociedad de la información y la nueva econo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stitucionalidad y marco jurídico para Internet y las nuevas industrias emerg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28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Metas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049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Problemas Jurídicos de la Sociedad de l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rechos fundamentales en la sociedad tecn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gualdad ante la ley e igualdad en el acceso a los medios 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ibertad de Expresión y Derecho a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imidad y protecc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ibertad de Aso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recho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materialización de los doc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materialización de los ob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vergencia de Derechos pers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lemas de jurisdicción en materia de contr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tratos a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pon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recho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vergencia de medios en servicios regu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uridad Nacional y Redes terror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incuencia informá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obierno electrónico y participación ciudad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ublicidad de la ley de los actos de la administrac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rech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ída de las fronteras y juicios sobre la soberan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urisdicción en actos cometidos en l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438280"/>
            <a:ext cx="7467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quellas que, producto del desarrollo de las máquinas de cálculo automático, se aplican normalmente al tratamiento automático, almacenamiento y  transmisión de la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jemplos de TIC: informática, telecomunicaciones, ficheros electrónicos, transferencias de datos, inteligencia artificial, robótica, biotecnología, nanotecnolo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5228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Tecnologías de la Información y las Comunic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914400"/>
            <a:ext cx="8763120" cy="5638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590920"/>
            <a:ext cx="1676520" cy="236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I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2514600"/>
            <a:ext cx="1752480" cy="228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514600"/>
            <a:ext cx="1600200" cy="22860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2514600"/>
            <a:ext cx="1676520" cy="2286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5029200"/>
            <a:ext cx="33526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181480"/>
            <a:ext cx="3352680" cy="1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5486400"/>
            <a:ext cx="33526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5638680"/>
            <a:ext cx="266724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7924680" cy="7596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0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0  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600200"/>
            <a:ext cx="106704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514600"/>
            <a:ext cx="1600200" cy="228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5334120"/>
            <a:ext cx="3352680" cy="15228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20968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13372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1337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05740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22860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ISTEMAS DE PRODUCCION A TRAVÉS DE LA 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ntigüedad ----------------&gt; Sistema Escla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dad Media ----------------&gt; Siervo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nacimiento -------------&gt; Artes y O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volución Industrial ------&gt; Maquinismo y Producción en s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Sociedad de la Información ---&gt; Gest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Sociedad del Conocimiento---&gt; Gestión del 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3049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LA SOCIEDAD DE LA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752480"/>
            <a:ext cx="86104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. L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formación como eje central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e las sociedades en general y de la economía e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vergencia y Digitaliza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Lo que antes se diferenciaba por los distintos soportes hoy converge en 0 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I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materializa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u desarrollo ha conducido a una desmaterialización progresiva (lo que antes veíamos en papel hoy lo vemos en pantalla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V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iminación de Fronteras y Límites Difus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Transnacionalización (conflictos de legislación y de jurisdic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onvergencia de med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Flujos de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905120"/>
            <a:ext cx="817884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. Global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I. Nuevo Orde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rgen 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servicios de información, genera ciudadanos más informados y por tanto menos desproteg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ización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182880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Crisis del Estado como unidad sociopolítica de Gobi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ciedad virtual paral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elación al sistema nor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tigos aplicados por la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Identidades culturales particulares en j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Simbología asociada a Estados Poderosos: Sus redes y su presencia en la Red de Re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urgimiento de nuevos grupos de presión o interés: cyberliberties, freedom, empresas de 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04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ASPECTOS POLITICOS RELEVANTES EN LA SOCIEDAD DE LA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ociedad de la Información y la organización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sociedad entera se ve afectada por las Tecnologías de la Información y las Comunic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empresa no es ajena a esta transformación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stem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parición de sistemas de producción flex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rcad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ervicio Universal de Telecomunicaciones y Sociedad de l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ervicio y Acceso Univers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n el aprendizaje, el trabajo y la vida cotidiana (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inámico y evol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actores clave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isponibilidad, continuidad, precio, accesibilidad y conocimiento. 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ara lograr los objetivos de igualdad y efica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lidad de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n diferencias de sexo, ni de condición geográfica o dis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requiere una nueva cultura de la educación, la formación y el aprendizaje a lo largo de toda la vida, apoyada por la reestructuración selectiva del gasto público a favor de la inversión en 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54:24Z</dcterms:created>
  <dc:creator>Facultad de Derecho</dc:creator>
  <dc:description/>
  <dc:language>en-US</dc:language>
  <cp:lastModifiedBy>Facultad de Derecho</cp:lastModifiedBy>
  <dcterms:modified xsi:type="dcterms:W3CDTF">2002-12-10T22:43:05Z</dcterms:modified>
  <cp:revision>10</cp:revision>
  <dc:subject/>
  <dc:title>Sin título de diapositiva</dc:title>
</cp:coreProperties>
</file>