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701DD-FC4B-4730-81FE-EEC4A6AE8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F4C8E-751D-443B-9F67-3F2838D84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6C35D-0DF1-47C5-8A0A-2C69AC6A4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16065-1B4F-49A1-82F4-01D8DF17C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D229A-C077-486A-BB3B-DBF26539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09AD3-8A04-4E20-A171-F7B7922BA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F6A4-8992-4A77-9B72-83450A340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395E9-58BB-43E6-92A3-D7FD8F481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D0DAB-7037-497D-ACE8-46A7FEDB6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41BD-80D4-4A32-9B6A-FA50E189D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8F53-8DBF-4DAA-AF3C-9BA3CC8C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E47A-929A-4C5A-A7F7-4C0CEC547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A612-6268-4BD7-87E2-359B3079D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285640"/>
            <a:ext cx="8218440" cy="23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000000"/>
                </a:solidFill>
                <a:latin typeface="Arial"/>
              </a:rPr>
              <a:t>Acceso o Servicio Universal y Derecho de las nuevas tecnologías de la Inform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2060640"/>
            <a:ext cx="7773840" cy="3403440"/>
          </a:xfrm>
          <a:prstGeom prst="rect">
            <a:avLst/>
          </a:prstGeom>
          <a:solidFill>
            <a:srgbClr val="ffffd7"/>
          </a:solidFill>
          <a:ln w="0">
            <a:noFill/>
          </a:ln>
        </p:spPr>
        <p:txBody>
          <a:bodyPr anchor="t">
            <a:normAutofit/>
          </a:bodyPr>
          <a:p>
            <a:pPr lvl="1" marL="482760" indent="-96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stados deben velar porque los nuevos servicios de sistemas y de Datos informatizados que se ofrezcan al público en general sean desde un comienzo accesibles a las personas con discapacidad, o se adapten para hacerlos accesibles a ellas”</a:t>
            </a:r>
            <a:endParaRPr b="0" lang="en-US" sz="2400" spc="-1" strike="noStrike">
              <a:solidFill>
                <a:srgbClr val="000000"/>
              </a:solidFill>
              <a:latin typeface="Times New Roman"/>
            </a:endParaRPr>
          </a:p>
          <a:p>
            <a:pPr marL="195120" indent="-195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ción sobre Acceso Universal a las Comunicaciones Básicas y Servicios de Información, Comité Administrativo de las Naciones Unidas, 1995</a:t>
            </a:r>
            <a:endParaRPr b="0" lang="en-US" sz="2400" spc="-1" strike="noStrike">
              <a:solidFill>
                <a:srgbClr val="000000"/>
              </a:solidFill>
              <a:latin typeface="Times New Roman"/>
            </a:endParaRPr>
          </a:p>
          <a:p>
            <a:pPr marL="19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ormativas</a:t>
            </a:r>
            <a:r>
              <a:rPr b="0" lang="en-US" sz="4400" spc="-1" strike="noStrike">
                <a:solidFill>
                  <a:srgbClr val="000000"/>
                </a:solidFill>
                <a:latin typeface="Times New Roman"/>
              </a:rPr>
              <a:t> </a:t>
            </a:r>
            <a:r>
              <a:rPr b="0" i="1" lang="en-US" sz="4400" spc="-1" strike="noStrike">
                <a:solidFill>
                  <a:srgbClr val="000000"/>
                </a:solidFill>
                <a:latin typeface="Times New Roman"/>
              </a:rPr>
              <a:t>nacionales</a:t>
            </a:r>
            <a:endParaRPr b="0" lang="en-US" sz="4400" spc="-1" strike="noStrike">
              <a:solidFill>
                <a:srgbClr val="000000"/>
              </a:solidFill>
              <a:latin typeface="Times New Roman"/>
            </a:endParaRPr>
          </a:p>
        </p:txBody>
      </p:sp>
      <p:sp>
        <p:nvSpPr>
          <p:cNvPr id="68" name="PlaceHolder 2"/>
          <p:cNvSpPr>
            <a:spLocks noGrp="1"/>
          </p:cNvSpPr>
          <p:nvPr>
            <p:ph/>
          </p:nvPr>
        </p:nvSpPr>
        <p:spPr>
          <a:xfrm>
            <a:off x="395280" y="1700280"/>
            <a:ext cx="8424720" cy="4392720"/>
          </a:xfrm>
          <a:prstGeom prst="rect">
            <a:avLst/>
          </a:prstGeom>
          <a:solidFill>
            <a:srgbClr val="ffffd7"/>
          </a:solidFill>
          <a:ln w="0">
            <a:noFill/>
          </a:ln>
        </p:spPr>
        <p:txBody>
          <a:bodyPr anchor="t">
            <a:normAutofit/>
          </a:bodyPr>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apón “Telecomunications Bussines Law”, 1985</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inguna empresa de explotación de las telecomunicaciones discriminará injustamente en la prestación de los servicio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ncia, “Decreto de France Telecom”, 1990 </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facilitar a todos los ciudadanos el acceso al servicio público, France Telecom tendrá en cuenta las necesidades específicas de los usuarios discapacitado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adá, Acta de Telecomunicaciones de 1993 </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tar los servicios de telecomunicaciones fiables, asequibles y de alta calidad". </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dos Unidos, Acta de Telecomunicaciones de 1996, Sección 255</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abricante de equipos de telecomunicaciones (...) se asegurará que el equipo sea diseñado, desarrollado y fabricado para ser accesible a y utilizable por personas con discapacidad..."</a:t>
            </a:r>
            <a:endParaRPr b="0" lang="en-US" sz="2000" spc="-1" strike="noStrike">
              <a:solidFill>
                <a:srgbClr val="000000"/>
              </a:solidFill>
              <a:latin typeface="Times New Roman"/>
            </a:endParaRPr>
          </a:p>
        </p:txBody>
      </p:sp>
      <p:sp>
        <p:nvSpPr>
          <p:cNvPr id="69"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Normativas Nacionales (Latinoamérica)</a:t>
            </a:r>
            <a:endParaRPr b="0" lang="en-US" sz="4200" spc="-1" strike="noStrike">
              <a:solidFill>
                <a:srgbClr val="000000"/>
              </a:solidFill>
              <a:latin typeface="Times New Roman"/>
            </a:endParaRPr>
          </a:p>
        </p:txBody>
      </p:sp>
      <p:sp>
        <p:nvSpPr>
          <p:cNvPr id="71" name="PlaceHolder 2"/>
          <p:cNvSpPr>
            <a:spLocks noGrp="1"/>
          </p:cNvSpPr>
          <p:nvPr>
            <p:ph/>
          </p:nvPr>
        </p:nvSpPr>
        <p:spPr>
          <a:xfrm>
            <a:off x="228600" y="1699920"/>
            <a:ext cx="8447040" cy="480204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entina Resolución 1250/98  de la Comisión Nacional de Telecomunicaciones (Órgano Regulador)</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dea o convicción del derecho de la población a comunicarse, encuadrándolo como la obligación de prestar el servicio telefónico a todo quien lo solicite a un precio asequible y uniforme en todo el país"... </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a definición y el alcance que le demos al servicio universal debe estar en concordancia con su mecanismo de financiamiento, en la búsqueda de un equilibrio entre la eficiencia significativa y la distribución equitativa"...</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dea de servicio universal lleva implícito el concepto de que un número mayor de consumidores debe poder tener acceso a un bien o servicio determinado, lo cual también implica reconocer que el precio vigente, el número o cantidad de consumidores que tienen acceso a ese servicio es menor al deseado por el Estado"...</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mos exigiendo que la oferta se acomode a la demanda a un precio menor o a un precio igual en la totalidad del territorio o a una cobertura mayor".</a:t>
            </a:r>
            <a:endParaRPr b="0" lang="en-US" sz="2000" spc="-1" strike="noStrike">
              <a:solidFill>
                <a:srgbClr val="000000"/>
              </a:solidFill>
              <a:latin typeface="Times New Roman"/>
            </a:endParaRPr>
          </a:p>
        </p:txBody>
      </p:sp>
      <p:sp>
        <p:nvSpPr>
          <p:cNvPr id="72"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0920" y="2133720"/>
            <a:ext cx="7918200" cy="303048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olución 26.878/96 “Reglamento del Servicio de Telefonía Pública y Domiciliaria para Personas Hipoacúsicas o impedidas de Hablar”</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aratos telefónicos a instalar en sitios o lugares público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úmero necesario para satisfacer las necesidades de la població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ñalética necesaria para su identificació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tribución de estos equipos atendiendo a un reparto equitativo y enfocado a los lugares de atención de público</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 "centros de intermedi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Experiencias concretas</a:t>
            </a:r>
            <a:endParaRPr b="0" lang="en-US" sz="4200" spc="-1" strike="noStrike">
              <a:solidFill>
                <a:srgbClr val="000000"/>
              </a:solidFill>
              <a:latin typeface="Times New Roman"/>
            </a:endParaRPr>
          </a:p>
        </p:txBody>
      </p:sp>
      <p:sp>
        <p:nvSpPr>
          <p:cNvPr id="75" name="PlaceHolder 2"/>
          <p:cNvSpPr>
            <a:spLocks noGrp="1"/>
          </p:cNvSpPr>
          <p:nvPr>
            <p:ph/>
          </p:nvPr>
        </p:nvSpPr>
        <p:spPr>
          <a:xfrm>
            <a:off x="228240" y="1294920"/>
            <a:ext cx="8534520" cy="525780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ESCO y la UIT</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an proyectos de Telecentros comunitarios de multiuso:</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zambique, Suriname, Malí, Honduras, Uganda y Africa del Sur</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ienda instalación y explotación de kioscos virtuales de información en lugares público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ulta libre a las bases de conocimiento existentes en la red</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unicación con los organismos públicos que le sean necesarios para garantizar sus derechos o cumplir con sus deberes con dichos organismos</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nadá</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grama de Acceso Comunitario"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200 sistemas rurales</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lombia</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grama Compartel de Telefonía Social”</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lefonía Rural</a:t>
            </a:r>
            <a:endParaRPr b="0" lang="en-US" sz="2000" spc="-1" strike="noStrike">
              <a:solidFill>
                <a:srgbClr val="000000"/>
              </a:solidFill>
              <a:latin typeface="Times New Roman"/>
            </a:endParaRPr>
          </a:p>
        </p:txBody>
      </p:sp>
      <p:sp>
        <p:nvSpPr>
          <p:cNvPr id="76"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33160" y="609120"/>
            <a:ext cx="8305560" cy="586764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éxico</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997 se crea la Subcomisión de Accesibilidad</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ción de ciudades amigables para todos (hipoacusia, movilidad, debilidad visual o ceguera, enanos)</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ú y Uruguay</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lecentros Comunitario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Científica Peruana</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dos Unido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de Centros Comunitarios de Tecnología</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rte capacidad instalada de computador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amplios sectores de la población sin acceso a las Tecnologías de la Informació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ja participación de las Bibliotecas en la Red de Centros Comunitarios de Tecnología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gramas de lectura y alfabetismo están sobre programas de alfabetización tecnológica</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lta de capacitación adecuada para los bibliotecar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rPr>
              <a:t>Situación Nacional</a:t>
            </a:r>
            <a:endParaRPr b="0" lang="en-US" sz="4200" spc="-1" strike="noStrike">
              <a:solidFill>
                <a:srgbClr val="000000"/>
              </a:solidFill>
              <a:latin typeface="Times New Roman"/>
            </a:endParaRPr>
          </a:p>
        </p:txBody>
      </p:sp>
      <p:sp>
        <p:nvSpPr>
          <p:cNvPr id="79" name="PlaceHolder 2"/>
          <p:cNvSpPr>
            <a:spLocks noGrp="1"/>
          </p:cNvSpPr>
          <p:nvPr>
            <p:ph/>
          </p:nvPr>
        </p:nvSpPr>
        <p:spPr>
          <a:xfrm>
            <a:off x="228240" y="1143000"/>
            <a:ext cx="8458200" cy="541008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ción Política de la República </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s las personas son iguales en dignidad y derecho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echo a comunicarse libremente</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y 18.168, General de Telecomunicacione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 "todos los habitantes de la República tendrán libre e igualitario acceso a las telecomunicaciones...”</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7:  la Subsecretaría de Telecomunicaciones, órgano dependiente del Ministerio de Transportes y Telecomunicaciones tiene como funcion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ón y control de la ley y sus reglamento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r la normativa de telecomunicaciones y de dictar aquellas normas técnicas que sean necesarias sobre telecomunicaciones y controlar su cumplimiento</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ar por la protección de los derechos de los usuarios de estos servicios...</a:t>
            </a:r>
            <a:endParaRPr b="0" lang="en-US" sz="2000" spc="-1" strike="noStrike">
              <a:solidFill>
                <a:srgbClr val="000000"/>
              </a:solidFill>
              <a:latin typeface="Times New Roman"/>
            </a:endParaRPr>
          </a:p>
        </p:txBody>
      </p:sp>
      <p:sp>
        <p:nvSpPr>
          <p:cNvPr id="80"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50560" y="333000"/>
            <a:ext cx="8569080" cy="604836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4 B.- Las empresas concesionarias de servicio público telefónico estarán obligadas a dar servicio a los interesados que lo soliciten dentro de su zona de servicio y a los que estando fuera de ella y de la de otro concesionario, costeen las extensiones o refuerzos necesarios para llegar hasta ella.</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jecutar las obras de extensión o refuerzos los interesados podrán hacerlo por sí mismos o a través de terceros, debiendo en estos casos ser aprobadas tales obras por la Subsecretaría de Telecomunicaciones, o bien, encargar su ejecución a la concesionaria que le proporcionará el servicio. Las citadas obras darán derecho a usar los bienes nacionales de uso público en la forma prevista en el Artículo 18°.</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extensiones o refuerzos serán de propiedad del interesado. Lo anterior es sin perjuicio de lo que acuerden las partes en esta materia. Las empresas concesionarias para atender solicitudes de interesados ubicados fuera de su zona de servicios y de la zona de servicio de otros concesionarios, podrán convenir el suministro del servicio público telefónico con comunidades telefónicas para facilitar a un mayor número de usuarios el acceso a este medio de comunicación.</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ervicios públicos telefónicos a las comunidades telefónicas podrán prestarse asimismo como una derivación de un teléfono público de larga distancia existente.</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reglamento establecerá las normas técnicas para el funcionamiento de estas comunidades telefónicas.</a:t>
            </a: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907920"/>
            <a:ext cx="8534160" cy="518184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4 C.- El servicio deberá otorgarse tratándose de concesionario de servicio público telefónico, en el plazo de 2 años, a contar desde la fecha de la solicitud que el interesado presente a la empresa, salvo que se produjere un caso fortuito o de fuerza mayor que impida al concesionario atender la petición que se le formula.</a:t>
            </a:r>
            <a:endParaRPr b="0" lang="en-US" sz="2000" spc="-1" strike="noStrike">
              <a:solidFill>
                <a:srgbClr val="000000"/>
              </a:solidFill>
              <a:latin typeface="Times New Roman"/>
            </a:endParaRPr>
          </a:p>
          <a:p>
            <a:pPr lvl="1" marL="482760" indent="-96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L 1, 1987 TELECOMUNICACIIONES  ART 1° N° 2 a))</a:t>
            </a: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7.- ... “Toda suspensión, interrupción o alteración del servicio telefónico que exceda de 12 horas por causa no imputable al usuario, deberá ser descontada de la tarifa mensual de servicio básico a razón de un día por cada 24 horas o fracción superior a 6 horas. En caso que la suspensión, interrupción o alteración exceda de 3 días consecutivos en un mismo mes calendario y no obedezca a fuerza mayor o hecho fortuito, el concesionario deberá indemnizar al usuario con el triple del valor de la tarifa básica diaria por cada día de suspensión, interrupción o alteración del servicio. Los descuentos e indemnizaciones que se establecen en este artículo deberán descontarse de la cuenta o factura mensual más próxim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676520"/>
            <a:ext cx="7772400" cy="411480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8.- La interrupción de la explotación de un servicio público de telecomunicaciones por más de 3 días, sin permiso previo de la Subsecretaría de Telecomunicaciones y siempre que no se deba a fuerza mayor, facultará a dicha Subsecretaría para adoptar, a expensas del concesionario, todas las medidas que estime necesarias para asegurar la continuidad de su funcionamiento.</a:t>
            </a:r>
            <a:endParaRPr b="0" lang="en-US" sz="2000" spc="-1" strike="noStrike">
              <a:solidFill>
                <a:srgbClr val="000000"/>
              </a:solidFill>
              <a:latin typeface="Times New Roman"/>
            </a:endParaRPr>
          </a:p>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n toda concesión de servicio público de telecomunicaciones deberá entenderse incorporada la condición de que si, dentro del plazo de tres meses contado desde que se hayan adoptado las medidas a que se refiere el inciso anterior, el concesionario no hubiere normalizado la explotación del servicio y garantizado su continuidad, el Presidente de la República podrá declarar caducada la concesión y disponer la licitación pública de los equipos, instalaciones, bienes y derecho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Concepto de servicio Universal</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solidFill>
            <a:srgbClr val="ffffd7"/>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un</a:t>
            </a:r>
            <a:r>
              <a:rPr b="0" lang="en-US" sz="3200" spc="-1" strike="noStrike">
                <a:solidFill>
                  <a:srgbClr val="000000"/>
                </a:solidFill>
                <a:latin typeface="Arial"/>
              </a:rPr>
              <a:t> </a:t>
            </a:r>
            <a:r>
              <a:rPr b="0" i="1" lang="en-US" sz="3200" spc="-1" strike="noStrike">
                <a:solidFill>
                  <a:srgbClr val="000000"/>
                </a:solidFill>
                <a:latin typeface="Arial"/>
              </a:rPr>
              <a:t>conjunto mínimo de servicios definidos de una calidad determinada y la prestación de dichos servicios a todos los usuarios, independientemente de su situación geográfica y, a la vista de las condiciones nacionales concretas, a un precio asequible"</a:t>
            </a:r>
            <a:endParaRPr b="0" lang="en-US" sz="3200" spc="-1" strike="noStrike">
              <a:solidFill>
                <a:srgbClr val="000000"/>
              </a:solidFill>
              <a:latin typeface="Times New Roman"/>
            </a:endParaRPr>
          </a:p>
        </p:txBody>
      </p:sp>
      <p:sp>
        <p:nvSpPr>
          <p:cNvPr id="44"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195120" indent="-195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28 bis.- Los reclamos que se formulen por,  entre o en contra de concesionarios, usuarios y particulares en general, y que se refieran a cualquier cuestión derivada de la presente ley, de los cuerpos reglamentarios y de los planes y normas técnicas, cuyo cumplimiento deba ser vigilado por la Subsecretaría de Telecomunicaciones, serán resueltos por este organismo, oyendo a las partes. Un reglamento establecerá la forma de tramitación y los requisitos que deben cumplir las diligencias y actuaciones. (LEY 18482 ART 47 c))</a:t>
            </a:r>
            <a:endParaRPr b="0" lang="en-US" sz="2000" spc="-1" strike="noStrike">
              <a:solidFill>
                <a:srgbClr val="000000"/>
              </a:solidFill>
              <a:latin typeface="Times New Roman"/>
            </a:endParaRPr>
          </a:p>
          <a:p>
            <a:pPr marL="19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23640" y="404280"/>
            <a:ext cx="8072280" cy="6193080"/>
          </a:xfrm>
          <a:prstGeom prst="rect">
            <a:avLst/>
          </a:prstGeom>
          <a:solidFill>
            <a:srgbClr val="ffffd7"/>
          </a:solidFill>
          <a:ln w="0">
            <a:noFill/>
          </a:ln>
        </p:spPr>
        <p:txBody>
          <a:bodyPr lIns="90000" rIns="90000" tIns="46800" bIns="46800" anchor="t">
            <a:normAutofit/>
          </a:bodyPr>
          <a:p>
            <a:pPr marL="185760" indent="-185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ítulo IV. Fondo de Desarrollo de las Telecomunicaciones,</a:t>
            </a:r>
            <a:r>
              <a:rPr b="0" i="1" lang="en-US" sz="1800" spc="-1" strike="noStrike">
                <a:solidFill>
                  <a:srgbClr val="000000"/>
                </a:solidFill>
                <a:latin typeface="Arial"/>
              </a:rPr>
              <a:t> fruto de la Ley 19.302 de 10 de marzo de 1994 y actualizado por Ley 19.724 D.O. 11.05.2001)</a:t>
            </a:r>
            <a:endParaRPr b="0" lang="en-US" sz="1800" spc="-1" strike="noStrike">
              <a:solidFill>
                <a:srgbClr val="000000"/>
              </a:solidFill>
              <a:latin typeface="Times New Roman"/>
            </a:endParaRPr>
          </a:p>
          <a:p>
            <a:pPr lvl="1" marL="542880" indent="-177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creto Supremo 470 (Reglamento del Fondo)</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pendencia:</a:t>
            </a:r>
            <a:r>
              <a:rPr b="0" i="1" lang="en-US" sz="1800" spc="-1" strike="noStrike">
                <a:solidFill>
                  <a:srgbClr val="000000"/>
                </a:solidFill>
                <a:latin typeface="Arial"/>
              </a:rPr>
              <a:t>  Ministerio de Transportes y Telecomunicaciones</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gencia:</a:t>
            </a:r>
            <a:r>
              <a:rPr b="0" i="1" lang="en-US" sz="1800" spc="-1" strike="noStrike">
                <a:solidFill>
                  <a:srgbClr val="000000"/>
                </a:solidFill>
                <a:latin typeface="Arial"/>
              </a:rPr>
              <a:t> diez años, contado desde la entrada en vigencia de esta ley (2001)</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jeto:</a:t>
            </a:r>
            <a:endParaRPr b="0" lang="en-US" sz="1800" spc="-1" strike="noStrike">
              <a:solidFill>
                <a:srgbClr val="000000"/>
              </a:solidFill>
              <a:latin typeface="Times New Roman"/>
            </a:endParaRPr>
          </a:p>
          <a:p>
            <a:pPr lvl="1" marL="54288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mover el aumento de la cobertura de los servicios de telecomunicaciones en áreas rurales y urbanas de bajos ingresos, especialmente respecto de localidades ubicadas en zonas geográficas extremas o aisladas.</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tida Presupuestaria:</a:t>
            </a:r>
            <a:r>
              <a:rPr b="0" i="1" lang="en-US" sz="1800" spc="-1" strike="noStrike">
                <a:solidFill>
                  <a:srgbClr val="000000"/>
                </a:solidFill>
                <a:latin typeface="Arial"/>
              </a:rPr>
              <a:t> Aportes que se le asignen anualmente en la ley de Presupuestos del Sector Público, sin perjuicio de que pueda recibir otros aportes.</a:t>
            </a:r>
            <a:endParaRPr b="0" lang="en-US" sz="1800" spc="-1" strike="noStrike">
              <a:solidFill>
                <a:srgbClr val="000000"/>
              </a:solidFill>
              <a:latin typeface="Times New Roman"/>
            </a:endParaRPr>
          </a:p>
          <a:p>
            <a:pPr marL="185760" indent="-185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ministración:</a:t>
            </a:r>
            <a:r>
              <a:rPr b="0" i="1" lang="en-US" sz="1800" spc="-1" strike="noStrike">
                <a:solidFill>
                  <a:srgbClr val="000000"/>
                </a:solidFill>
                <a:latin typeface="Arial"/>
              </a:rPr>
              <a:t> El Consejo de Desarrollo de las Telecomunicaciones</a:t>
            </a:r>
            <a:endParaRPr b="0" lang="en-US" sz="1800" spc="-1" strike="noStrike">
              <a:solidFill>
                <a:srgbClr val="000000"/>
              </a:solidFill>
              <a:latin typeface="Times New Roman"/>
            </a:endParaRPr>
          </a:p>
          <a:p>
            <a:pPr lvl="1" marL="54288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gración:</a:t>
            </a:r>
            <a:endParaRPr b="0" lang="en-US" sz="18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 de Transportes y Telecomunicaciones, quien lo presidirá,</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s de Economía, Fomento y Reconstrucción;</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 de Hacienda;</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stro de Planificación y Cooperación;</a:t>
            </a:r>
            <a:endParaRPr b="0" lang="en-US" sz="1600" spc="-1" strike="noStrike">
              <a:solidFill>
                <a:srgbClr val="000000"/>
              </a:solidFill>
              <a:latin typeface="Times New Roman"/>
            </a:endParaRPr>
          </a:p>
          <a:p>
            <a:pPr lvl="2" marL="90000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es profesionales con experiencia en el área de telecomunicaciones y vinculados a las diversas regiones del país, que serán designados por el Presidente de la República</a:t>
            </a:r>
            <a:endParaRPr b="0" lang="en-US" sz="1600" spc="-1" strike="noStrike">
              <a:solidFill>
                <a:srgbClr val="000000"/>
              </a:solidFill>
              <a:latin typeface="Times New Roman"/>
            </a:endParaRPr>
          </a:p>
        </p:txBody>
      </p:sp>
      <p:sp>
        <p:nvSpPr>
          <p:cNvPr id="86" name=""/>
          <p:cNvSpPr/>
          <p:nvPr/>
        </p:nvSpPr>
        <p:spPr>
          <a:xfrm>
            <a:off x="7164360" y="458136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524720" y="4724280"/>
            <a:ext cx="161928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o sus representa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620280"/>
            <a:ext cx="8496000" cy="6048360"/>
          </a:xfrm>
          <a:prstGeom prst="rect">
            <a:avLst/>
          </a:prstGeom>
          <a:solidFill>
            <a:srgbClr val="ffffd7"/>
          </a:solidFill>
          <a:ln w="0">
            <a:noFill/>
          </a:ln>
        </p:spPr>
        <p:txBody>
          <a:bodyPr lIns="90000" rIns="90000" tIns="46800" bIns="46800"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rtículo 28 E.- El Consejo tendrá las siguientes funciones: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1) Definir anualmente los criterios o pautas que se deberán considerar por la Subsecretaría de Telecomunicaciones al evaluar los proyect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2) Establecer el programa anual de proyectos subsidiables o licitables, sus prioridades y los subsidios para su ejecución, oyendo previamente a las asociaciones de municipal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3) Asignar, por concurso público, los proyectos y los subsidios para su ejecución.</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4) Preparar y difundir la memoria anual de activ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ara el adecuado cumplimiento de sus funciones, el Consejo podrá requerir a las autoridades regionales,provinciales o comunales, directamente o a través de las Secretarías Regionales Ministeriales de los ministerios representados en el mismo, los antecedentes que estime necesarios.</a:t>
            </a:r>
            <a:endParaRPr b="0" lang="en-US" sz="1800" spc="-1" strike="noStrike">
              <a:solidFill>
                <a:srgbClr val="000000"/>
              </a:solidFill>
              <a:latin typeface="Times New Roman"/>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siones y acuerd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ide las sesiones el Sr. Ministro de Transportes y Telecomunicacion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ausencia del Ministro de Transportes y Telecomunicaciones, presidirá la sesión el Ministro de Economía, Fomento y Reconstrucción o su representante.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 Secretario Ejecutivo del Consejo será el Subsecretario de Telecomunicaciones, quien tendrá a su cargo las actas de las sesiones y la calidad de ministro de fe.</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empate en las votaciones para tomar acuerdo, resolverá quien presida la respectiva sesión.</a:t>
            </a:r>
            <a:endParaRPr b="0" lang="en-US" sz="18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520" y="762120"/>
            <a:ext cx="8512200" cy="5619600"/>
          </a:xfrm>
          <a:prstGeom prst="rect">
            <a:avLst/>
          </a:prstGeom>
          <a:solidFill>
            <a:srgbClr val="ffffd7"/>
          </a:solidFill>
          <a:ln w="0">
            <a:noFill/>
          </a:ln>
        </p:spPr>
        <p:txBody>
          <a:bodyPr lIns="90000" rIns="90000" tIns="46800" bIns="46800" anchor="t">
            <a:norm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cedimiento: (Art. 28 C))</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finición del Programa anual de proyecto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btel requerirá previamente a las municipalidades que informen sobre las necesidades de telecomunicaciones que afecten a la comuna respectiva.</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entación de solicitudes específicas de proyectos por empres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aboración, con la debida antelación, del programa anual de proyectos subsidiables:</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ipos de proyectos Subsidiables: (Art. 28 D))</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 Teléfonos públicos o centros de llamad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 Telecentros comunitarios de información.</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 Servicios de Telecomunicaciones de libre recepción o de radiodifusión locales, cuyas transmisiones están destinadas a la recepción libre y directa por el público en general, sean emisiones sonoras, de televisión abierta o limitada, o de otro género, especialmente los servicios de radiodifusión de mínima cobertura definidos en el inciso segundo de la letra a) del artículo 3º de esta ley.</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 Cualquier otro servicio de telecomunicaciones que beneficie directamente a la comunidad en la cual habrá de operar.</a:t>
            </a:r>
            <a:endParaRPr b="0" lang="en-US" sz="1800" spc="-1" strike="noStrike">
              <a:solidFill>
                <a:srgbClr val="000000"/>
              </a:solidFill>
              <a:latin typeface="Times New Roman"/>
            </a:endParaRPr>
          </a:p>
          <a:p>
            <a:pPr lvl="2" marL="1063800" indent="-130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proyectos podrán complementarse con líneas de abonados y otras prestaciones no afectas a subsid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9280" y="620640"/>
            <a:ext cx="8223480" cy="5780160"/>
          </a:xfrm>
          <a:prstGeom prst="rect">
            <a:avLst/>
          </a:prstGeom>
          <a:solidFill>
            <a:srgbClr val="ffffd7"/>
          </a:solid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sejo: analiza Propuestas y evaluaciones técnico-económicas de las mismos y de sus respectivas prioridades sociales.</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citacion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s de licitación: para ser licitados dentro del programa anual.</a:t>
            </a:r>
            <a:endParaRPr b="0" lang="en-US" sz="1800" spc="-1" strike="noStrike">
              <a:solidFill>
                <a:srgbClr val="000000"/>
              </a:solidFill>
              <a:latin typeface="Times New Roman"/>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s de licitación contemplarán</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ablecimiento de garantías que aseguren la adecuada y completa ejecución del proyecto, como también su óptimo funcionamiento y operación y,</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ser procedente, el monto mínimo de la licitación.</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ados de la primera etapa (1994-1999) nueve mil millones de pes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49 proyect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362 localidad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002.982 habitan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423 teléfonos funcionando, 5.916 asign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80% de las localidades rural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a etapa: Ley 19.724 D.O. 11.05.200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ependiza al Fondo de los avatares propios de la contingencia polític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nde los objetivos del Fo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0"/>
            <a:ext cx="88390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cceso universal a las telecomunicaciones para discapacitados</a:t>
            </a:r>
            <a:endParaRPr b="0" lang="en-US" sz="3800" spc="-1" strike="noStrike">
              <a:solidFill>
                <a:srgbClr val="000000"/>
              </a:solidFill>
              <a:latin typeface="Times New Roman"/>
            </a:endParaRPr>
          </a:p>
        </p:txBody>
      </p:sp>
      <p:sp>
        <p:nvSpPr>
          <p:cNvPr id="92" name="PlaceHolder 2"/>
          <p:cNvSpPr>
            <a:spLocks noGrp="1"/>
          </p:cNvSpPr>
          <p:nvPr>
            <p:ph/>
          </p:nvPr>
        </p:nvSpPr>
        <p:spPr>
          <a:xfrm>
            <a:off x="685440" y="1600200"/>
            <a:ext cx="7924680" cy="4495680"/>
          </a:xfrm>
          <a:prstGeom prst="rect">
            <a:avLst/>
          </a:prstGeom>
          <a:solidFill>
            <a:srgbClr val="ffffd7"/>
          </a:solidFill>
          <a:ln w="0">
            <a:noFill/>
          </a:ln>
        </p:spPr>
        <p:txBody>
          <a:bodyPr lIns="90000" rIns="90000" tIns="46800" bIns="46800"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Ley 19.284 de plena integración social de las personas con discapacidad</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Establecer la forma y condiciones que permitan obtener la plena integración de las personas con discapacidad en la sociedad, y velar por el pleno ejercicio de los derechos que la Constitución y las leyes reconocen a todas las persona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ersona con discapacidad: toda aquella que, como consecuencia de una o más deficiencias físicas, psíquicas o sensoriales, congénitas o adquiridas, previsiblemente de carácter permanente y con independencia de la causa que las hubiere originado, vea obstaculizada, en a lo menos un tercio, su capacidad educativa, laboral o de integración social”</a:t>
            </a:r>
            <a:endParaRPr b="0" lang="en-US" sz="2000" spc="-1" strike="noStrike">
              <a:solidFill>
                <a:srgbClr val="000000"/>
              </a:solidFill>
              <a:latin typeface="Times New Roman"/>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creto 47 de 1992, del Ministerio de Vivienda y Urbanismo</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93" name=""/>
          <p:cNvSpPr/>
          <p:nvPr/>
        </p:nvSpPr>
        <p:spPr>
          <a:xfrm>
            <a:off x="0" y="129528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533160"/>
            <a:ext cx="8305920" cy="6019560"/>
          </a:xfrm>
          <a:prstGeom prst="rect">
            <a:avLst/>
          </a:prstGeom>
          <a:solidFill>
            <a:srgbClr val="ffffd7"/>
          </a:solid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creto 40 de 1994 de esa misma cartera, desarrolla esta exigenci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rtículo 2.2.8 conforme al texto modificado, dispone en su número 4 que "El mobiliario urbano ubicado en el espacio público, como ser teléfonos, ...deberá consultar condiciones adecuadas para las personas con discapacidad".</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solución Exenta 316, Subtel, marzo de 2000. Norma técnica de prestación del servicio público telefónico a discapacitados, a través de teléfonos públic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omisión "Un nuevo paso a la Integr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bjetivo: "diseñar estrategias que aseguren el acceso a los servicios de telecomunicaciones a los grupos de personas discapacitadas por medio de la modificación de la normativa y el alcance de tecnologías viables de ser aplicadas en el paí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das</a:t>
            </a:r>
            <a:r>
              <a:rPr b="0" lang="es-ES_tradnl" sz="1800" spc="-1" strike="noStrike">
                <a:solidFill>
                  <a:srgbClr val="000000"/>
                </a:solidFill>
                <a:latin typeface="Arial"/>
              </a:rPr>
              <a:t> </a:t>
            </a:r>
            <a:r>
              <a:rPr b="0" i="1" lang="es-ES_tradnl" sz="1800" spc="-1" strike="noStrike">
                <a:solidFill>
                  <a:srgbClr val="000000"/>
                </a:solidFill>
                <a:latin typeface="Arial"/>
              </a:rPr>
              <a:t>las personas deben tener la posibilidad de "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 (consid. B)</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920" y="980640"/>
            <a:ext cx="8588160" cy="5419800"/>
          </a:xfrm>
          <a:prstGeom prst="rect">
            <a:avLst/>
          </a:prstGeom>
          <a:solidFill>
            <a:srgbClr val="ffffd7"/>
          </a:solidFill>
          <a:ln w="0">
            <a:noFill/>
          </a:ln>
        </p:spPr>
        <p:txBody>
          <a:bodyPr lIns="90000" rIns="90000" tIns="46800" bIns="46800" anchor="t">
            <a:normAutofit fontScale="98000"/>
          </a:bodyPr>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bito de aplicación de la norma:</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stación del servicio público telefónic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través de un teléfono públic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uario sea una persona con algún tipo de discapacidad.</a:t>
            </a:r>
            <a:endParaRPr b="0" lang="en-US" sz="1800" spc="-1" strike="noStrike">
              <a:solidFill>
                <a:srgbClr val="000000"/>
              </a:solidFill>
              <a:latin typeface="Times New Roman"/>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sujeto pasivo de la norma:</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s concesionarias de servicio público de telefónic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s concesionarias de servicios intermedios de telecomunicaciones</a:t>
            </a:r>
            <a:endParaRPr b="0" lang="en-US" sz="1800" spc="-1" strike="noStrike">
              <a:solidFill>
                <a:srgbClr val="000000"/>
              </a:solidFill>
              <a:latin typeface="Times New Roman"/>
            </a:endParaRPr>
          </a:p>
          <a:p>
            <a:pPr lvl="2" marL="1119960" indent="-2239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 de conformidad a lo dispuesto en el artículo 26 inciso 3 de la Ley 18.168, hayan instalado teléfonos públicos</a:t>
            </a:r>
            <a:endParaRPr b="0" lang="en-US" sz="1800" spc="-1" strike="noStrike">
              <a:solidFill>
                <a:srgbClr val="000000"/>
              </a:solidFill>
              <a:latin typeface="Times New Roman"/>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eficiario de la norma: Discapacitado</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apacidad física o motriz</a:t>
            </a:r>
            <a:r>
              <a:rPr b="0" i="1" lang="en-US" sz="1800" spc="-1" strike="noStrike">
                <a:solidFill>
                  <a:srgbClr val="000000"/>
                </a:solidFill>
                <a:latin typeface="Arial"/>
              </a:rPr>
              <a:t>. Se entiende por tal, aquella “que produce un menoscabo en a lo menos un tercio de la capacidad física para la realización de las actividades propias de una persona no discapacitada, de edad, sexo, formación, capacitación, condición social, familiar y geográfica, análogas a las de la persona con discapacidad”</a:t>
            </a:r>
            <a:endParaRPr b="0" lang="en-US" sz="1800" spc="-1" strike="noStrike">
              <a:solidFill>
                <a:srgbClr val="000000"/>
              </a:solidFill>
              <a:latin typeface="Times New Roman"/>
            </a:endParaRPr>
          </a:p>
          <a:p>
            <a:pPr lvl="1" marL="727920" indent="-280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apacidades Sensoriales:</a:t>
            </a:r>
            <a:r>
              <a:rPr b="0" i="1" lang="en-US" sz="1800" spc="-1" strike="noStrike">
                <a:solidFill>
                  <a:srgbClr val="000000"/>
                </a:solidFill>
                <a:latin typeface="Arial"/>
              </a:rPr>
              <a:t> Reglamento para la Evaluación y Calificación de la Discapacidad, Decreto 2505, 1995, Ministerio de Salud: aquellas deficiencias visuales, auditivas o de la fonación, que disminuyen en a lo menos un tercio la capacidad del sujeto para desarrollar actividades propias de una persona no discapacitada, en situación análoga de edad, sexo, formación, capacitación, condición social, familiar y localidad geográfica.</a:t>
            </a:r>
            <a:endParaRPr b="0" lang="en-US" sz="1800" spc="-1" strike="noStrike">
              <a:solidFill>
                <a:srgbClr val="000000"/>
              </a:solidFill>
              <a:latin typeface="Times New Roman"/>
            </a:endParaRPr>
          </a:p>
        </p:txBody>
      </p:sp>
      <p:sp>
        <p:nvSpPr>
          <p:cNvPr id="96" name=""/>
          <p:cNvSpPr/>
          <p:nvPr/>
        </p:nvSpPr>
        <p:spPr>
          <a:xfrm>
            <a:off x="609480" y="0"/>
            <a:ext cx="883944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mbito de aplicación y sujetos de la norma</a:t>
            </a:r>
            <a:endParaRPr b="0" lang="en-US" sz="3800" spc="-1" strike="noStrike">
              <a:solidFill>
                <a:srgbClr val="000000"/>
              </a:solidFill>
              <a:latin typeface="Times New Roman"/>
            </a:endParaRPr>
          </a:p>
        </p:txBody>
      </p:sp>
      <p:sp>
        <p:nvSpPr>
          <p:cNvPr id="97" name=""/>
          <p:cNvSpPr/>
          <p:nvPr/>
        </p:nvSpPr>
        <p:spPr>
          <a:xfrm>
            <a:off x="0" y="7621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78920" y="1125360"/>
            <a:ext cx="8812440" cy="5351760"/>
          </a:xfrm>
          <a:prstGeom prst="rect">
            <a:avLst/>
          </a:prstGeom>
          <a:solidFill>
            <a:srgbClr val="ffffd7"/>
          </a:solid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gualdad ante la Ley</a:t>
            </a:r>
            <a:r>
              <a:rPr b="0" i="1" lang="en-US" sz="1800" spc="-1" strike="noStrike">
                <a:solidFill>
                  <a:srgbClr val="000000"/>
                </a:solidFill>
                <a:latin typeface="Arial"/>
              </a:rPr>
              <a:t>”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iscriminación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dad equivalente a servicios prestados a cualquier persona; (tiempos de espera equivalentes para la instalación de teléfonos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s precios que se fijen por el uso de los servicios prestados a través de los teléfonos públicos correspondientes sólo podrán atender a razones de costos, lo que se enfatiza en el Título IV de la norma, en su artículo 18, en que prohibe que las tarifas se fijen atendiendo sólo al hecho de haberse realizado la llamada a través de un teléfono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tribución equitativa de los teléfonos en las comunas que integran zona de servici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visión de equipos domiciliarios en condiciones equivalentes a los usuarios no discapacitado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1295280" y="152280"/>
            <a:ext cx="6858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Principios</a:t>
            </a:r>
            <a:endParaRPr b="0" lang="en-US" sz="3800" spc="-1" strike="noStrike">
              <a:solidFill>
                <a:srgbClr val="000000"/>
              </a:solidFill>
              <a:latin typeface="Times New Roman"/>
            </a:endParaRPr>
          </a:p>
        </p:txBody>
      </p:sp>
      <p:sp>
        <p:nvSpPr>
          <p:cNvPr id="100"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476280"/>
            <a:ext cx="8229600" cy="5562720"/>
          </a:xfrm>
          <a:prstGeom prst="rect">
            <a:avLst/>
          </a:prstGeom>
          <a:solidFill>
            <a:srgbClr val="ffffd7"/>
          </a:solid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ficiencia: </a:t>
            </a:r>
            <a:r>
              <a:rPr b="0" i="1" lang="es-ES_tradnl" sz="2000" spc="-1" strike="noStrike">
                <a:solidFill>
                  <a:srgbClr val="000000"/>
                </a:solidFill>
                <a:latin typeface="Arial"/>
              </a:rPr>
              <a:t>equipamiento idóneo y acorde con el avance tecnológico en cada momento, permitiendo el uso óptimo de los terminales y equipos conectados a las redes de telecomunicaciones. Art. 4 letra b) Res. Exenta 31</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teléfonos que se instalen deben estar provistos de carteles de avisaje, conforme a las normas de señalética internacional, que permitan identificarlo como un teléfono apto para discapacitados.</a:t>
            </a:r>
            <a:endParaRPr b="0" lang="en-US" sz="18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tinuidad de los servicios, </a:t>
            </a:r>
            <a:r>
              <a:rPr b="0" i="1" lang="es-ES_tradnl" sz="2000" spc="-1" strike="noStrike">
                <a:solidFill>
                  <a:srgbClr val="000000"/>
                </a:solidFill>
                <a:latin typeface="Arial"/>
              </a:rPr>
              <a:t>los servicios deben prestarse sin interrupciones horarias o territoriales, en las condiciones que dispone la ley y su normativa complementaria. Art. 4 d) Res. Exenta 31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fidencialidad. </a:t>
            </a:r>
            <a:r>
              <a:rPr b="0" i="1" lang="es-ES_tradnl" sz="2000" spc="-1" strike="noStrike">
                <a:solidFill>
                  <a:srgbClr val="000000"/>
                </a:solidFill>
                <a:latin typeface="Arial"/>
              </a:rPr>
              <a:t>Esto en atención que las necesidades de telecomunicación de personas discapacitadas puede requerir la intervención de un tercero (persona física o máquina) que realice labores de intermediación entre estas personas y otras. En este contexto, la norma impone a las empresas garantizar una estricta reserva tanto acerca del curso como del contenido de la comunicación. Art. 4 letra a) Res. Exenta 3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lementos del concepto</a:t>
            </a:r>
            <a:endParaRPr b="0" lang="en-US" sz="4400" spc="-1" strike="noStrike">
              <a:solidFill>
                <a:srgbClr val="000000"/>
              </a:solidFill>
              <a:latin typeface="Times New Roman"/>
            </a:endParaRPr>
          </a:p>
        </p:txBody>
      </p:sp>
      <p:sp>
        <p:nvSpPr>
          <p:cNvPr id="46" name="PlaceHolder 2"/>
          <p:cNvSpPr>
            <a:spLocks noGrp="1"/>
          </p:cNvSpPr>
          <p:nvPr>
            <p:ph/>
          </p:nvPr>
        </p:nvSpPr>
        <p:spPr>
          <a:xfrm>
            <a:off x="380880" y="1143000"/>
            <a:ext cx="8382240" cy="5486400"/>
          </a:xfrm>
          <a:prstGeom prst="rect">
            <a:avLst/>
          </a:prstGeom>
          <a:solidFill>
            <a:srgbClr val="ffffd7"/>
          </a:solidFill>
          <a:ln w="0">
            <a:noFill/>
          </a:ln>
        </p:spPr>
        <p:txBody>
          <a:bodyPr lIns="90000" rIns="90000" tIns="46800" bIns="46800" anchor="t">
            <a:normAutofit/>
          </a:bodyPr>
          <a:p>
            <a:pPr marL="195120" indent="-1951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njunto de servicios básicos (prestaciones mínimas)</a:t>
            </a:r>
            <a:endParaRPr b="0" lang="en-US" sz="2600" spc="-1" strike="noStrike">
              <a:solidFill>
                <a:srgbClr val="000000"/>
              </a:solidFill>
              <a:latin typeface="Times New Roman"/>
            </a:endParaRPr>
          </a:p>
          <a:p>
            <a:pPr lvl="1" marL="482760" indent="-96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epende de estado social, cultural y tecnológico</a:t>
            </a:r>
            <a:endParaRPr b="0" lang="en-US" sz="2600" spc="-1" strike="noStrike">
              <a:solidFill>
                <a:srgbClr val="000000"/>
              </a:solidFill>
              <a:latin typeface="Times New Roman"/>
            </a:endParaRPr>
          </a:p>
          <a:p>
            <a:pPr lvl="2" marL="952560" indent="-195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vicio básico telefónico </a:t>
            </a:r>
            <a:endParaRPr b="0" lang="en-US" sz="24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 básico de telefonía vocal por medio de una conexión fija</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idad de teléfonos públicos acorde a los distintos entornos socioeconómicos</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bilidad de realizar llamadas locales a Servicios de urgencia</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s de Información (guías) sobre números de abonados y precios</a:t>
            </a:r>
            <a:endParaRPr b="0" lang="en-US" sz="2000" spc="-1" strike="noStrike">
              <a:solidFill>
                <a:srgbClr val="000000"/>
              </a:solidFill>
              <a:latin typeface="Times New Roman"/>
            </a:endParaRPr>
          </a:p>
          <a:p>
            <a:pPr lvl="3" marL="1330200" indent="-18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bilidad de efectuar comunicaciones o llamadas locales</a:t>
            </a:r>
            <a:endParaRPr b="0" lang="en-US" sz="2000" spc="-1" strike="noStrike">
              <a:solidFill>
                <a:srgbClr val="000000"/>
              </a:solidFill>
              <a:latin typeface="Times New Roman"/>
            </a:endParaRPr>
          </a:p>
          <a:p>
            <a:pPr lvl="1" marL="482760" indent="-96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recio Asequible</a:t>
            </a:r>
            <a:endParaRPr b="0" lang="en-US" sz="2600" spc="-1" strike="noStrike">
              <a:solidFill>
                <a:srgbClr val="000000"/>
              </a:solidFill>
              <a:latin typeface="Times New Roman"/>
            </a:endParaRPr>
          </a:p>
          <a:p>
            <a:pPr lvl="1" marL="482760" indent="-96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n independencia de la situación geográfica</a:t>
            </a:r>
            <a:endParaRPr b="0" lang="en-US" sz="2600" spc="-1" strike="noStrike">
              <a:solidFill>
                <a:srgbClr val="000000"/>
              </a:solidFill>
              <a:latin typeface="Times New Roman"/>
            </a:endParaRPr>
          </a:p>
        </p:txBody>
      </p:sp>
      <p:sp>
        <p:nvSpPr>
          <p:cNvPr id="47"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1760" y="685800"/>
            <a:ext cx="8001000" cy="5562720"/>
          </a:xfrm>
          <a:prstGeom prst="rect">
            <a:avLst/>
          </a:prstGeom>
          <a:solidFill>
            <a:srgbClr val="ffffd7"/>
          </a:solid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entros de Intermediación (Artículo 14 Resolución Exenta 316)</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 </a:t>
            </a:r>
            <a:r>
              <a:rPr b="0" i="1" lang="es-ES_tradnl" sz="1800" spc="-1" strike="noStrike">
                <a:solidFill>
                  <a:srgbClr val="000000"/>
                </a:solidFill>
                <a:latin typeface="Arial"/>
              </a:rPr>
              <a:t>centro de comunicaciones equipado con terminales adaptados a distintos niveles y tipos de discapacidad, atendido por operadores habilitados para atender a personas discapacitadas, quienes operan como intermediarios entre el usuario de origen y el de destino, oficiando de traductor entre un tipo de lenguaje y otr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peradores:  </a:t>
            </a:r>
            <a:r>
              <a:rPr b="0" i="1" lang="es-ES_tradnl" sz="1800" spc="-1" strike="noStrike">
                <a:solidFill>
                  <a:srgbClr val="000000"/>
                </a:solidFill>
                <a:latin typeface="Arial"/>
              </a:rPr>
              <a:t>Personas físicas o sistemas computacionales de reconocimento de voz o texto especialmente programados para a asistencia a discapacitad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municación con el centro: </a:t>
            </a:r>
            <a:r>
              <a:rPr b="0" i="1" lang="es-ES_tradnl" sz="1800" spc="-1" strike="noStrike">
                <a:solidFill>
                  <a:srgbClr val="000000"/>
                </a:solidFill>
                <a:latin typeface="Arial"/>
              </a:rPr>
              <a:t>A través de números especiales sin costo adicional para</a:t>
            </a:r>
            <a:r>
              <a:rPr b="1" i="1" lang="es-ES_tradnl" sz="1800" spc="-1" strike="noStrike">
                <a:solidFill>
                  <a:srgbClr val="000000"/>
                </a:solidFill>
                <a:latin typeface="Arial"/>
              </a:rPr>
              <a:t> el usuario, los que deberán publicitarse adecuadamen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inanciamiento: </a:t>
            </a:r>
            <a:r>
              <a:rPr b="0" i="1" lang="es-ES_tradnl" sz="1800" spc="-1" strike="noStrike">
                <a:solidFill>
                  <a:srgbClr val="000000"/>
                </a:solidFill>
                <a:latin typeface="Arial"/>
              </a:rPr>
              <a:t>Concesionarias, Fondo de Desarrollo de las tele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rma General:</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10 años desde la entrada en vigor de la norma, a lo menos un 8% de los teléfonos públicos instalados y operativo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concesionarias deberán ir instalando equipos de esta naturaleza en una proporción mínima equivalente a un 2% de los que efectivamente instalen o reponga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Teléfonos de texto:</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porcentajes de 2% y 8% se calculan sobre el número total de los centros de llamada con independencia de los teléfonos instalados en dichos establecimientos.</a:t>
            </a:r>
            <a:endParaRPr b="0" lang="en-US" sz="2000" spc="-1" strike="noStrike">
              <a:solidFill>
                <a:srgbClr val="000000"/>
              </a:solidFill>
              <a:latin typeface="Times New Roman"/>
            </a:endParaRPr>
          </a:p>
        </p:txBody>
      </p:sp>
      <p:sp>
        <p:nvSpPr>
          <p:cNvPr id="104" name=""/>
          <p:cNvSpPr/>
          <p:nvPr/>
        </p:nvSpPr>
        <p:spPr>
          <a:xfrm>
            <a:off x="685800" y="152280"/>
            <a:ext cx="80773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0000"/>
                </a:solidFill>
                <a:latin typeface="Book Antiqua"/>
              </a:rPr>
              <a:t>Plazos cumplimiento índices y mecanismos de cómputo</a:t>
            </a:r>
            <a:endParaRPr b="0" lang="en-US" sz="3800" spc="-1" strike="noStrike">
              <a:solidFill>
                <a:srgbClr val="000000"/>
              </a:solidFill>
              <a:latin typeface="Times New Roman"/>
            </a:endParaRPr>
          </a:p>
        </p:txBody>
      </p:sp>
      <p:sp>
        <p:nvSpPr>
          <p:cNvPr id="105" name=""/>
          <p:cNvSpPr/>
          <p:nvPr/>
        </p:nvSpPr>
        <p:spPr>
          <a:xfrm>
            <a:off x="0" y="16002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cceso Universal y Sistema Educacional.</a:t>
            </a:r>
            <a:endParaRPr b="0" lang="en-US" sz="3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solidFill>
            <a:srgbClr val="ffffd7"/>
          </a:solid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grama Enlaces: Ministerio de Educación (1992)</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jetivo: </a:t>
            </a:r>
            <a:r>
              <a:rPr b="0" i="1" lang="en-US" sz="1800" spc="-1" strike="noStrike">
                <a:solidFill>
                  <a:srgbClr val="000000"/>
                </a:solidFill>
                <a:latin typeface="Arial"/>
              </a:rPr>
              <a:t>proporcionar el uso de las Tecnologías de Información y Comunicación (TIC) a todos los niños y jóvenes que asistan a escuelas y liceos, especialmente a aquellos que se encuentran en zonas aislad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pacitación de profesor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istencia técnica a los establecimientos a través de una red universitari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trega de recursos informáticos y didácticos (salas de computadoras en red, software y contenidos en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y en día</a:t>
            </a:r>
            <a:endParaRPr b="0" lang="en-US" sz="4400" spc="-1" strike="noStrike">
              <a:solidFill>
                <a:srgbClr val="000000"/>
              </a:solidFill>
              <a:latin typeface="Times New Roman"/>
            </a:endParaRPr>
          </a:p>
        </p:txBody>
      </p:sp>
      <p:sp>
        <p:nvSpPr>
          <p:cNvPr id="49" name="PlaceHolder 2"/>
          <p:cNvSpPr>
            <a:spLocks noGrp="1"/>
          </p:cNvSpPr>
          <p:nvPr>
            <p:ph/>
          </p:nvPr>
        </p:nvSpPr>
        <p:spPr>
          <a:xfrm>
            <a:off x="609480" y="1523880"/>
            <a:ext cx="7848720" cy="4572000"/>
          </a:xfrm>
          <a:prstGeom prst="rect">
            <a:avLst/>
          </a:prstGeom>
          <a:solidFill>
            <a:srgbClr val="ffffd7"/>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Servicios básicos de una calidad determinada</a:t>
            </a:r>
            <a:endParaRPr b="0" lang="en-US" sz="26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Arial"/>
              </a:rPr>
              <a:t>Problema: determinar el standard de calidad aceptable</a:t>
            </a:r>
            <a:r>
              <a:rPr b="0" lang="es-ES_tradnl"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corde con el estado de las tecnologías disponibles</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prestado en condiciones de calidad equivalente con independencia de las condiciones geográficas</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precios con que estos servicios lleguen a los usuarios finales sean asequibles</a:t>
            </a:r>
            <a:r>
              <a:rPr b="0" lang="es-ES_tradnl" sz="3200" spc="-1" strike="noStrike">
                <a:solidFill>
                  <a:srgbClr val="000000"/>
                </a:solidFill>
                <a:latin typeface="Arial"/>
              </a:rPr>
              <a:t> </a:t>
            </a:r>
            <a:r>
              <a:rPr b="0" i="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50" name=""/>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228240"/>
            <a:ext cx="83055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ncepto Unión Internacional por las telecomunicaciones</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2437920"/>
            <a:ext cx="8229600" cy="3581640"/>
          </a:xfrm>
          <a:prstGeom prst="rect">
            <a:avLst/>
          </a:prstGeom>
          <a:solidFill>
            <a:srgbClr val="ffffd7"/>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l acceso a las telecomunicaciones como parte del derecho a comunicarse y la necesidad de que la reglamentación asegure la disponibilidad geográfica universal, la igualdad de trato mediante un acceso no discriminatorio y a un costo accesible".</a:t>
            </a:r>
            <a:endParaRPr b="0" lang="en-US" sz="2600" spc="-1" strike="noStrike">
              <a:solidFill>
                <a:srgbClr val="000000"/>
              </a:solidFill>
              <a:latin typeface="Times New Roman"/>
            </a:endParaRPr>
          </a:p>
        </p:txBody>
      </p:sp>
      <p:sp>
        <p:nvSpPr>
          <p:cNvPr id="53" name=""/>
          <p:cNvSpPr/>
          <p:nvPr/>
        </p:nvSpPr>
        <p:spPr>
          <a:xfrm>
            <a:off x="0" y="16765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uevo element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solidFill>
            <a:srgbClr val="ffffd7"/>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l servicio Universal y acceso Universal constituyen manifestaciones expresas del derecho que toda persona tiene a comunicars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mplica por tanto la elevación de este imperativo a la categoría de una garantía individual</a:t>
            </a:r>
            <a:endParaRPr b="0" lang="en-US" sz="2600" spc="-1" strike="noStrike">
              <a:solidFill>
                <a:srgbClr val="000000"/>
              </a:solidFill>
              <a:latin typeface="Times New Roman"/>
            </a:endParaRPr>
          </a:p>
        </p:txBody>
      </p:sp>
      <p:sp>
        <p:nvSpPr>
          <p:cNvPr id="56"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lcance de la Garantía</a:t>
            </a:r>
            <a:endParaRPr b="0" lang="en-US" sz="4400" spc="-1" strike="noStrike">
              <a:solidFill>
                <a:srgbClr val="000000"/>
              </a:solidFill>
              <a:latin typeface="Times New Roman"/>
            </a:endParaRPr>
          </a:p>
        </p:txBody>
      </p:sp>
      <p:sp>
        <p:nvSpPr>
          <p:cNvPr id="58" name="PlaceHolder 2"/>
          <p:cNvSpPr>
            <a:spLocks noGrp="1"/>
          </p:cNvSpPr>
          <p:nvPr>
            <p:ph/>
          </p:nvPr>
        </p:nvSpPr>
        <p:spPr>
          <a:xfrm>
            <a:off x="394920" y="1844640"/>
            <a:ext cx="8443800" cy="3649680"/>
          </a:xfrm>
          <a:prstGeom prst="rect">
            <a:avLst/>
          </a:prstGeom>
          <a:solidFill>
            <a:srgbClr val="ffffd7"/>
          </a:solidFill>
          <a:ln w="0">
            <a:noFill/>
          </a:ln>
        </p:spPr>
        <p:txBody>
          <a:bodyPr lIns="90000" rIns="90000" tIns="46800" bIns="46800" anchor="t">
            <a:normAutofit/>
          </a:bodyPr>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 conjunto definido de servicios que debe ser asequible a todos los ciudadano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tras obligaciones de servicio público que completen la institución anterior (Guías, números de emergencia).</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lantación de servicios adicionales o complementarios de telecomunicaciones</a:t>
            </a:r>
            <a:endParaRPr b="0" lang="en-US" sz="2000" spc="-1" strike="noStrike">
              <a:solidFill>
                <a:srgbClr val="000000"/>
              </a:solidFill>
              <a:latin typeface="Times New Roman"/>
            </a:endParaRPr>
          </a:p>
          <a:p>
            <a:pPr marL="195120" indent="-195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recho al uso compartido de infraestructuras de telecomunicaciones</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a minimizar el impacto urbanístico y medioambiental de dichas infraestructuras</a:t>
            </a:r>
            <a:endParaRPr b="0" lang="en-US" sz="2000" spc="-1" strike="noStrike">
              <a:solidFill>
                <a:srgbClr val="000000"/>
              </a:solidFill>
              <a:latin typeface="Times New Roman"/>
            </a:endParaRPr>
          </a:p>
          <a:p>
            <a:pPr lvl="1" marL="482760" indent="-96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cilitar la introducción de la competencia en el mercado de las telecomunicaciones</a:t>
            </a:r>
            <a:endParaRPr b="0" lang="en-US" sz="2000" spc="-1" strike="noStrike">
              <a:solidFill>
                <a:srgbClr val="000000"/>
              </a:solidFill>
              <a:latin typeface="Times New Roman"/>
            </a:endParaRPr>
          </a:p>
        </p:txBody>
      </p:sp>
      <p:sp>
        <p:nvSpPr>
          <p:cNvPr id="59"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cceso Universal</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0720"/>
            <a:ext cx="7924680" cy="3124440"/>
          </a:xfrm>
          <a:prstGeom prst="rect">
            <a:avLst/>
          </a:prstGeom>
          <a:solidFill>
            <a:srgbClr val="ffffd7"/>
          </a:solidFill>
          <a:ln w="0">
            <a:noFill/>
          </a:ln>
        </p:spPr>
        <p:txBody>
          <a:bodyPr anchor="t">
            <a:normAutofit/>
          </a:bodyPr>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ontrapartida del Servicio Universal</a:t>
            </a:r>
            <a:endParaRPr b="0" lang="en-US" sz="28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oda persona debe tener la posibilidad de utilizar algún sistema de telecomunicaciones </a:t>
            </a:r>
            <a:endParaRPr b="0" lang="en-US" sz="28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condiciones equivalentes con independencia de circunstancias personales y/o geográficas</a:t>
            </a:r>
            <a:endParaRPr b="0" lang="en-US" sz="2800" spc="-1" strike="noStrike">
              <a:solidFill>
                <a:srgbClr val="000000"/>
              </a:solidFill>
              <a:latin typeface="Times New Roman"/>
            </a:endParaRPr>
          </a:p>
        </p:txBody>
      </p:sp>
      <p:sp>
        <p:nvSpPr>
          <p:cNvPr id="62"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ormativa Interna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380520" y="1219320"/>
            <a:ext cx="8512200" cy="4873680"/>
          </a:xfrm>
          <a:prstGeom prst="rect">
            <a:avLst/>
          </a:prstGeom>
          <a:solidFill>
            <a:srgbClr val="ffffd7"/>
          </a:solidFill>
          <a:ln w="0">
            <a:noFill/>
          </a:ln>
        </p:spPr>
        <p:txBody>
          <a:bodyPr anchor="t">
            <a:normAutofit/>
          </a:bodyPr>
          <a:p>
            <a:pPr marL="195120" indent="-195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comendación N°2 de la Conferencia de Plenipotenciarios de los miembros de la Unión Internacional de Telecomunicaciones, Kioto, 1994.</a:t>
            </a:r>
            <a:endParaRPr b="0" lang="en-US" sz="2400" spc="-1" strike="noStrike">
              <a:solidFill>
                <a:srgbClr val="000000"/>
              </a:solidFill>
              <a:latin typeface="Times New Roman"/>
            </a:endParaRPr>
          </a:p>
          <a:p>
            <a:pPr lvl="1" marL="482760" indent="-96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faciliten la libre difusión de información por los servicios de telecomunicaciones”</a:t>
            </a:r>
            <a:endParaRPr b="0" lang="en-US" sz="2400" spc="-1" strike="noStrike">
              <a:solidFill>
                <a:srgbClr val="000000"/>
              </a:solidFill>
              <a:latin typeface="Times New Roman"/>
            </a:endParaRPr>
          </a:p>
          <a:p>
            <a:pPr marL="195120" indent="-195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t. 5 Normas Uniformes sobre la igualdad de oportunidades para las personas con discapacidad. Aprobadas por la Asamblea General de las Naciones Unidas, mediante Resolución 48/96, de 20 de diciembre de 1993, Cuadragésimo Octavo Período de Sesiones. </a:t>
            </a:r>
            <a:endParaRPr b="0" lang="en-US" sz="2400" spc="-1" strike="noStrike">
              <a:solidFill>
                <a:srgbClr val="000000"/>
              </a:solidFill>
              <a:latin typeface="Times New Roman"/>
            </a:endParaRPr>
          </a:p>
          <a:p>
            <a:pPr lvl="1" marL="482760" indent="-96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estados deben elaborar estrategias para que los servicios de información y documentación sean accesibles a los diferentes grupos con incapacidad"... </a:t>
            </a:r>
            <a:endParaRPr b="0" lang="en-US" sz="2400" spc="-1" strike="noStrike">
              <a:solidFill>
                <a:srgbClr val="000000"/>
              </a:solidFill>
              <a:latin typeface="Times New Roman"/>
            </a:endParaRPr>
          </a:p>
        </p:txBody>
      </p:sp>
      <p:sp>
        <p:nvSpPr>
          <p:cNvPr id="65" name=""/>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3T03:15:05Z</dcterms:created>
  <dc:creator>FdD</dc:creator>
  <dc:description/>
  <dc:language>en-US</dc:language>
  <cp:lastModifiedBy>Lorena Donoso A.</cp:lastModifiedBy>
  <cp:lastPrinted>2001-09-29T04:31:34Z</cp:lastPrinted>
  <dcterms:modified xsi:type="dcterms:W3CDTF">2005-03-30T13:48:18Z</dcterms:modified>
  <cp:revision>24</cp:revision>
  <dc:subject/>
  <dc:title>Problemas o más bien necesidades de información en relación al Derecho.</dc:title>
</cp:coreProperties>
</file>