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91EE-1861-496C-95C3-D74559D9E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EADE-27D4-4CFD-86EB-5FEC6A69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2BA8-B943-4864-B064-F6C6BA1D8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AADE-7329-463A-A275-3A6E56E25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2C20-3845-41B5-BE85-14CEFF03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34E9-507D-4586-95DC-50B0DA06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5F80-7791-438A-91DE-62B222D7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CBFC-2517-4738-937D-C61A95D4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3FE2-B8B6-4661-A2A7-64234BEC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7361-4E81-43C9-8E66-29A2B7AE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F11D-6CE3-485F-BC11-88354DCB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98F0-589C-4185-9629-94A33D6A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EC15-72F5-4FB1-AB56-713FC492F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14240" y="1981080"/>
            <a:ext cx="6095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PMingLiU"/>
              </a:rPr>
              <a:t>Nombres de Dominio en 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62520" y="4038480"/>
            <a:ext cx="3504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3300"/>
                </a:solidFill>
                <a:latin typeface="Times New Roman"/>
              </a:rPr>
              <a:t>C.E.D.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3300"/>
                </a:solidFill>
                <a:latin typeface="Times New Roman"/>
              </a:rPr>
              <a:t>200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PMingLiU"/>
              </a:rPr>
              <a:t>Principios Base de ICAN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7939080" cy="429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282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[ a ]. Preservar y realzar la estabilidad operacional, la confiabilidad, la seguridad, y la interoperabilidad global del Interne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[ b ]. Respetar la creatividad e innovación hecha posible por Internet limitando las actividades de ICANN a las materias que dentro de su misión requiere o beneficia perceptiblemente la coordinación glob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[ c ]. En grado factible, la integración del delegado reflejará los intereses de los afectad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[ d ]. Promover la participación internacional en todos los niveles de la toma de decisión y policy-making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523880" y="1219320"/>
            <a:ext cx="7315200" cy="48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282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[ e ]. Buscar la participación amplia, informada que refleje la diversidad funcional y geográfica del Interne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[ f ]. Introduzca y promueva la competencia en el registro de los nombres del dominio cuando sea practicable y beneficios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[ g ]. Cuando sea factible, utilizar mecanismos de mercado para promover y para sostener un ambiente competitiv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[ h ]. Emplear los mecanismos policy-making abiertos y transparentes que promuevan decisiones bien informadas, técnicamente san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371600" y="837720"/>
            <a:ext cx="7391520" cy="495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lvl="1" marL="271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1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[ i ]. Tomar las decisiones de la asignación aplicando políticas documentadas neutral y objetiv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1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[ j ]. Actuar con una velocidad que responda a las necesidades del Internet pero la participación informada de los más afectados como parte del procedimiento de toma de decis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1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[ k ]. Siguen siendo responsables ante la comunidad del Internet aunque los mecanismos que realzan eficacia de ICANN'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1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[ l ]. Mientras que es restante arraigado en el sector privado, acto con sensibilidad a las preocupaciones gubernamentales por el interés público para reducir al mínimo la necesidad de la acción gubernamental direct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PMingLiU"/>
              </a:rPr>
              <a:t>¿Por qué suelen confundirse con marca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Art. 19 Ley 19.039 “Bajo la denominación de marca comercial se comprende todo signo visible, novedoso y característico que sirva para distinguir productos, servicios o establecimientos industriales o comerciales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Los nombres de dominio tiene una característica propia de las marcas: SON IDENTIFICADORES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PMingLiU"/>
              </a:rPr>
              <a:t>Y en Ch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Nic Ch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dependiente de la Universidad de Ch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Actualmente actúa por delegación de ICAN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http://www.nic.c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00000"/>
                </a:solidFill>
                <a:latin typeface="PMingLiU"/>
              </a:rPr>
              <a:t>NIC Chile:</a:t>
            </a:r>
            <a:br>
              <a:rPr sz="4400"/>
            </a:br>
            <a:r>
              <a:rPr b="1" lang="es-ES" sz="4400" spc="-1" strike="noStrike">
                <a:solidFill>
                  <a:srgbClr val="800000"/>
                </a:solidFill>
                <a:latin typeface="PMingLiU"/>
              </a:rPr>
              <a:t>Somos el punto 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36560" y="1981080"/>
            <a:ext cx="3432240" cy="38102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Inicio 1987 (IAN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Registro sin formalidades y sin cob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1997: 1000 domin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1997: Reglament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Pionero mundial en la introducción de arbitraj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2000: Confirmación por ICAN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2001: 77.000 domin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00000"/>
                </a:solidFill>
                <a:latin typeface="PMingLiU"/>
              </a:rPr>
              <a:t>Relaciones del Usuario con Nic Ch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685800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El nombre de dominio propiamente 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Los derechos que nacen del contrato de registro de nombre de domin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106720"/>
            <a:ext cx="35164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Debemos distinguir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00000"/>
                </a:solidFill>
                <a:latin typeface="PMingLiU"/>
              </a:rPr>
              <a:t>Contrato de Registro de Nombres de Domin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993300"/>
                </a:solidFill>
                <a:latin typeface="Arial Unicode MS"/>
              </a:rPr>
              <a:t>Relación jurídica de Derecho Privado en virtud de la cual NIC Chile, en virtud de delegación de IANA (1987), confirmada por ICANN (2000), administra el sistema de registro y asigna los nombres de dominio .CL a las personas naturales o jurídicas que lo solicit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PMingLiU"/>
              </a:rPr>
              <a:t>Características del Contra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Bilate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Consens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Adhes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Oneroso y Conmutativ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Tracto sucesiv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Princip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Innomin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Sujeto a modalidad (plazo determinado - condición resolutoria expresa y suspensiva, negativa, casua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00000"/>
                </a:solidFill>
                <a:latin typeface="PMingLiU"/>
              </a:rPr>
              <a:t>IMPORTANTE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5800" y="2114640"/>
            <a:ext cx="3809880" cy="38480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Surgen derechos person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No hay propiedad sobre el nombre de domin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“</a:t>
            </a: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Dominio” induce a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Sobre derechos personales hay una especie de propiedad (usar - gozar - dispon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375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PMingLiU"/>
              </a:rPr>
              <a:t>Concepto de nombres de domin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828440" y="129492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0000"/>
                </a:solidFill>
                <a:latin typeface="Arial Unicode MS"/>
              </a:rPr>
              <a:t>Localizadores d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7892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00"/>
                </a:solidFill>
                <a:latin typeface="Arial Unicode MS"/>
              </a:rPr>
              <a:t>Números IP: 146.83.57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800000"/>
                </a:solidFill>
                <a:latin typeface="Arial Unicode MS"/>
              </a:rPr>
              <a:t>	</a:t>
            </a:r>
            <a:r>
              <a:rPr b="0" lang="es-ES_tradnl" sz="1800" spc="-1" strike="noStrike">
                <a:solidFill>
                  <a:srgbClr val="800000"/>
                </a:solidFill>
                <a:latin typeface="Arial Unicode MS"/>
              </a:rPr>
              <a:t>Sistema Originario de denomin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00"/>
                </a:solidFill>
                <a:latin typeface="Arial Unicode MS"/>
              </a:rPr>
              <a:t>	</a:t>
            </a:r>
            <a:r>
              <a:rPr b="0" lang="es-ES_tradnl" sz="1800" spc="-1" strike="noStrike">
                <a:solidFill>
                  <a:srgbClr val="800000"/>
                </a:solidFill>
                <a:latin typeface="Arial Unicode MS"/>
              </a:rPr>
              <a:t>Crecimiento de la Red hizo muy complejo el </a:t>
            </a:r>
            <a:r>
              <a:rPr b="0" lang="es-ES_tradnl" sz="1800" spc="-1" strike="noStrike">
                <a:solidFill>
                  <a:srgbClr val="800000"/>
                </a:solidFill>
                <a:latin typeface="Arial Unicode MS"/>
              </a:rPr>
              <a:t>	</a:t>
            </a:r>
            <a:r>
              <a:rPr b="0" lang="es-ES_tradnl" sz="1800" spc="-1" strike="noStrike">
                <a:solidFill>
                  <a:srgbClr val="800000"/>
                </a:solidFill>
                <a:latin typeface="Arial Unicode MS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789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7892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00"/>
                </a:solidFill>
                <a:latin typeface="Arial Unicode MS"/>
              </a:rPr>
              <a:t>Nombres de dominio: uchile.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7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7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Identificador alfanumérico que designa el núcleo o elemento principal de una dirección electrón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7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Denominación unívoca a nivel mundial, que identifica a una dirección 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00000"/>
                </a:solidFill>
                <a:latin typeface="PMingLiU"/>
              </a:rPr>
              <a:t>Elementos del Contra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520" y="190512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Prestación de servicio de regist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Prestación del servicio de mantención del sistema en servi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Pago de la tarif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Designación del nombre de domin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PMingLiU"/>
              </a:rPr>
              <a:t>¿Qué se inscrib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Palabras o signos deliberadamente creados con ese fin (Ej: www.3m.com y www.mmm.co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Marcas comerciales regist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Nombres de personas o institu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Palabras del lenguaje habit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PMingLiU"/>
              </a:rPr>
              <a:t>Contratación Paso a Pa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1. Contrato de servicio de DNS. On line - pago electrónico o físico - Adhesión (Reglament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2. Consulta en línea a registros disponi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Proceso 100% automatizado. Inscripciones sólo vía electrónica en http://www.nic.cl. No hay subdomini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PMingLiU"/>
              </a:rPr>
              <a:t>¿Quienes pueden inscribi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Personas naturales o jurídicas con RUT en Ch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Extranjeros represent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PMingLiU"/>
              </a:rPr>
              <a:t>Trami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Se recibe un número de pro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Plazo de 30 días para el pago de la tarif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Publicidad de las solicitudes en trámite por 30 días (para solicitudes competitiva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Activación del nombre con la información del pag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PMingLiU"/>
              </a:rPr>
              <a:t>Obligaciones que emana de la solicit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Obligatoriedad de la reglamentación y del sistema de solución de controversi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Pago dentro de 30 dí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La solicitud no debe lesionar normas vigentes ni derechos de terce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00000"/>
                </a:solidFill>
                <a:latin typeface="PMingLiU"/>
              </a:rPr>
              <a:t>Eliminación de dominios inscr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716360" y="3715920"/>
            <a:ext cx="381024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Por orden de autoridad competente (ej.: Juez, Árbitro, Mediador, Corte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Por voluntad del asignatar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2276640"/>
            <a:ext cx="396252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El desuso no produce caduc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Renovación: cada 2 añ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PMingLiU"/>
              </a:rPr>
              <a:t>Sistema de Solución de Controversias (Mediació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Después de notificación de la controvers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Etapa de Medi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Gratu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No obligato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PMingLiU"/>
              </a:rPr>
              <a:t>Sistema de Solución de Controversias (Arbitraj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Mediación sin result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Etapa de Arbitra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Notificación de inicio de eta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Envío de nómina para “tachas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Designación del árbitro por sort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Envío del expediente (aceptación, citación y honorario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00000"/>
                </a:solidFill>
                <a:latin typeface="PMingLiU"/>
              </a:rPr>
              <a:t>Tipos de Confli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09320" y="19810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Solicitudes competitivas (2° solicitante). </a:t>
            </a:r>
            <a:br>
              <a:rPr sz="2200"/>
            </a:b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Requiere demostrar un mejor derecho o interés preexistente</a:t>
            </a:r>
            <a:br>
              <a:rPr sz="2200"/>
            </a:b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PRIMER SOLICITANTE vs SEGUNDO SOLICITANTE vs TERCER SOLIC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Solicitud de Revocación</a:t>
            </a:r>
            <a:br>
              <a:rPr sz="2200"/>
            </a:b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Requiere demostrar MALA FE en el asignatario.</a:t>
            </a:r>
            <a:br>
              <a:rPr sz="2200"/>
            </a:br>
            <a:r>
              <a:rPr b="0" lang="es-ES" sz="2200" spc="-1" strike="noStrike">
                <a:solidFill>
                  <a:srgbClr val="800000"/>
                </a:solidFill>
                <a:latin typeface="Arial Unicode MS"/>
              </a:rPr>
              <a:t>REVOCANTE - REVOC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828800" y="13716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0000"/>
                </a:solidFill>
                <a:latin typeface="Arial Unicode MS"/>
              </a:rPr>
              <a:t>Sistema de loc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Domain Name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8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8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Sistema nemotécnico de localizadores de Internet, dotado de una estructura lógica y jerárquica, que junto con el protocolo de comunicación, sirve como dirección electrónica, que permite identificar a los equipos conectados a ola red, facilitando la interconectividad de la R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8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8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Sus creadores: Mills, Postel, Reyno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-102240" y="3152160"/>
            <a:ext cx="14601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 Unicode MS"/>
              </a:rPr>
              <a:t>D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PMingLiU"/>
              </a:rPr>
              <a:t>Principios involucrados en las controvers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971800" y="1904760"/>
            <a:ext cx="548640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First Come, first serv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Buena fe o justo motiv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Mala f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Propiedad de marcas comerci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Uso de la expresión en conflic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Proyectos o inversiones asoci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Relación del solicitante con el domin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Expresiones “genéricas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PMingLiU"/>
              </a:rPr>
              <a:t>Término de la Controvers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Acuer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Desistimien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Transacción (Ej.: no usar para..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 Unicode MS"/>
              </a:rPr>
              <a:t>Fall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94920" y="12193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0000"/>
                </a:solidFill>
                <a:latin typeface="Arial Unicode MS"/>
              </a:rPr>
              <a:t>Desde el punto de vista del usu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800000"/>
                </a:solidFill>
                <a:latin typeface="Arial Unicode MS"/>
              </a:rPr>
              <a:t>Localizadores de los sitios web publicados en Internet, que le permiten acceder a ellos sin necesidad de conocer el número IP de la máquina que los vincula a la R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378000" indent="-18756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00"/>
                </a:solidFill>
                <a:latin typeface="Arial Unicode MS"/>
              </a:rPr>
              <a:t> </a:t>
            </a:r>
            <a:r>
              <a:rPr b="0" lang="es-ES_tradnl" sz="2000" spc="-1" strike="noStrike">
                <a:solidFill>
                  <a:srgbClr val="800000"/>
                </a:solidFill>
                <a:latin typeface="Arial Unicode MS"/>
              </a:rPr>
              <a:t>Motor fundamental para el desarrollo y crecimiento de la 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78000" indent="-18756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00"/>
                </a:solidFill>
                <a:latin typeface="Arial Unicode MS"/>
              </a:rPr>
              <a:t> </a:t>
            </a:r>
            <a:r>
              <a:rPr b="0" lang="es-ES_tradnl" sz="2000" spc="-1" strike="noStrike">
                <a:solidFill>
                  <a:srgbClr val="800000"/>
                </a:solidFill>
                <a:latin typeface="Arial Unicode MS"/>
              </a:rPr>
              <a:t>Hoy en día son el sustento principal, la columna vertebral de la 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PMingLiU"/>
              </a:rPr>
              <a:t>Técnicam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640" y="1676520"/>
            <a:ext cx="741024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 Unicode MS"/>
              </a:rPr>
              <a:t>Base de datos relacional, que vincula el identificador mnemotécnico con el número IP subyacente al mism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 Unicode MS"/>
              </a:rPr>
              <a:t>Base de datos distribu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9044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 Unicode MS"/>
              </a:rPr>
              <a:t>Servidores de Nombres de dominio interrelacio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52480" y="3276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9907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00"/>
                </a:solidFill>
                <a:latin typeface="Arial Unicode MS"/>
              </a:rPr>
              <a:t> </a:t>
            </a:r>
            <a:r>
              <a:rPr b="0" lang="es-ES_tradnl" sz="2400" spc="-1" strike="noStrike">
                <a:solidFill>
                  <a:srgbClr val="800000"/>
                </a:solidFill>
                <a:latin typeface="Arial Unicode MS"/>
              </a:rPr>
              <a:t>A quiere entrar a uchile.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1447920"/>
            <a:ext cx="5791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00"/>
                </a:solidFill>
                <a:latin typeface="Arial Unicode MS"/>
              </a:rPr>
              <a:t>Se conecta a la Red a través de un 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00"/>
                </a:solidFill>
                <a:latin typeface="Arial Unicode MS"/>
              </a:rPr>
              <a:t>Escribe: http://www.uchile.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276720" y="3429000"/>
            <a:ext cx="1828800" cy="1295280"/>
            <a:chOff x="3276720" y="3429000"/>
            <a:chExt cx="1828800" cy="1295280"/>
          </a:xfrm>
        </p:grpSpPr>
        <p:sp>
          <p:nvSpPr>
            <p:cNvPr id="54" name=""/>
            <p:cNvSpPr/>
            <p:nvPr/>
          </p:nvSpPr>
          <p:spPr>
            <a:xfrm>
              <a:off x="3276720" y="3429000"/>
              <a:ext cx="1828800" cy="1295280"/>
            </a:xfrm>
            <a:prstGeom prst="can">
              <a:avLst>
                <a:gd name="adj" fmla="val 25000"/>
              </a:avLst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29360" y="3809880"/>
              <a:ext cx="1523880" cy="60948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cc99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cc99"/>
                  </a:solidFill>
                  <a:latin typeface="Arial Unicode MS"/>
                </a:rPr>
                <a:t>Nic Chi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 flipV="1">
            <a:off x="5181480" y="3809880"/>
            <a:ext cx="914400" cy="4572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48006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00"/>
                </a:solidFill>
                <a:latin typeface="Arial Unicode MS"/>
              </a:rPr>
              <a:t>Uchile.cl = 146.83.57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2209680"/>
            <a:ext cx="0" cy="11430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10080" y="2133720"/>
            <a:ext cx="990720" cy="533160"/>
          </a:xfrm>
          <a:prstGeom prst="line">
            <a:avLst/>
          </a:prstGeom>
          <a:ln w="38160">
            <a:solidFill>
              <a:srgbClr val="99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43600" y="2743200"/>
            <a:ext cx="1295280" cy="990720"/>
          </a:xfrm>
          <a:prstGeom prst="can">
            <a:avLst>
              <a:gd name="adj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676160" y="160020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0000"/>
                </a:solidFill>
                <a:latin typeface="Arial Unicode MS"/>
              </a:rPr>
              <a:t>Importa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-282600">
              <a:lnSpc>
                <a:spcPct val="100000"/>
              </a:lnSpc>
              <a:buClr>
                <a:srgbClr val="8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00"/>
                </a:solidFill>
                <a:latin typeface="Arial Unicode MS"/>
              </a:rPr>
              <a:t>El nombre de dominio es la puerta que conecta al mundo real con el vir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673200" indent="-20016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00"/>
                </a:solidFill>
                <a:latin typeface="Arial Unicode MS"/>
              </a:rPr>
              <a:t> </a:t>
            </a:r>
            <a:r>
              <a:rPr b="1" lang="es-ES_tradnl" sz="2400" spc="-1" strike="noStrike">
                <a:solidFill>
                  <a:srgbClr val="800000"/>
                </a:solidFill>
                <a:latin typeface="Arial Unicode MS"/>
              </a:rPr>
              <a:t>Compac Computer Co. 3,35 m. De $US por Altavist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732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732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956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PMingLiU"/>
              </a:rPr>
              <a:t>La administración de los D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0000"/>
                </a:solidFill>
                <a:latin typeface="Arial Unicode MS"/>
              </a:rPr>
              <a:t>ICANN: Internet Corporation para la Asignación de los Nombres y Núm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-282600">
              <a:lnSpc>
                <a:spcPct val="100000"/>
              </a:lnSpc>
              <a:buClr>
                <a:srgbClr val="8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00"/>
                </a:solidFill>
                <a:latin typeface="Arial Unicode MS"/>
              </a:rPr>
              <a:t>Corporación sin fines de luc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-282600">
              <a:lnSpc>
                <a:spcPct val="100000"/>
              </a:lnSpc>
              <a:buClr>
                <a:srgbClr val="8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00"/>
                </a:solidFill>
                <a:latin typeface="Arial Unicode MS"/>
              </a:rPr>
              <a:t>Creada en octubre de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-282600">
              <a:lnSpc>
                <a:spcPct val="100000"/>
              </a:lnSpc>
              <a:buClr>
                <a:srgbClr val="8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00"/>
                </a:solidFill>
                <a:latin typeface="Arial Unicode MS"/>
              </a:rPr>
              <a:t>Sucesor de I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PMingLiU"/>
              </a:rPr>
              <a:t>Misión de ICAN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0920" y="1218960"/>
            <a:ext cx="8304120" cy="46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00"/>
                </a:solidFill>
                <a:latin typeface="Arial Unicode MS"/>
              </a:rPr>
              <a:t>La misión de ICANN es coordinar la operación estable de los sistemas únicos del identificador del Internet. En detalle, ICAN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39360" indent="-19008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00"/>
                </a:solidFill>
                <a:latin typeface="Arial Unicode MS"/>
              </a:rPr>
              <a:t>1. Coordina la asignación y la asignación de tres sistemas de los identificadores únicos para el Intern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39360" indent="-19008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00"/>
                </a:solidFill>
                <a:latin typeface="Arial Unicode MS"/>
              </a:rPr>
              <a:t>Nombres del dominio (que forman un sistema designado el "DNS"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39360" indent="-19008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00"/>
                </a:solidFill>
                <a:latin typeface="Arial Unicode MS"/>
              </a:rPr>
              <a:t>Direcciones del Internet Protocol (IP) y números del Autonomous System (COMO);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39360" indent="-19008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00"/>
                </a:solidFill>
                <a:latin typeface="Arial Unicode MS"/>
              </a:rPr>
              <a:t>Puerto del protocolo y números del paráme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39360" indent="-190080">
              <a:lnSpc>
                <a:spcPct val="100000"/>
              </a:lnSpc>
              <a:buClr>
                <a:srgbClr val="8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00"/>
                </a:solidFill>
                <a:latin typeface="Arial Unicode MS"/>
              </a:rPr>
              <a:t>2. Coordina la operación y evolución del sistema del servidor de nombres de la raíz del D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4T18:48:46Z</dcterms:created>
  <dc:creator>Facultad de Derecho</dc:creator>
  <dc:description/>
  <dc:language>en-US</dc:language>
  <cp:lastModifiedBy>Lorena Donoso A.</cp:lastModifiedBy>
  <dcterms:modified xsi:type="dcterms:W3CDTF">2005-04-06T14:38:48Z</dcterms:modified>
  <cp:revision>7</cp:revision>
  <dc:subject/>
  <dc:title>Nombres de Dominio en Internet</dc:title>
</cp:coreProperties>
</file>