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0FD-B548-435B-B273-A4AB5309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0BD-1883-4F81-8F3B-F0616ED9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D91-6D27-4AD5-848B-CA6D7FE9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9B3-2A2B-49E6-BFFD-F92A0113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4C2-85A3-4CA9-8FEE-295D46F0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9B1-5493-44C3-B97E-85BC05E5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102-3F5E-49C0-AFFA-3C3803A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0F6-F441-4769-84FF-1584D84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42B-2412-42AE-8CC0-E8BB75E3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E1E-9664-4B1E-8AD5-2FF2301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228-4E2E-4953-9874-3DFE99C3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BC2-29A7-43C6-9A8B-1E8DE780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4E2D-3B5D-49F9-9EE3-8B799637C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19810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PMingLiU"/>
              </a:rPr>
              <a:t>Nombres de Dominio en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0384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C.E.D.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200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Principios Base de IC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793908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a ]. Preservar y realzar la estabilidad operacional, la confiabilidad, la seguridad, y la interoperabilidad global del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b ]. Respetar la creatividad e innovación hecha posible por Internet limitando las actividades de ICANN a las materias que dentro de su misión requiere o beneficia perceptiblemente la coordinación glob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c ]. En grado factible, la integración del delegado reflejará los intereses de los afect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d ]. Promover la participación internacional en todos los niveles de la toma de decisión y policy-mak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3880" y="12193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e ]. Buscar la participación amplia, informada que refleje la diversidad funcional y geográfica del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f ]. Introduzca y promueva la competencia en el registro de los nombres del dominio cuando sea practicable y beneficio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g ]. Cuando sea factible, utilizar mecanismos de mercado para promover y para sostener un ambiente competi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h ]. Emplear los mecanismos policy-making abiertos y transparentes que promuevan decisiones bien informadas, técnicamente s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3915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i ]. Tomar las decisiones de la asignación aplicando políticas documentadas neutral y obje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j ]. Actuar con una velocidad que responda a las necesidades del Internet pero la participación informada de los más afectados como parte del procedimiento de toma de decis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k ]. Siguen siendo responsables ante la comunidad del Internet aunque los mecanismos que realzan eficacia de ICANN'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l ]. Mientras que es restante arraigado en el sector privado, acto con sensibilidad a las preocupaciones gubernamentales por el interés público para reducir al mínimo la necesidad de la acción gubernamental direc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Por qué suelen confundirse con mar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rt. 19 Ley 19.039 “Bajo la denominación de marca comercial se comprende todo signo visible, novedoso y característico que sirva para distinguir productos, servicios o establecimientos industriales o comerciale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Los nombres de dominio tiene una característica propia de las marcas: SON IDENTIFICADOR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Y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Nic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ependiente de la Universidad de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Actualmente actúa por delegación de ICAN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http://www.nic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NIC Chile:</a:t>
            </a:r>
            <a:br>
              <a:rPr sz="4400"/>
            </a:b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Somos el punto 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6560" y="1981080"/>
            <a:ext cx="3432240" cy="3810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Inicio 1987 (I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gistro sin formalidades y sin cob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1997: 1000 domin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1997: Regla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ionero mundial en la introducción de arbitraj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2000: Confirmación por ICAN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2001: 77.000 domin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Relaciones del Usuario con Nic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El nombre de dominio propiamente 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Los derechos que nacen del contrato de registro de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06720"/>
            <a:ext cx="351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ebemos distinguir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Contrato de Registro de Nombres de Domi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3300"/>
                </a:solidFill>
                <a:latin typeface="Arial Unicode MS"/>
              </a:rPr>
              <a:t>Relación jurídica de Derecho Privado en virtud de la cual NIC Chile, en virtud de delegación de IANA (1987), confirmada por ICANN (2000), administra el sistema de registro y asigna los nombres de dominio .CL a las personas naturales o jurídicas que lo solici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aracterísticas del Contr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Cons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dh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Oneroso y Conmut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Tracto suces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Inno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Sujeto a modalidad (plazo determinado - condición resolutoria expresa y suspensiva, negativa, casu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IMPORTANTE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2114640"/>
            <a:ext cx="3809880" cy="3848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urgen derechos pers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No hay propiedad sobre el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ominio” induce a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bre derechos personales hay una especie de propiedad (usar - gozar - dispo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75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oncepto de nombres de domi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Localizadores d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úmeros IP: 146.83.5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Sistema Originario de denomin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Crecimiento de la Red hizo muy complejo el 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ombres de dominio: 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Identificador alfanumérico que designa el núcleo o elemento principal de una dirección electró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enominación unívoca a nivel mundial, que identifica a una dirección 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Elementos del Contr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estación de servicio de regis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estación del servicio de mantención del sistema en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ago de la tarif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esignación del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Qué se inscri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alabras o signos deliberadamente creados con ese fin (Ej: www.3m.com y www.mmm.c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Marcas comerciales regist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Nombres de personas o institu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alabras del lenguaje hab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ontratación Paso a Pa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1. Contrato de servicio de DNS. On line - pago electrónico o físico - Adhesión (Reglamen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2. Consulta en línea a registros dispon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ceso 100% automatizado. Inscripciones sólo vía electrónica en http://www.nic.cl. No hay subdomi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Quienes pueden inscrib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ersonas naturales o jurídicas con RUT en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xtranjeros represen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ram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Se recibe un número de pro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lazo de 30 días para el pago de la tarif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ublicidad de las solicitudes en trámite por 30 días (para solicitudes competitiv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ctivación del nombre con la información del pa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Obligaciones que emana de la solicit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Obligatoriedad de la reglamentación y del sistema de solución de controvers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ago dentro de 30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La solicitud no debe lesionar normas vigentes ni derechos de terc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Eliminación de dominios inscr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16360" y="3715920"/>
            <a:ext cx="38102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or orden de autoridad competente (ej.: Juez, Árbitro, Mediador, Cort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or voluntad del asignat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276640"/>
            <a:ext cx="39625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l desuso no produce caduc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Renovación: cada 2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Sistema de Solución de Controversias (Medi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pués de notificación de la controver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tapa de Med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Gratu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No obliga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Sistema de Solución de Controversias (Arbitraj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Mediación sin 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tapa de Arbitr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Notificación de inicio de et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nvío de nómina para “tacha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ignación del árbitro por sort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nvío del expediente (aceptación, citación y honor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Tipos de Confli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licitudes competitivas (2° solicitante). 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quiere demostrar un mejor derecho o interés preexistente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IMER SOLICITANTE vs SEGUNDO SOLICITANTE vs TERCER SOLIC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licitud de Revocación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quiere demostrar MALA FE en el asignatario.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VOCANTE - REVO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28800" y="13716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Sistema de l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omain Nam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Sistema nemotécnico de localizadores de Internet, dotado de una estructura lógica y jerárquica, que junto con el protocolo de comunicación, sirve como dirección electrónica, que permite identificar a los equipos conectados a ola red, facilitando la interconectividad de la 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Sus creadores: Mills, Postel, Reyn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-102240" y="3152160"/>
            <a:ext cx="1460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Unicode MS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Principios involucrados en las controvers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71800" y="190476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First Come, first ser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Buena fe o justo mo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Mala 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piedad de marcas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Uso de la expresión en confli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yectos o inversiones asoci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Relación del solicitante con el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Expresiones “genérica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érmino de la Controver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cuer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isti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Transacción (Ej.: no usar para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Fa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9492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Desde el punto de vista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Localizadores de los sitios web publicados en Internet, que le permiten acceder a ellos sin necesidad de conocer el número IP de la máquina que los vincula a la 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78000" indent="-1875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Motor fundamental para el desarrollo y crecimiento de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78000" indent="-1875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Hoy en día son el sustento principal, la columna vertebral de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écn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76520"/>
            <a:ext cx="74102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Unicode MS"/>
              </a:rPr>
              <a:t>Base de datos relacional, que vincula el identificador mnemotécnico con el número IP subyacente al m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Unicode MS"/>
              </a:rPr>
              <a:t>Base de datos distrib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4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Servidores de Nombres de dominio inter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52480" y="3276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9907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A quiere entrar a 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44792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Se conecta a la Red a través de un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Escribe: http://www.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76720" y="3429000"/>
            <a:ext cx="1828800" cy="1295280"/>
            <a:chOff x="3276720" y="3429000"/>
            <a:chExt cx="1828800" cy="1295280"/>
          </a:xfrm>
        </p:grpSpPr>
        <p:sp>
          <p:nvSpPr>
            <p:cNvPr id="54" name=""/>
            <p:cNvSpPr/>
            <p:nvPr/>
          </p:nvSpPr>
          <p:spPr>
            <a:xfrm>
              <a:off x="3276720" y="3429000"/>
              <a:ext cx="1828800" cy="1295280"/>
            </a:xfrm>
            <a:prstGeom prst="can">
              <a:avLst>
                <a:gd name="adj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360" y="3809880"/>
              <a:ext cx="1523880" cy="60948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cc99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99"/>
                  </a:solidFill>
                  <a:latin typeface="Arial Unicode MS"/>
                </a:rPr>
                <a:t>Nic 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 flipV="1">
            <a:off x="5181480" y="3809880"/>
            <a:ext cx="91440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8006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Uchile.cl = 146.83.5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209680"/>
            <a:ext cx="0" cy="1143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133720"/>
            <a:ext cx="990720" cy="53316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2743200"/>
            <a:ext cx="1295280" cy="99072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676160" y="16002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Impor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El nombre de dominio es la puerta que conecta al mundo real con el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2001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Compac Computer Co. 3,35 m. De $US por Altavist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5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La administración de los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ICANN: Internet Corporation para la Asignación de los Nombres y Núm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Corporación sin fines de lu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Creada en octubre de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Sucesor de 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Misión de IC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830412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La misión de ICANN es coordinar la operación estable de los sistemas únicos del identificador del Internet. En detalle, ICA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1. Coordina la asignación y la asignación de tres sistemas de los identificadores únicos para el Intern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ombres del dominio (que forman un sistema designado el "DNS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Direcciones del Internet Protocol (IP) y números del Autonomous System (COMO);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Puerto del protocolo y números del par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2. Coordina la operación y evolución del sistema del servidor de nombres de la raíz del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8:48:46Z</dcterms:created>
  <dc:creator>Facultad de Derecho</dc:creator>
  <dc:description/>
  <dc:language>en-US</dc:language>
  <cp:lastModifiedBy>Lorena Donoso A.</cp:lastModifiedBy>
  <dcterms:modified xsi:type="dcterms:W3CDTF">2005-04-06T14:38:48Z</dcterms:modified>
  <cp:revision>7</cp:revision>
  <dc:subject/>
  <dc:title>Nombres de Dominio en Internet</dc:title>
</cp:coreProperties>
</file>