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559-F867-4FB6-B128-569DA2C0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85F5-DA74-4F56-9257-3BAEE343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7D17-0EF7-4DCB-9F6A-401C54DC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A3F-E3FF-4410-8316-B1A444CC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ED93-66D8-4CD1-968C-E7E06779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A80-704F-4634-9E11-31BEE89F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9C3-EDD7-4D0D-AF4B-8304731F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55D-4794-4243-A054-752736E2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F7E-83DD-4338-8047-10030E26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A988-0A0E-430B-8760-775842B4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A52B-B86D-4B63-8A61-973E694C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794-713F-45C7-BC14-81E09F79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970F-91F7-4662-A229-16CF1C328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240" y="19810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PMingLiU"/>
              </a:rPr>
              <a:t>Nombres de Dominio en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62520" y="4038480"/>
            <a:ext cx="3504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C.E.D.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200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Principios Base de IC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793908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a ]. Preservar y realzar la estabilidad operacional, la confiabilidad, la seguridad, y la interoperabilidad global del Intern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b ]. Respetar la creatividad e innovación hecha posible por Internet limitando las actividades de ICANN a las materias que dentro de su misión requiere o beneficia perceptiblemente la coordinación glob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c ]. En grado factible, la integración del delegado reflejará los intereses de los afect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d ]. Promover la participación internacional en todos los niveles de la toma de decisión y policy-mak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523880" y="1219320"/>
            <a:ext cx="731520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e ]. Buscar la participación amplia, informada que refleje la diversidad funcional y geográfica del Intern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f ]. Introduzca y promueva la competencia en el registro de los nombres del dominio cuando sea practicable y beneficio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g ]. Cuando sea factible, utilizar mecanismos de mercado para promover y para sostener un ambiente competitiv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h ]. Emplear los mecanismos policy-making abiertos y transparentes que promuevan decisiones bien informadas, técnicamente san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371600" y="837720"/>
            <a:ext cx="739152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lvl="1" marL="271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i ]. Tomar las decisiones de la asignación aplicando políticas documentadas neutral y objetiv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j ]. Actuar con una velocidad que responda a las necesidades del Internet pero la participación informada de los más afectados como parte del procedimiento de toma de decis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k ]. Siguen siendo responsables ante la comunidad del Internet aunque los mecanismos que realzan eficacia de ICANN'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l ]. Mientras que es restante arraigado en el sector privado, acto con sensibilidad a las preocupaciones gubernamentales por el interés público para reducir al mínimo la necesidad de la acción gubernamental direc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¿Por qué suelen confundirse con marc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Art. 19 Ley 19.039 “Bajo la denominación de marca comercial se comprende todo signo visible, novedoso y característico que sirva para distinguir productos, servicios o establecimientos industriales o comerciale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Los nombres de dominio tiene una característica propia de las marcas: SON IDENTIFICADORE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Y en C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Nic Ch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dependiente de la Universidad de Ch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Actualmente actúa por delegación de ICAN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http://www.nic.c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00"/>
                </a:solidFill>
                <a:latin typeface="PMingLiU"/>
              </a:rPr>
              <a:t>NIC Chile:</a:t>
            </a:r>
            <a:br>
              <a:rPr sz="4400"/>
            </a:br>
            <a:r>
              <a:rPr b="1" lang="es-ES" sz="4400" spc="-1" strike="noStrike">
                <a:solidFill>
                  <a:srgbClr val="800000"/>
                </a:solidFill>
                <a:latin typeface="PMingLiU"/>
              </a:rPr>
              <a:t>Somos el punto 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36560" y="1981080"/>
            <a:ext cx="3432240" cy="3810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Inicio 1987 (IAN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Registro sin formalidades y sin cob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1997: 1000 domin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1997: Reglamen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Pionero mundial en la introducción de arbitraj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2000: Confirmación por ICAN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2001: 77.000 domin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00"/>
                </a:solidFill>
                <a:latin typeface="PMingLiU"/>
              </a:rPr>
              <a:t>Relaciones del Usuario con Nic C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68580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El nombre de dominio propiamente 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Los derechos que nacen del contrato de registro de nombre de domin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106720"/>
            <a:ext cx="351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Debemos distinguir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00"/>
                </a:solidFill>
                <a:latin typeface="PMingLiU"/>
              </a:rPr>
              <a:t>Contrato de Registro de Nombres de Domi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993300"/>
                </a:solidFill>
                <a:latin typeface="Arial Unicode MS"/>
              </a:rPr>
              <a:t>Relación jurídica de Derecho Privado en virtud de la cual NIC Chile, en virtud de delegación de IANA (1987), confirmada por ICANN (2000), administra el sistema de registro y asigna los nombres de dominio .CL a las personas naturales o jurídicas que lo solicit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Características del Contra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Bilate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Consens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Adhe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Oneroso y Conmuta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Tracto suces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Princip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Innomin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Sujeto a modalidad (plazo determinado - condición resolutoria expresa y suspensiva, negativa, casua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00"/>
                </a:solidFill>
                <a:latin typeface="PMingLiU"/>
              </a:rPr>
              <a:t>IMPORTANTE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2114640"/>
            <a:ext cx="3809880" cy="3848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Surgen derechos person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No hay propiedad sobre el nombre de domin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“</a:t>
            </a: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Dominio” induce a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Sobre derechos personales hay una especie de propiedad (usar - gozar - dispon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375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Concepto de nombres de domi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440" y="12949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Unicode MS"/>
              </a:rPr>
              <a:t>Localizadores d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7892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Números IP: 146.83.5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0000"/>
                </a:solidFill>
                <a:latin typeface="Arial Unicode MS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 Unicode MS"/>
              </a:rPr>
              <a:t>Sistema Originario de denomin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Arial Unicode MS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 Unicode MS"/>
              </a:rPr>
              <a:t>Crecimiento de la Red hizo muy complejo el </a:t>
            </a:r>
            <a:r>
              <a:rPr b="0" lang="es-ES_tradnl" sz="1800" spc="-1" strike="noStrike">
                <a:solidFill>
                  <a:srgbClr val="800000"/>
                </a:solidFill>
                <a:latin typeface="Arial Unicode MS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 Unicode MS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789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7892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Nombres de dominio: uchile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7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Identificador alfanumérico que designa el núcleo o elemento principal de una dirección electrón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Denominación unívoca a nivel mundial, que identifica a una dirección 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00"/>
                </a:solidFill>
                <a:latin typeface="PMingLiU"/>
              </a:rPr>
              <a:t>Elementos del Contra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Prestación de servicio de regist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Prestación del servicio de mantención del sistema en serv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Pago de la tarif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Designación del nombre de domin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¿Qué se inscrib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Palabras o signos deliberadamente creados con ese fin (Ej: www.3m.com y www.mmm.co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Marcas comerciales regist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Nombres de personas o institu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Palabras del lenguaje habi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Contratación Paso a Pa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1. Contrato de servicio de DNS. On line - pago electrónico o físico - Adhesión (Reglament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2. Consulta en línea a registros disponi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Proceso 100% automatizado. Inscripciones sólo vía electrónica en http://www.nic.cl. No hay subdomini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¿Quienes pueden inscribi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Personas naturales o jurídicas con RUT en Ch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Extranjeros represen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Trami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Se recibe un número de pro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Plazo de 30 días para el pago de la tarif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Publicidad de las solicitudes en trámite por 30 días (para solicitudes competitiv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Activación del nombre con la información del pa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Obligaciones que emana de la solicit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Obligatoriedad de la reglamentación y del sistema de solución de controvers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Pago dentro de 30 dí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La solicitud no debe lesionar normas vigentes ni derechos de terce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00"/>
                </a:solidFill>
                <a:latin typeface="PMingLiU"/>
              </a:rPr>
              <a:t>Eliminación de dominios inscr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16360" y="3715920"/>
            <a:ext cx="38102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Por orden de autoridad competente (ej.: Juez, Árbitro, Mediador, Cort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Por voluntad del asignata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2276640"/>
            <a:ext cx="396252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El desuso no produce caduc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Renovación: cada 2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Sistema de Solución de Controversias (Mediació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Después de notificación de la controvers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Etapa de Medi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Gratu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No obliga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Sistema de Solución de Controversias (Arbitraj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Mediación sin resul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Etapa de Arbitr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Notificación de inicio de eta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Envío de nómina para “tacha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Designación del árbitro por sort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Envío del expediente (aceptación, citación y honorari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00"/>
                </a:solidFill>
                <a:latin typeface="PMingLiU"/>
              </a:rPr>
              <a:t>Tipos de Confli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Solicitudes competitivas (2° solicitante). </a:t>
            </a:r>
            <a:br>
              <a:rPr sz="2200"/>
            </a:b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Requiere demostrar un mejor derecho o interés preexistente</a:t>
            </a:r>
            <a:br>
              <a:rPr sz="2200"/>
            </a:b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PRIMER SOLICITANTE vs SEGUNDO SOLICITANTE vs TERCER SOLIC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Solicitud de Revocación</a:t>
            </a:r>
            <a:br>
              <a:rPr sz="2200"/>
            </a:b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Requiere demostrar MALA FE en el asignatario.</a:t>
            </a:r>
            <a:br>
              <a:rPr sz="2200"/>
            </a:b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REVOCANTE - REVO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828800" y="13716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Unicode MS"/>
              </a:rPr>
              <a:t>Sistema de loc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Domain Name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Sistema nemotécnico de localizadores de Internet, dotado de una estructura lógica y jerárquica, que junto con el protocolo de comunicación, sirve como dirección electrónica, que permite identificar a los equipos conectados a ola red, facilitando la interconectividad de la R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Sus creadores: Mills, Postel, Reyno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-102240" y="3152160"/>
            <a:ext cx="14601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Unicode MS"/>
              </a:rPr>
              <a:t>D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Principios involucrados en las controvers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971800" y="1904760"/>
            <a:ext cx="54864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First Come, first serv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Buena fe o justo mo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Mala 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Propiedad de marcas comerc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Uso de la expresión en confli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Proyectos o inversiones asoci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Relación del solicitante con el domin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Expresiones “genérica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Término de la Controvers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Acuer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Desistimi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Transacción (Ej.: no usar para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Fal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94920" y="12193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Unicode MS"/>
              </a:rPr>
              <a:t>Desde el punto de vista d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Localizadores de los sitios web publicados en Internet, que le permiten acceder a ellos sin necesidad de conocer el número IP de la máquina que los vincula a la R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378000" indent="-18756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800000"/>
                </a:solidFill>
                <a:latin typeface="Arial Unicode MS"/>
              </a:rPr>
              <a:t>Motor fundamental para el desarrollo y crecimiento de la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78000" indent="-18756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800000"/>
                </a:solidFill>
                <a:latin typeface="Arial Unicode MS"/>
              </a:rPr>
              <a:t>Hoy en día son el sustento principal, la columna vertebral de la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Técnic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640" y="1676520"/>
            <a:ext cx="74102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 Unicode MS"/>
              </a:rPr>
              <a:t>Base de datos relacional, que vincula el identificador mnemotécnico con el número IP subyacente al mism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 Unicode MS"/>
              </a:rPr>
              <a:t>Base de datos distribu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9044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Unicode MS"/>
              </a:rPr>
              <a:t>Servidores de Nombres de dominio interrelaci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52480" y="3276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9907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 </a:t>
            </a: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A quiere entrar a uchile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1447920"/>
            <a:ext cx="5791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Se conecta a la Red a través de un 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Escribe: http://www.uchile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276720" y="3429000"/>
            <a:ext cx="1828800" cy="1295280"/>
            <a:chOff x="3276720" y="3429000"/>
            <a:chExt cx="1828800" cy="1295280"/>
          </a:xfrm>
        </p:grpSpPr>
        <p:sp>
          <p:nvSpPr>
            <p:cNvPr id="54" name=""/>
            <p:cNvSpPr/>
            <p:nvPr/>
          </p:nvSpPr>
          <p:spPr>
            <a:xfrm>
              <a:off x="3276720" y="3429000"/>
              <a:ext cx="1828800" cy="1295280"/>
            </a:xfrm>
            <a:prstGeom prst="can">
              <a:avLst>
                <a:gd name="adj" fmla="val 25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29360" y="3809880"/>
              <a:ext cx="1523880" cy="60948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cc99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99"/>
                  </a:solidFill>
                  <a:latin typeface="Arial Unicode MS"/>
                </a:rPr>
                <a:t>Nic Ch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 flipV="1">
            <a:off x="5181480" y="3809880"/>
            <a:ext cx="91440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48006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Uchile.cl = 146.83.5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2209680"/>
            <a:ext cx="0" cy="11430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2133720"/>
            <a:ext cx="990720" cy="533160"/>
          </a:xfrm>
          <a:prstGeom prst="line">
            <a:avLst/>
          </a:prstGeom>
          <a:ln w="3816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2743200"/>
            <a:ext cx="1295280" cy="990720"/>
          </a:xfrm>
          <a:prstGeom prst="can">
            <a:avLst>
              <a:gd name="adj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676160" y="160020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Unicode MS"/>
              </a:rPr>
              <a:t>Importa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282600">
              <a:lnSpc>
                <a:spcPct val="100000"/>
              </a:lnSpc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Arial Unicode MS"/>
              </a:rPr>
              <a:t>El nombre de dominio es la puerta que conecta al mundo real con el vir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73200" indent="-20016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 Unicode MS"/>
              </a:rPr>
              <a:t> </a:t>
            </a:r>
            <a:r>
              <a:rPr b="1" lang="es-ES_tradnl" sz="2400" spc="-1" strike="noStrike">
                <a:solidFill>
                  <a:srgbClr val="800000"/>
                </a:solidFill>
                <a:latin typeface="Arial Unicode MS"/>
              </a:rPr>
              <a:t>Compac Computer Co. 3,35 m. De $US por Altavist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73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73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956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La administración de los D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Unicode MS"/>
              </a:rPr>
              <a:t>ICANN: Internet Corporation para la Asignación de los Nombres y Núm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282600">
              <a:lnSpc>
                <a:spcPct val="100000"/>
              </a:lnSpc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Arial Unicode MS"/>
              </a:rPr>
              <a:t>Corporación sin fines de lu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282600">
              <a:lnSpc>
                <a:spcPct val="100000"/>
              </a:lnSpc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Arial Unicode MS"/>
              </a:rPr>
              <a:t>Creada en octubre de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282600">
              <a:lnSpc>
                <a:spcPct val="100000"/>
              </a:lnSpc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Arial Unicode MS"/>
              </a:rPr>
              <a:t>Sucesor de 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Misión de IC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0920" y="1218960"/>
            <a:ext cx="8304120" cy="46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 Unicode MS"/>
              </a:rPr>
              <a:t>La misión de ICANN es coordinar la operación estable de los sistemas únicos del identificador del Internet. En detalle, ICAN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39360" indent="-190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1. Coordina la asignación y la asignación de tres sistemas de los identificadores únicos para el Intern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39360" indent="-190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Nombres del dominio (que forman un sistema designado el "DNS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39360" indent="-190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Direcciones del Internet Protocol (IP) y números del Autonomous System (COMO);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39360" indent="-190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Puerto del protocolo y números del par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39360" indent="-190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2. Coordina la operación y evolución del sistema del servidor de nombres de la raíz del D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4T18:48:46Z</dcterms:created>
  <dc:creator>Facultad de Derecho</dc:creator>
  <dc:description/>
  <dc:language>en-US</dc:language>
  <cp:lastModifiedBy>Lorena Donoso A.</cp:lastModifiedBy>
  <dcterms:modified xsi:type="dcterms:W3CDTF">2005-04-06T14:38:48Z</dcterms:modified>
  <cp:revision>7</cp:revision>
  <dc:subject/>
  <dc:title>Nombres de Dominio en Internet</dc:title>
</cp:coreProperties>
</file>